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226.xml.rels" ContentType="application/vnd.openxmlformats-package.relationships+xml"/>
  <Override PartName="/ppt/notesSlides/_rels/notesSlide220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221.xml.rels" ContentType="application/vnd.openxmlformats-package.relationships+xml"/>
  <Override PartName="/ppt/notesSlides/_rels/notesSlide225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0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1.xml.rels" ContentType="application/vnd.openxmlformats-package.relationships+xml"/>
  <Override PartName="/ppt/notesSlides/notesSlide200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226.xml" ContentType="application/vnd.openxmlformats-officedocument.presentationml.notesSlide+xml"/>
  <Override PartName="/ppt/notesSlides/notesSlide225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20.xml" ContentType="application/vnd.openxmlformats-officedocument.presentationml.notesSlide+xml"/>
  <Override PartName="/ppt/notesSlides/notesSlide20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1.xml" ContentType="application/vnd.openxmlformats-officedocument.presentationml.notesSlide+xml"/>
  <Override PartName="/ppt/notesSlides/notesSlide196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19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47.wmf" ContentType="image/x-wmf"/>
  <Override PartName="/ppt/media/image10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57.png" ContentType="image/png"/>
  <Override PartName="/ppt/media/image27.wmf" ContentType="image/x-wmf"/>
  <Override PartName="/ppt/media/image64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63.wmf" ContentType="image/x-wmf"/>
  <Override PartName="/ppt/media/image62.wmf" ContentType="image/x-wmf"/>
  <Override PartName="/ppt/media/image23.wmf" ContentType="image/x-wmf"/>
  <Override PartName="/ppt/media/image61.wmf" ContentType="image/x-wmf"/>
  <Override PartName="/ppt/media/image21.png" ContentType="image/png"/>
  <Override PartName="/ppt/media/image24.wmf" ContentType="image/x-wmf"/>
  <Override PartName="/ppt/media/image59.wmf" ContentType="image/x-wmf"/>
  <Override PartName="/ppt/media/image65.png" ContentType="image/png"/>
  <Override PartName="/ppt/media/image22.wmf" ContentType="image/x-wmf"/>
  <Override PartName="/ppt/media/image20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19.wmf" ContentType="image/x-wmf"/>
  <Override PartName="/ppt/media/image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40.png" ContentType="image/png"/>
  <Override PartName="/ppt/media/image13.wmf" ContentType="image/x-wmf"/>
  <Override PartName="/ppt/media/image2.png" ContentType="image/png"/>
  <Override PartName="/ppt/media/image14.png" ContentType="image/png"/>
  <Override PartName="/ppt/media/image5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7.png" ContentType="image/png"/>
  <Override PartName="/ppt/media/image60.wmf" ContentType="image/x-wmf"/>
  <Override PartName="/ppt/media/image38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png" ContentType="image/png"/>
  <Override PartName="/ppt/media/image5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56.xml.rels" ContentType="application/vnd.openxmlformats-package.relationships+xml"/>
  <Override PartName="/ppt/slides/_rels/slide64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62.xml.rels" ContentType="application/vnd.openxmlformats-package.relationships+xml"/>
  <Override PartName="/ppt/slides/_rels/slide130.xml.rels" ContentType="application/vnd.openxmlformats-package.relationships+xml"/>
  <Override PartName="/ppt/slides/_rels/slide1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152.xml.rels" ContentType="application/vnd.openxmlformats-package.relationships+xml"/>
  <Override PartName="/ppt/slides/_rels/slide255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0.xml.rels" ContentType="application/vnd.openxmlformats-package.relationships+xml"/>
  <Override PartName="/ppt/slides/_rels/slide127.xml.rels" ContentType="application/vnd.openxmlformats-package.relationships+xml"/>
  <Override PartName="/ppt/slides/_rels/slide60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59.xml.rels" ContentType="application/vnd.openxmlformats-package.relationships+xml"/>
  <Override PartName="/ppt/slides/_rels/slide125.xml.rels" ContentType="application/vnd.openxmlformats-package.relationships+xml"/>
  <Override PartName="/ppt/slides/_rels/slide166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0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124.xml.rels" ContentType="application/vnd.openxmlformats-package.relationships+xml"/>
  <Override PartName="/ppt/slides/_rels/slide86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251.xml.rels" ContentType="application/vnd.openxmlformats-package.relationships+xml"/>
  <Override PartName="/ppt/slides/_rels/slide74.xml.rels" ContentType="application/vnd.openxmlformats-package.relationships+xml"/>
  <Override PartName="/ppt/slides/_rels/slide254.xml.rels" ContentType="application/vnd.openxmlformats-package.relationships+xml"/>
  <Override PartName="/ppt/slides/_rels/slide75.xml.rels" ContentType="application/vnd.openxmlformats-package.relationships+xml"/>
  <Override PartName="/ppt/slides/_rels/slide80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97.xml.rels" ContentType="application/vnd.openxmlformats-package.relationships+xml"/>
  <Override PartName="/ppt/slides/_rels/slide39.xml.rels" ContentType="application/vnd.openxmlformats-package.relationships+xml"/>
  <Override PartName="/ppt/slides/_rels/slide44.xml.rels" ContentType="application/vnd.openxmlformats-package.relationships+xml"/>
  <Override PartName="/ppt/slides/_rels/slide224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188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67.xml.rels" ContentType="application/vnd.openxmlformats-package.relationships+xml"/>
  <Override PartName="/ppt/slides/_rels/slide247.xml.rels" ContentType="application/vnd.openxmlformats-package.relationships+xml"/>
  <Override PartName="/ppt/slides/_rels/slide120.xml.rels" ContentType="application/vnd.openxmlformats-package.relationships+xml"/>
  <Override PartName="/ppt/slides/_rels/slide143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257.xml.rels" ContentType="application/vnd.openxmlformats-package.relationships+xml"/>
  <Override PartName="/ppt/slides/_rels/slide70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2.xml.rels" ContentType="application/vnd.openxmlformats-package.relationships+xml"/>
  <Override PartName="/ppt/slides/_rels/slide142.xml.rels" ContentType="application/vnd.openxmlformats-package.relationships+xml"/>
  <Override PartName="/ppt/slides/_rels/slide46.xml.rels" ContentType="application/vnd.openxmlformats-package.relationships+xml"/>
  <Override PartName="/ppt/slides/_rels/slide85.xml.rels" ContentType="application/vnd.openxmlformats-package.relationships+xml"/>
  <Override PartName="/ppt/slides/_rels/slide90.xml.rels" ContentType="application/vnd.openxmlformats-package.relationships+xml"/>
  <Override PartName="/ppt/slides/_rels/slide118.xml.rels" ContentType="application/vnd.openxmlformats-package.relationships+xml"/>
  <Override PartName="/ppt/slides/_rels/slide123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141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3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3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13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40.xml.rels" ContentType="application/vnd.openxmlformats-package.relationships+xml"/>
  <Override PartName="/ppt/slides/_rels/slide135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.xml.rels" ContentType="application/vnd.openxmlformats-package.relationships+xml"/>
  <Override PartName="/ppt/slides/_rels/slide33.xml.rels" ContentType="application/vnd.openxmlformats-package.relationships+xml"/>
  <Override PartName="/ppt/slides/_rels/slide15.xml.rels" ContentType="application/vnd.openxmlformats-package.relationships+xml"/>
  <Override PartName="/ppt/slides/_rels/slide154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160.xml.rels" ContentType="application/vnd.openxmlformats-package.relationships+xml"/>
  <Override PartName="/ppt/slides/_rels/slide122.xml.rels" ContentType="application/vnd.openxmlformats-package.relationships+xml"/>
  <Override PartName="/ppt/slides/_rels/slide212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31.xml.rels" ContentType="application/vnd.openxmlformats-package.relationships+xml"/>
  <Override PartName="/ppt/slides/_rels/slide121.xml.rels" ContentType="application/vnd.openxmlformats-package.relationships+xml"/>
  <Override PartName="/ppt/slides/_rels/slide28.xml.rels" ContentType="application/vnd.openxmlformats-package.relationships+xml"/>
  <Override PartName="/ppt/slides/_rels/slide187.xml.rels" ContentType="application/vnd.openxmlformats-package.relationships+xml"/>
  <Override PartName="/ppt/slides/_rels/slide208.xml.rels" ContentType="application/vnd.openxmlformats-package.relationships+xml"/>
  <Override PartName="/ppt/slides/_rels/slide27.xml.rels" ContentType="application/vnd.openxmlformats-package.relationships+xml"/>
  <Override PartName="/ppt/slides/_rels/slide186.xml.rels" ContentType="application/vnd.openxmlformats-package.relationships+xml"/>
  <Override PartName="/ppt/slides/_rels/slide207.xml.rels" ContentType="application/vnd.openxmlformats-package.relationships+xml"/>
  <Override PartName="/ppt/slides/_rels/slide199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52.xml.rels" ContentType="application/vnd.openxmlformats-package.relationships+xml"/>
  <Override PartName="/ppt/slides/_rels/slide171.xml.rels" ContentType="application/vnd.openxmlformats-package.relationships+xml"/>
  <Override PartName="/ppt/slides/_rels/slide170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68.xml.rels" ContentType="application/vnd.openxmlformats-package.relationships+xml"/>
  <Override PartName="/ppt/slides/_rels/slide248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56.xml.rels" ContentType="application/vnd.openxmlformats-package.relationships+xml"/>
  <Override PartName="/ppt/slides/_rels/slide236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139.xml.rels" ContentType="application/vnd.openxmlformats-package.relationships+xml"/>
  <Override PartName="/ppt/slides/_rels/slide20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1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161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2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163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159.xml.rels" ContentType="application/vnd.openxmlformats-package.relationships+xml"/>
  <Override PartName="/ppt/slides/_rels/slide185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67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15.xml.rels" ContentType="application/vnd.openxmlformats-package.relationships+xml"/>
  <Override PartName="/ppt/slides/_rels/slide194.xml.rels" ContentType="application/vnd.openxmlformats-package.relationships+xml"/>
  <Override PartName="/ppt/slides/_rels/slide220.xml.rels" ContentType="application/vnd.openxmlformats-package.relationships+xml"/>
  <Override PartName="/ppt/slides/_rels/slide206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196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172.xml.rels" ContentType="application/vnd.openxmlformats-package.relationships+xml"/>
  <Override PartName="/ppt/slides/_rels/slide177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8.xml.rels" ContentType="application/vnd.openxmlformats-package.relationships+xml"/>
  <Override PartName="/ppt/slides/_rels/slide238.xml.rels" ContentType="application/vnd.openxmlformats-package.relationships+xml"/>
  <Override PartName="/ppt/slides/_rels/slide243.xml.rels" ContentType="application/vnd.openxmlformats-package.relationships+xml"/>
  <Override PartName="/ppt/slides/_rels/slide51.xml.rels" ContentType="application/vnd.openxmlformats-package.relationships+xml"/>
  <Override PartName="/ppt/slides/_rels/slide179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218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32.xml.rels" ContentType="application/vnd.openxmlformats-package.relationships+xml"/>
  <Override PartName="/ppt/slides/_rels/slide219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242.xml" ContentType="application/vnd.openxmlformats-officedocument.presentationml.slide+xml"/>
  <Override PartName="/ppt/slides/slide6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241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245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240.xml" ContentType="application/vnd.openxmlformats-officedocument.presentationml.slide+xml"/>
  <Override PartName="/ppt/slides/slide4.xml" ContentType="application/vnd.openxmlformats-officedocument.presentationml.slide+xml"/>
  <Override PartName="/ppt/slides/slide244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243.xml" ContentType="application/vnd.openxmlformats-officedocument.presentationml.slide+xml"/>
  <Override PartName="/ppt/slides/slide7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70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17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90.xml" ContentType="application/vnd.openxmlformats-officedocument.presentationml.slide+xml"/>
  <Override PartName="/ppt/slides/slide122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1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7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18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101.xml" ContentType="application/vnd.openxmlformats-officedocument.presentationml.slide+xml"/>
  <Override PartName="/ppt/slides/slide100.xml" ContentType="application/vnd.openxmlformats-officedocument.presentationml.slide+xml"/>
  <Override PartName="/ppt/slides/slide66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201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166.xml" ContentType="application/vnd.openxmlformats-officedocument.presentationml.slide+xml"/>
  <Override PartName="/ppt/slides/slide204.xml" ContentType="application/vnd.openxmlformats-officedocument.presentationml.slide+xml"/>
  <Override PartName="/ppt/slides/slide167.xml" ContentType="application/vnd.openxmlformats-officedocument.presentationml.slide+xml"/>
  <Override PartName="/ppt/slides/slide205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206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43.xml" ContentType="application/vnd.openxmlformats-officedocument.presentationml.slide+xml"/>
  <Override PartName="/ppt/slides/slide209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176.xml" ContentType="application/vnd.openxmlformats-officedocument.presentationml.slide+xml"/>
  <Override PartName="/ppt/slides/slide214.xml" ContentType="application/vnd.openxmlformats-officedocument.presentationml.slide+xml"/>
  <Override PartName="/ppt/slides/slide177.xml" ContentType="application/vnd.openxmlformats-officedocument.presentationml.slide+xml"/>
  <Override PartName="/ppt/slides/slide215.xml" ContentType="application/vnd.openxmlformats-officedocument.presentationml.slide+xml"/>
  <Override PartName="/ppt/slides/slide50.xml" ContentType="application/vnd.openxmlformats-officedocument.presentationml.slide+xml"/>
  <Override PartName="/ppt/slides/slide178.xml" ContentType="application/vnd.openxmlformats-officedocument.presentationml.slide+xml"/>
  <Override PartName="/ppt/slides/slide216.xml" ContentType="application/vnd.openxmlformats-officedocument.presentationml.slide+xml"/>
  <Override PartName="/ppt/slides/slide51.xml" ContentType="application/vnd.openxmlformats-officedocument.presentationml.slide+xml"/>
  <Override PartName="/ppt/slides/slide179.xml" ContentType="application/vnd.openxmlformats-officedocument.presentationml.slide+xml"/>
  <Override PartName="/ppt/slides/slide217.xml" ContentType="application/vnd.openxmlformats-officedocument.presentationml.slide+xml"/>
  <Override PartName="/ppt/slides/slide52.xml" ContentType="application/vnd.openxmlformats-officedocument.presentationml.slide+xml"/>
  <Override PartName="/ppt/slides/slide218.xml" ContentType="application/vnd.openxmlformats-officedocument.presentationml.slide+xml"/>
  <Override PartName="/ppt/slides/slide53.xml" ContentType="application/vnd.openxmlformats-officedocument.presentationml.slide+xml"/>
  <Override PartName="/ppt/slides/slide219.xml" ContentType="application/vnd.openxmlformats-officedocument.presentationml.slide+xml"/>
  <Override PartName="/ppt/slides/slide182.xml" ContentType="application/vnd.openxmlformats-officedocument.presentationml.slide+xml"/>
  <Override PartName="/ppt/slides/slide220.xml" ContentType="application/vnd.openxmlformats-officedocument.presentationml.slide+xml"/>
  <Override PartName="/ppt/slides/slide183.xml" ContentType="application/vnd.openxmlformats-officedocument.presentationml.slide+xml"/>
  <Override PartName="/ppt/slides/slide221.xml" ContentType="application/vnd.openxmlformats-officedocument.presentationml.slide+xml"/>
  <Override PartName="/ppt/slides/slide184.xml" ContentType="application/vnd.openxmlformats-officedocument.presentationml.slide+xml"/>
  <Override PartName="/ppt/slides/slide222.xml" ContentType="application/vnd.openxmlformats-officedocument.presentationml.slide+xml"/>
  <Override PartName="/ppt/slides/slide185.xml" ContentType="application/vnd.openxmlformats-officedocument.presentationml.slide+xml"/>
  <Override PartName="/ppt/slides/slide223.xml" ContentType="application/vnd.openxmlformats-officedocument.presentationml.slide+xml"/>
  <Override PartName="/ppt/slides/slide186.xml" ContentType="application/vnd.openxmlformats-officedocument.presentationml.slide+xml"/>
  <Override PartName="/ppt/slides/slide224.xml" ContentType="application/vnd.openxmlformats-officedocument.presentationml.slide+xml"/>
  <Override PartName="/ppt/slides/slide187.xml" ContentType="application/vnd.openxmlformats-officedocument.presentationml.slide+xml"/>
  <Override PartName="/ppt/slides/slide225.xml" ContentType="application/vnd.openxmlformats-officedocument.presentationml.slide+xml"/>
  <Override PartName="/ppt/slides/slide60.xml" ContentType="application/vnd.openxmlformats-officedocument.presentationml.slide+xml"/>
  <Override PartName="/ppt/slides/slide188.xml" ContentType="application/vnd.openxmlformats-officedocument.presentationml.slide+xml"/>
  <Override PartName="/ppt/slides/slide226.xml" ContentType="application/vnd.openxmlformats-officedocument.presentationml.slide+xml"/>
  <Override PartName="/ppt/slides/slide61.xml" ContentType="application/vnd.openxmlformats-officedocument.presentationml.slide+xml"/>
  <Override PartName="/ppt/slides/slide189.xml" ContentType="application/vnd.openxmlformats-officedocument.presentationml.slide+xml"/>
  <Override PartName="/ppt/slides/slide227.xml" ContentType="application/vnd.openxmlformats-officedocument.presentationml.slide+xml"/>
  <Override PartName="/ppt/slides/slide62.xml" ContentType="application/vnd.openxmlformats-officedocument.presentationml.slide+xml"/>
  <Override PartName="/ppt/slides/slide228.xml" ContentType="application/vnd.openxmlformats-officedocument.presentationml.slide+xml"/>
  <Override PartName="/ppt/slides/slide63.xml" ContentType="application/vnd.openxmlformats-officedocument.presentationml.slide+xml"/>
  <Override PartName="/ppt/slides/slide229.xml" ContentType="application/vnd.openxmlformats-officedocument.presentationml.slide+xml"/>
  <Override PartName="/ppt/slides/slide192.xml" ContentType="application/vnd.openxmlformats-officedocument.presentationml.slide+xml"/>
  <Override PartName="/ppt/slides/slide230.xml" ContentType="application/vnd.openxmlformats-officedocument.presentationml.slide+xml"/>
  <Override PartName="/ppt/slides/slide193.xml" ContentType="application/vnd.openxmlformats-officedocument.presentationml.slide+xml"/>
  <Override PartName="/ppt/slides/slide231.xml" ContentType="application/vnd.openxmlformats-officedocument.presentationml.slide+xml"/>
  <Override PartName="/ppt/slides/slide194.xml" ContentType="application/vnd.openxmlformats-officedocument.presentationml.slide+xml"/>
  <Override PartName="/ppt/slides/slide232.xml" ContentType="application/vnd.openxmlformats-officedocument.presentationml.slide+xml"/>
  <Override PartName="/ppt/slides/slide195.xml" ContentType="application/vnd.openxmlformats-officedocument.presentationml.slide+xml"/>
  <Override PartName="/ppt/slides/slide233.xml" ContentType="application/vnd.openxmlformats-officedocument.presentationml.slide+xml"/>
  <Override PartName="/ppt/slides/slide196.xml" ContentType="application/vnd.openxmlformats-officedocument.presentationml.slide+xml"/>
  <Override PartName="/ppt/slides/slide234.xml" ContentType="application/vnd.openxmlformats-officedocument.presentationml.slide+xml"/>
  <Override PartName="/ppt/slides/slide197.xml" ContentType="application/vnd.openxmlformats-officedocument.presentationml.slide+xml"/>
  <Override PartName="/ppt/slides/slide235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6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7.xml" ContentType="application/vnd.openxmlformats-officedocument.presentationml.slide+xml"/>
  <Override PartName="/ppt/slides/slide72.xml" ContentType="application/vnd.openxmlformats-officedocument.presentationml.slide+xml"/>
  <Override PartName="/ppt/slides/slide238.xml" ContentType="application/vnd.openxmlformats-officedocument.presentationml.slide+xml"/>
  <Override PartName="/ppt/slides/slide73.xml" ContentType="application/vnd.openxmlformats-officedocument.presentationml.slide+xml"/>
  <Override PartName="/ppt/slides/slide239.xml" ContentType="application/vnd.openxmlformats-officedocument.presentationml.slide+xml"/>
  <Override PartName="/ppt/slides/slide80.xml" ContentType="application/vnd.openxmlformats-officedocument.presentationml.slide+xml"/>
  <Override PartName="/ppt/slides/slide246.xml" ContentType="application/vnd.openxmlformats-officedocument.presentationml.slide+xml"/>
  <Override PartName="/ppt/slides/slide81.xml" ContentType="application/vnd.openxmlformats-officedocument.presentationml.slide+xml"/>
  <Override PartName="/ppt/slides/slide247.xml" ContentType="application/vnd.openxmlformats-officedocument.presentationml.slide+xml"/>
  <Override PartName="/ppt/slides/slide82.xml" ContentType="application/vnd.openxmlformats-officedocument.presentationml.slide+xml"/>
  <Override PartName="/ppt/slides/slide248.xml" ContentType="application/vnd.openxmlformats-officedocument.presentationml.slide+xml"/>
  <Override PartName="/ppt/slides/slide83.xml" ContentType="application/vnd.openxmlformats-officedocument.presentationml.slide+xml"/>
  <Override PartName="/ppt/slides/slide249.xml" ContentType="application/vnd.openxmlformats-officedocument.presentationml.slide+xml"/>
  <Override PartName="/ppt/slides/slide250.xml" ContentType="application/vnd.openxmlformats-officedocument.presentationml.slide+xml"/>
  <Override PartName="/ppt/slides/slide251.xml" ContentType="application/vnd.openxmlformats-officedocument.presentationml.slide+xml"/>
  <Override PartName="/ppt/slides/slide252.xml" ContentType="application/vnd.openxmlformats-officedocument.presentationml.slide+xml"/>
  <Override PartName="/ppt/slides/slide253.xml" ContentType="application/vnd.openxmlformats-officedocument.presentationml.slide+xml"/>
  <Override PartName="/ppt/slides/slide254.xml" ContentType="application/vnd.openxmlformats-officedocument.presentationml.slide+xml"/>
  <Override PartName="/ppt/slides/slide255.xml" ContentType="application/vnd.openxmlformats-officedocument.presentationml.slide+xml"/>
  <Override PartName="/ppt/slides/slide90.xml" ContentType="application/vnd.openxmlformats-officedocument.presentationml.slide+xml"/>
  <Override PartName="/ppt/slides/slide25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  <p:sldId id="433" r:id="rId182"/>
    <p:sldId id="434" r:id="rId183"/>
    <p:sldId id="435" r:id="rId184"/>
    <p:sldId id="436" r:id="rId185"/>
    <p:sldId id="437" r:id="rId186"/>
    <p:sldId id="438" r:id="rId187"/>
    <p:sldId id="439" r:id="rId188"/>
    <p:sldId id="440" r:id="rId189"/>
    <p:sldId id="441" r:id="rId190"/>
    <p:sldId id="442" r:id="rId191"/>
    <p:sldId id="443" r:id="rId192"/>
    <p:sldId id="444" r:id="rId193"/>
    <p:sldId id="445" r:id="rId194"/>
    <p:sldId id="446" r:id="rId195"/>
    <p:sldId id="447" r:id="rId196"/>
    <p:sldId id="448" r:id="rId197"/>
    <p:sldId id="449" r:id="rId198"/>
    <p:sldId id="450" r:id="rId199"/>
    <p:sldId id="451" r:id="rId200"/>
    <p:sldId id="452" r:id="rId201"/>
    <p:sldId id="453" r:id="rId202"/>
    <p:sldId id="454" r:id="rId203"/>
    <p:sldId id="455" r:id="rId204"/>
    <p:sldId id="456" r:id="rId205"/>
    <p:sldId id="457" r:id="rId206"/>
    <p:sldId id="458" r:id="rId207"/>
    <p:sldId id="459" r:id="rId208"/>
    <p:sldId id="460" r:id="rId209"/>
    <p:sldId id="461" r:id="rId210"/>
    <p:sldId id="462" r:id="rId211"/>
    <p:sldId id="463" r:id="rId212"/>
    <p:sldId id="464" r:id="rId213"/>
    <p:sldId id="465" r:id="rId214"/>
    <p:sldId id="466" r:id="rId215"/>
    <p:sldId id="467" r:id="rId216"/>
    <p:sldId id="468" r:id="rId217"/>
    <p:sldId id="469" r:id="rId218"/>
    <p:sldId id="470" r:id="rId219"/>
    <p:sldId id="471" r:id="rId220"/>
    <p:sldId id="472" r:id="rId221"/>
    <p:sldId id="473" r:id="rId222"/>
    <p:sldId id="474" r:id="rId223"/>
    <p:sldId id="475" r:id="rId224"/>
    <p:sldId id="476" r:id="rId225"/>
    <p:sldId id="477" r:id="rId226"/>
    <p:sldId id="478" r:id="rId227"/>
    <p:sldId id="479" r:id="rId228"/>
    <p:sldId id="480" r:id="rId229"/>
    <p:sldId id="481" r:id="rId230"/>
    <p:sldId id="482" r:id="rId231"/>
    <p:sldId id="483" r:id="rId232"/>
    <p:sldId id="484" r:id="rId233"/>
    <p:sldId id="485" r:id="rId234"/>
    <p:sldId id="486" r:id="rId235"/>
    <p:sldId id="487" r:id="rId236"/>
    <p:sldId id="488" r:id="rId237"/>
    <p:sldId id="489" r:id="rId238"/>
    <p:sldId id="490" r:id="rId239"/>
    <p:sldId id="491" r:id="rId240"/>
    <p:sldId id="492" r:id="rId241"/>
    <p:sldId id="493" r:id="rId242"/>
    <p:sldId id="494" r:id="rId243"/>
    <p:sldId id="495" r:id="rId244"/>
    <p:sldId id="496" r:id="rId245"/>
    <p:sldId id="497" r:id="rId246"/>
    <p:sldId id="498" r:id="rId247"/>
    <p:sldId id="499" r:id="rId248"/>
    <p:sldId id="500" r:id="rId249"/>
    <p:sldId id="501" r:id="rId250"/>
    <p:sldId id="502" r:id="rId251"/>
    <p:sldId id="503" r:id="rId252"/>
    <p:sldId id="504" r:id="rId253"/>
    <p:sldId id="505" r:id="rId254"/>
    <p:sldId id="506" r:id="rId255"/>
    <p:sldId id="507" r:id="rId256"/>
    <p:sldId id="508" r:id="rId257"/>
    <p:sldId id="509" r:id="rId258"/>
    <p:sldId id="510" r:id="rId259"/>
    <p:sldId id="511" r:id="rId260"/>
    <p:sldId id="512" r:id="rId261"/>
    <p:sldId id="513" r:id="rId262"/>
    <p:sldId id="514" r:id="rId263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slide" Target="slides/slide178.xml"/><Relationship Id="rId183" Type="http://schemas.openxmlformats.org/officeDocument/2006/relationships/slide" Target="slides/slide179.xml"/><Relationship Id="rId184" Type="http://schemas.openxmlformats.org/officeDocument/2006/relationships/slide" Target="slides/slide180.xml"/><Relationship Id="rId185" Type="http://schemas.openxmlformats.org/officeDocument/2006/relationships/slide" Target="slides/slide181.xml"/><Relationship Id="rId186" Type="http://schemas.openxmlformats.org/officeDocument/2006/relationships/slide" Target="slides/slide182.xml"/><Relationship Id="rId187" Type="http://schemas.openxmlformats.org/officeDocument/2006/relationships/slide" Target="slides/slide183.xml"/><Relationship Id="rId188" Type="http://schemas.openxmlformats.org/officeDocument/2006/relationships/slide" Target="slides/slide184.xml"/><Relationship Id="rId189" Type="http://schemas.openxmlformats.org/officeDocument/2006/relationships/slide" Target="slides/slide185.xml"/><Relationship Id="rId190" Type="http://schemas.openxmlformats.org/officeDocument/2006/relationships/slide" Target="slides/slide186.xml"/><Relationship Id="rId191" Type="http://schemas.openxmlformats.org/officeDocument/2006/relationships/slide" Target="slides/slide187.xml"/><Relationship Id="rId192" Type="http://schemas.openxmlformats.org/officeDocument/2006/relationships/slide" Target="slides/slide188.xml"/><Relationship Id="rId193" Type="http://schemas.openxmlformats.org/officeDocument/2006/relationships/slide" Target="slides/slide189.xml"/><Relationship Id="rId194" Type="http://schemas.openxmlformats.org/officeDocument/2006/relationships/slide" Target="slides/slide190.xml"/><Relationship Id="rId195" Type="http://schemas.openxmlformats.org/officeDocument/2006/relationships/slide" Target="slides/slide191.xml"/><Relationship Id="rId196" Type="http://schemas.openxmlformats.org/officeDocument/2006/relationships/slide" Target="slides/slide192.xml"/><Relationship Id="rId197" Type="http://schemas.openxmlformats.org/officeDocument/2006/relationships/slide" Target="slides/slide193.xml"/><Relationship Id="rId198" Type="http://schemas.openxmlformats.org/officeDocument/2006/relationships/slide" Target="slides/slide194.xml"/><Relationship Id="rId199" Type="http://schemas.openxmlformats.org/officeDocument/2006/relationships/slide" Target="slides/slide195.xml"/><Relationship Id="rId200" Type="http://schemas.openxmlformats.org/officeDocument/2006/relationships/slide" Target="slides/slide196.xml"/><Relationship Id="rId201" Type="http://schemas.openxmlformats.org/officeDocument/2006/relationships/slide" Target="slides/slide197.xml"/><Relationship Id="rId202" Type="http://schemas.openxmlformats.org/officeDocument/2006/relationships/slide" Target="slides/slide198.xml"/><Relationship Id="rId203" Type="http://schemas.openxmlformats.org/officeDocument/2006/relationships/slide" Target="slides/slide199.xml"/><Relationship Id="rId204" Type="http://schemas.openxmlformats.org/officeDocument/2006/relationships/slide" Target="slides/slide200.xml"/><Relationship Id="rId205" Type="http://schemas.openxmlformats.org/officeDocument/2006/relationships/slide" Target="slides/slide201.xml"/><Relationship Id="rId206" Type="http://schemas.openxmlformats.org/officeDocument/2006/relationships/slide" Target="slides/slide202.xml"/><Relationship Id="rId207" Type="http://schemas.openxmlformats.org/officeDocument/2006/relationships/slide" Target="slides/slide203.xml"/><Relationship Id="rId208" Type="http://schemas.openxmlformats.org/officeDocument/2006/relationships/slide" Target="slides/slide204.xml"/><Relationship Id="rId209" Type="http://schemas.openxmlformats.org/officeDocument/2006/relationships/slide" Target="slides/slide205.xml"/><Relationship Id="rId210" Type="http://schemas.openxmlformats.org/officeDocument/2006/relationships/slide" Target="slides/slide206.xml"/><Relationship Id="rId211" Type="http://schemas.openxmlformats.org/officeDocument/2006/relationships/slide" Target="slides/slide207.xml"/><Relationship Id="rId212" Type="http://schemas.openxmlformats.org/officeDocument/2006/relationships/slide" Target="slides/slide208.xml"/><Relationship Id="rId213" Type="http://schemas.openxmlformats.org/officeDocument/2006/relationships/slide" Target="slides/slide209.xml"/><Relationship Id="rId214" Type="http://schemas.openxmlformats.org/officeDocument/2006/relationships/slide" Target="slides/slide210.xml"/><Relationship Id="rId215" Type="http://schemas.openxmlformats.org/officeDocument/2006/relationships/slide" Target="slides/slide211.xml"/><Relationship Id="rId216" Type="http://schemas.openxmlformats.org/officeDocument/2006/relationships/slide" Target="slides/slide212.xml"/><Relationship Id="rId217" Type="http://schemas.openxmlformats.org/officeDocument/2006/relationships/slide" Target="slides/slide213.xml"/><Relationship Id="rId218" Type="http://schemas.openxmlformats.org/officeDocument/2006/relationships/slide" Target="slides/slide214.xml"/><Relationship Id="rId219" Type="http://schemas.openxmlformats.org/officeDocument/2006/relationships/slide" Target="slides/slide215.xml"/><Relationship Id="rId220" Type="http://schemas.openxmlformats.org/officeDocument/2006/relationships/slide" Target="slides/slide216.xml"/><Relationship Id="rId221" Type="http://schemas.openxmlformats.org/officeDocument/2006/relationships/slide" Target="slides/slide217.xml"/><Relationship Id="rId222" Type="http://schemas.openxmlformats.org/officeDocument/2006/relationships/slide" Target="slides/slide218.xml"/><Relationship Id="rId223" Type="http://schemas.openxmlformats.org/officeDocument/2006/relationships/slide" Target="slides/slide219.xml"/><Relationship Id="rId224" Type="http://schemas.openxmlformats.org/officeDocument/2006/relationships/slide" Target="slides/slide220.xml"/><Relationship Id="rId225" Type="http://schemas.openxmlformats.org/officeDocument/2006/relationships/slide" Target="slides/slide221.xml"/><Relationship Id="rId226" Type="http://schemas.openxmlformats.org/officeDocument/2006/relationships/slide" Target="slides/slide222.xml"/><Relationship Id="rId227" Type="http://schemas.openxmlformats.org/officeDocument/2006/relationships/slide" Target="slides/slide223.xml"/><Relationship Id="rId228" Type="http://schemas.openxmlformats.org/officeDocument/2006/relationships/slide" Target="slides/slide224.xml"/><Relationship Id="rId229" Type="http://schemas.openxmlformats.org/officeDocument/2006/relationships/slide" Target="slides/slide225.xml"/><Relationship Id="rId230" Type="http://schemas.openxmlformats.org/officeDocument/2006/relationships/slide" Target="slides/slide226.xml"/><Relationship Id="rId231" Type="http://schemas.openxmlformats.org/officeDocument/2006/relationships/slide" Target="slides/slide227.xml"/><Relationship Id="rId232" Type="http://schemas.openxmlformats.org/officeDocument/2006/relationships/slide" Target="slides/slide228.xml"/><Relationship Id="rId233" Type="http://schemas.openxmlformats.org/officeDocument/2006/relationships/slide" Target="slides/slide229.xml"/><Relationship Id="rId234" Type="http://schemas.openxmlformats.org/officeDocument/2006/relationships/slide" Target="slides/slide230.xml"/><Relationship Id="rId235" Type="http://schemas.openxmlformats.org/officeDocument/2006/relationships/slide" Target="slides/slide231.xml"/><Relationship Id="rId236" Type="http://schemas.openxmlformats.org/officeDocument/2006/relationships/slide" Target="slides/slide232.xml"/><Relationship Id="rId237" Type="http://schemas.openxmlformats.org/officeDocument/2006/relationships/slide" Target="slides/slide233.xml"/><Relationship Id="rId238" Type="http://schemas.openxmlformats.org/officeDocument/2006/relationships/slide" Target="slides/slide234.xml"/><Relationship Id="rId239" Type="http://schemas.openxmlformats.org/officeDocument/2006/relationships/slide" Target="slides/slide235.xml"/><Relationship Id="rId240" Type="http://schemas.openxmlformats.org/officeDocument/2006/relationships/slide" Target="slides/slide236.xml"/><Relationship Id="rId241" Type="http://schemas.openxmlformats.org/officeDocument/2006/relationships/slide" Target="slides/slide237.xml"/><Relationship Id="rId242" Type="http://schemas.openxmlformats.org/officeDocument/2006/relationships/slide" Target="slides/slide238.xml"/><Relationship Id="rId243" Type="http://schemas.openxmlformats.org/officeDocument/2006/relationships/slide" Target="slides/slide239.xml"/><Relationship Id="rId244" Type="http://schemas.openxmlformats.org/officeDocument/2006/relationships/slide" Target="slides/slide240.xml"/><Relationship Id="rId245" Type="http://schemas.openxmlformats.org/officeDocument/2006/relationships/slide" Target="slides/slide241.xml"/><Relationship Id="rId246" Type="http://schemas.openxmlformats.org/officeDocument/2006/relationships/slide" Target="slides/slide242.xml"/><Relationship Id="rId247" Type="http://schemas.openxmlformats.org/officeDocument/2006/relationships/slide" Target="slides/slide243.xml"/><Relationship Id="rId248" Type="http://schemas.openxmlformats.org/officeDocument/2006/relationships/slide" Target="slides/slide244.xml"/><Relationship Id="rId249" Type="http://schemas.openxmlformats.org/officeDocument/2006/relationships/slide" Target="slides/slide245.xml"/><Relationship Id="rId250" Type="http://schemas.openxmlformats.org/officeDocument/2006/relationships/slide" Target="slides/slide246.xml"/><Relationship Id="rId251" Type="http://schemas.openxmlformats.org/officeDocument/2006/relationships/slide" Target="slides/slide247.xml"/><Relationship Id="rId252" Type="http://schemas.openxmlformats.org/officeDocument/2006/relationships/slide" Target="slides/slide248.xml"/><Relationship Id="rId253" Type="http://schemas.openxmlformats.org/officeDocument/2006/relationships/slide" Target="slides/slide249.xml"/><Relationship Id="rId254" Type="http://schemas.openxmlformats.org/officeDocument/2006/relationships/slide" Target="slides/slide250.xml"/><Relationship Id="rId255" Type="http://schemas.openxmlformats.org/officeDocument/2006/relationships/slide" Target="slides/slide251.xml"/><Relationship Id="rId256" Type="http://schemas.openxmlformats.org/officeDocument/2006/relationships/slide" Target="slides/slide252.xml"/><Relationship Id="rId257" Type="http://schemas.openxmlformats.org/officeDocument/2006/relationships/slide" Target="slides/slide253.xml"/><Relationship Id="rId258" Type="http://schemas.openxmlformats.org/officeDocument/2006/relationships/slide" Target="slides/slide254.xml"/><Relationship Id="rId259" Type="http://schemas.openxmlformats.org/officeDocument/2006/relationships/slide" Target="slides/slide255.xml"/><Relationship Id="rId260" Type="http://schemas.openxmlformats.org/officeDocument/2006/relationships/slide" Target="slides/slide256.xml"/><Relationship Id="rId261" Type="http://schemas.openxmlformats.org/officeDocument/2006/relationships/slide" Target="slides/slide257.xml"/><Relationship Id="rId262" Type="http://schemas.openxmlformats.org/officeDocument/2006/relationships/slide" Target="slides/slide258.xml"/><Relationship Id="rId263" Type="http://schemas.openxmlformats.org/officeDocument/2006/relationships/slide" Target="slides/slide259.xml"/><Relationship Id="rId2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097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01800" y="470376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3688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A30B918-4F09-4906-BFEC-0CF960A533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4.xml.rels><?xml version="1.0" encoding="UTF-8"?>
<Relationships xmlns="http://schemas.openxmlformats.org/package/2006/relationships"><Relationship Id="rId1" Type="http://schemas.openxmlformats.org/officeDocument/2006/relationships/slide" Target="../slides/slide194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9.xml.rels><?xml version="1.0" encoding="UTF-8"?>
<Relationships xmlns="http://schemas.openxmlformats.org/package/2006/relationships"><Relationship Id="rId1" Type="http://schemas.openxmlformats.org/officeDocument/2006/relationships/slide" Target="../slides/slide209.xml"/><Relationship Id="rId2" Type="http://schemas.openxmlformats.org/officeDocument/2006/relationships/notesMaster" Target="../notesMasters/notesMaster1.xml"/>
</Relationships>
</file>

<file path=ppt/notesSlides/_rels/notesSlide220.xml.rels><?xml version="1.0" encoding="UTF-8"?>
<Relationships xmlns="http://schemas.openxmlformats.org/package/2006/relationships"><Relationship Id="rId1" Type="http://schemas.openxmlformats.org/officeDocument/2006/relationships/slide" Target="../slides/slide220.xml"/><Relationship Id="rId2" Type="http://schemas.openxmlformats.org/officeDocument/2006/relationships/notesMaster" Target="../notesMasters/notesMaster1.xml"/>
</Relationships>
</file>

<file path=ppt/notesSlides/_rels/notesSlide221.xml.rels><?xml version="1.0" encoding="UTF-8"?>
<Relationships xmlns="http://schemas.openxmlformats.org/package/2006/relationships"><Relationship Id="rId1" Type="http://schemas.openxmlformats.org/officeDocument/2006/relationships/slide" Target="../slides/slide221.xml"/><Relationship Id="rId2" Type="http://schemas.openxmlformats.org/officeDocument/2006/relationships/notesMaster" Target="../notesMasters/notesMaster1.xml"/>
</Relationships>
</file>

<file path=ppt/notesSlides/_rels/notesSlide225.xml.rels><?xml version="1.0" encoding="UTF-8"?>
<Relationships xmlns="http://schemas.openxmlformats.org/package/2006/relationships"><Relationship Id="rId1" Type="http://schemas.openxmlformats.org/officeDocument/2006/relationships/slide" Target="../slides/slide225.xml"/><Relationship Id="rId2" Type="http://schemas.openxmlformats.org/officeDocument/2006/relationships/notesMaster" Target="../notesMasters/notesMaster1.xml"/>
</Relationships>
</file>

<file path=ppt/notesSlides/_rels/notesSlide226.xml.rels><?xml version="1.0" encoding="UTF-8"?>
<Relationships xmlns="http://schemas.openxmlformats.org/package/2006/relationships"><Relationship Id="rId1" Type="http://schemas.openxmlformats.org/officeDocument/2006/relationships/slide" Target="../slides/slide2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"/>
          <p:cNvSpPr txBox="1"/>
          <p:nvPr/>
        </p:nvSpPr>
        <p:spPr>
          <a:xfrm>
            <a:off x="383688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0CE40D2-FBF3-47BE-B783-377626AC97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 txBox="1"/>
          <p:nvPr/>
        </p:nvSpPr>
        <p:spPr>
          <a:xfrm>
            <a:off x="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 txBox="1"/>
          <p:nvPr/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880" name="PlaceHolder 2"/>
          <p:cNvSpPr>
            <a:spLocks noGrp="1"/>
          </p:cNvSpPr>
          <p:nvPr>
            <p:ph type="body"/>
          </p:nvPr>
        </p:nvSpPr>
        <p:spPr>
          <a:xfrm>
            <a:off x="674640" y="4703760"/>
            <a:ext cx="54230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"/>
          <p:cNvSpPr txBox="1"/>
          <p:nvPr/>
        </p:nvSpPr>
        <p:spPr>
          <a:xfrm>
            <a:off x="383688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DF005C2-5B4C-4B8A-8BA0-7476365984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 txBox="1"/>
          <p:nvPr/>
        </p:nvSpPr>
        <p:spPr>
          <a:xfrm>
            <a:off x="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679320" y="4703760"/>
            <a:ext cx="54136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"/>
          <p:cNvSpPr txBox="1"/>
          <p:nvPr/>
        </p:nvSpPr>
        <p:spPr>
          <a:xfrm>
            <a:off x="383688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A9B4F8A-70F9-4B3F-966D-C86EC7E92C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 txBox="1"/>
          <p:nvPr/>
        </p:nvSpPr>
        <p:spPr>
          <a:xfrm>
            <a:off x="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892" name="PlaceHolder 2"/>
          <p:cNvSpPr>
            <a:spLocks noGrp="1"/>
          </p:cNvSpPr>
          <p:nvPr>
            <p:ph type="body"/>
          </p:nvPr>
        </p:nvSpPr>
        <p:spPr>
          <a:xfrm>
            <a:off x="679320" y="4703760"/>
            <a:ext cx="54136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"/>
          <p:cNvSpPr txBox="1"/>
          <p:nvPr/>
        </p:nvSpPr>
        <p:spPr>
          <a:xfrm>
            <a:off x="383688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AB07FF3-86C8-47DF-B6D1-2FF7D008A0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 txBox="1"/>
          <p:nvPr/>
        </p:nvSpPr>
        <p:spPr>
          <a:xfrm>
            <a:off x="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898" name="PlaceHolder 2"/>
          <p:cNvSpPr>
            <a:spLocks noGrp="1"/>
          </p:cNvSpPr>
          <p:nvPr>
            <p:ph type="body"/>
          </p:nvPr>
        </p:nvSpPr>
        <p:spPr>
          <a:xfrm>
            <a:off x="679320" y="4703760"/>
            <a:ext cx="54136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"/>
          <p:cNvSpPr txBox="1"/>
          <p:nvPr/>
        </p:nvSpPr>
        <p:spPr>
          <a:xfrm>
            <a:off x="383688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311420D-3C4D-4C37-AEB0-5F5B82A842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 txBox="1"/>
          <p:nvPr/>
        </p:nvSpPr>
        <p:spPr>
          <a:xfrm>
            <a:off x="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 txBox="1"/>
          <p:nvPr/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904" name="PlaceHolder 2"/>
          <p:cNvSpPr>
            <a:spLocks noGrp="1"/>
          </p:cNvSpPr>
          <p:nvPr>
            <p:ph type="body"/>
          </p:nvPr>
        </p:nvSpPr>
        <p:spPr>
          <a:xfrm>
            <a:off x="679320" y="4703760"/>
            <a:ext cx="54136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"/>
          <p:cNvSpPr txBox="1"/>
          <p:nvPr/>
        </p:nvSpPr>
        <p:spPr>
          <a:xfrm>
            <a:off x="383688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0E9228C-D199-4EB3-850B-BEE39524F6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 txBox="1"/>
          <p:nvPr/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910" name="PlaceHolder 2"/>
          <p:cNvSpPr>
            <a:spLocks noGrp="1"/>
          </p:cNvSpPr>
          <p:nvPr>
            <p:ph type="body"/>
          </p:nvPr>
        </p:nvSpPr>
        <p:spPr>
          <a:xfrm>
            <a:off x="679320" y="4703760"/>
            <a:ext cx="54136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"/>
          <p:cNvSpPr txBox="1"/>
          <p:nvPr/>
        </p:nvSpPr>
        <p:spPr>
          <a:xfrm>
            <a:off x="383688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C7D53D2-3EB3-40C7-8AF1-9BDA155095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 txBox="1"/>
          <p:nvPr/>
        </p:nvSpPr>
        <p:spPr>
          <a:xfrm>
            <a:off x="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 txBox="1"/>
          <p:nvPr/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679320" y="4703760"/>
            <a:ext cx="54136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"/>
          <p:cNvSpPr txBox="1"/>
          <p:nvPr/>
        </p:nvSpPr>
        <p:spPr>
          <a:xfrm>
            <a:off x="383688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114A1CF-98E1-40B0-A976-98E4A42E36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 txBox="1"/>
          <p:nvPr/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922" name="PlaceHolder 2"/>
          <p:cNvSpPr>
            <a:spLocks noGrp="1"/>
          </p:cNvSpPr>
          <p:nvPr>
            <p:ph type="body"/>
          </p:nvPr>
        </p:nvSpPr>
        <p:spPr>
          <a:xfrm>
            <a:off x="679320" y="4703760"/>
            <a:ext cx="54136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"/>
          <p:cNvSpPr txBox="1"/>
          <p:nvPr/>
        </p:nvSpPr>
        <p:spPr>
          <a:xfrm>
            <a:off x="383688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8F0E4D1-3CF2-4BF0-8D63-BB890E5B26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 txBox="1"/>
          <p:nvPr/>
        </p:nvSpPr>
        <p:spPr>
          <a:xfrm>
            <a:off x="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 txBox="1"/>
          <p:nvPr/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928" name="PlaceHolder 2"/>
          <p:cNvSpPr>
            <a:spLocks noGrp="1"/>
          </p:cNvSpPr>
          <p:nvPr>
            <p:ph type="body"/>
          </p:nvPr>
        </p:nvSpPr>
        <p:spPr>
          <a:xfrm>
            <a:off x="679320" y="4703760"/>
            <a:ext cx="54136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"/>
          <p:cNvSpPr txBox="1"/>
          <p:nvPr/>
        </p:nvSpPr>
        <p:spPr>
          <a:xfrm>
            <a:off x="383688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3A6411E-58C7-40AD-B6FB-413199AB72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 txBox="1"/>
          <p:nvPr/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934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"/>
          <p:cNvSpPr txBox="1"/>
          <p:nvPr/>
        </p:nvSpPr>
        <p:spPr>
          <a:xfrm>
            <a:off x="383688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CA0787F-6F62-4146-A6F6-BDF938835F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 txBox="1"/>
          <p:nvPr/>
        </p:nvSpPr>
        <p:spPr>
          <a:xfrm>
            <a:off x="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 txBox="1"/>
          <p:nvPr/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940" name="PlaceHolder 2"/>
          <p:cNvSpPr>
            <a:spLocks noGrp="1"/>
          </p:cNvSpPr>
          <p:nvPr>
            <p:ph type="body"/>
          </p:nvPr>
        </p:nvSpPr>
        <p:spPr>
          <a:xfrm>
            <a:off x="676440" y="6794280"/>
            <a:ext cx="54194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"/>
          <p:cNvSpPr txBox="1"/>
          <p:nvPr/>
        </p:nvSpPr>
        <p:spPr>
          <a:xfrm>
            <a:off x="383688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6EF0C51-0E1F-46C2-84B7-8133B80FE2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 txBox="1"/>
          <p:nvPr/>
        </p:nvSpPr>
        <p:spPr>
          <a:xfrm>
            <a:off x="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 txBox="1"/>
          <p:nvPr/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946" name="PlaceHolder 2"/>
          <p:cNvSpPr>
            <a:spLocks noGrp="1"/>
          </p:cNvSpPr>
          <p:nvPr>
            <p:ph type="body"/>
          </p:nvPr>
        </p:nvSpPr>
        <p:spPr>
          <a:xfrm>
            <a:off x="676440" y="6794280"/>
            <a:ext cx="54194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"/>
          <p:cNvSpPr txBox="1"/>
          <p:nvPr/>
        </p:nvSpPr>
        <p:spPr>
          <a:xfrm>
            <a:off x="383688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2A1CCAE-21C2-4709-B571-27464B1547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 txBox="1"/>
          <p:nvPr/>
        </p:nvSpPr>
        <p:spPr>
          <a:xfrm>
            <a:off x="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 txBox="1"/>
          <p:nvPr/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952" name="PlaceHolder 2"/>
          <p:cNvSpPr>
            <a:spLocks noGrp="1"/>
          </p:cNvSpPr>
          <p:nvPr>
            <p:ph type="body"/>
          </p:nvPr>
        </p:nvSpPr>
        <p:spPr>
          <a:xfrm>
            <a:off x="676440" y="6794280"/>
            <a:ext cx="54194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"/>
          <p:cNvSpPr txBox="1"/>
          <p:nvPr/>
        </p:nvSpPr>
        <p:spPr>
          <a:xfrm>
            <a:off x="383688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F2C8045-0467-41C1-A72A-4A207EC2C7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 txBox="1"/>
          <p:nvPr/>
        </p:nvSpPr>
        <p:spPr>
          <a:xfrm>
            <a:off x="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 txBox="1"/>
          <p:nvPr/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958" name="PlaceHolder 2"/>
          <p:cNvSpPr>
            <a:spLocks noGrp="1"/>
          </p:cNvSpPr>
          <p:nvPr>
            <p:ph type="body"/>
          </p:nvPr>
        </p:nvSpPr>
        <p:spPr>
          <a:xfrm>
            <a:off x="676440" y="6794280"/>
            <a:ext cx="54194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866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"/>
          <p:cNvSpPr txBox="1"/>
          <p:nvPr/>
        </p:nvSpPr>
        <p:spPr>
          <a:xfrm>
            <a:off x="383688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51CD4B5-4356-442C-8AA5-4547508E8A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 txBox="1"/>
          <p:nvPr/>
        </p:nvSpPr>
        <p:spPr>
          <a:xfrm>
            <a:off x="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 txBox="1"/>
          <p:nvPr/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872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874" name="PlaceHolder 2"/>
          <p:cNvSpPr>
            <a:spLocks noGrp="1"/>
          </p:cNvSpPr>
          <p:nvPr>
            <p:ph type="body"/>
          </p:nvPr>
        </p:nvSpPr>
        <p:spPr>
          <a:xfrm>
            <a:off x="901800" y="470376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"/>
          <p:cNvSpPr txBox="1"/>
          <p:nvPr/>
        </p:nvSpPr>
        <p:spPr>
          <a:xfrm>
            <a:off x="383688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75ACCBE-B9A6-4F86-96FE-6A2C9B00D0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 txBox="1"/>
          <p:nvPr/>
        </p:nvSpPr>
        <p:spPr>
          <a:xfrm>
            <a:off x="0" y="9408960"/>
            <a:ext cx="2935440" cy="493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864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540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044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540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044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360" y="380880"/>
            <a:ext cx="74674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540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044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36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540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044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380880"/>
            <a:ext cx="74674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68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68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9f5e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889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9f5e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255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vnnic.net.vn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dns-admin@apnic.net" TargetMode="External"/><Relationship Id="rId3" Type="http://schemas.openxmlformats.org/officeDocument/2006/relationships/hyperlink" Target="mailto:dns.admin@apnic.net" TargetMode="External"/><Relationship Id="rId4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hyperlink" Target="file:///../../Desktop/My%20Documents/aatraining/Indonesia/FINAL/Indonesia/FINAL-PRESENTATION/ASnumbers.ppt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.wmf"/><Relationship Id="rId16" Type="http://schemas.openxmlformats.org/officeDocument/2006/relationships/slideLayout" Target="../slideLayouts/slideLayout1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dns.admin@apnic.net" TargetMode="External"/><Relationship Id="rId3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3.xml"/><Relationship Id="rId3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7.wmf"/><Relationship Id="rId5" Type="http://schemas.openxmlformats.org/officeDocument/2006/relationships/image" Target="../media/image47.wmf"/><Relationship Id="rId6" Type="http://schemas.openxmlformats.org/officeDocument/2006/relationships/image" Target="../media/image47.wmf"/><Relationship Id="rId7" Type="http://schemas.openxmlformats.org/officeDocument/2006/relationships/image" Target="../media/image47.wmf"/><Relationship Id="rId8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pnic.net/db/aut-num.html" TargetMode="External"/><Relationship Id="rId3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4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4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wmf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wmf"/><Relationship Id="rId3" Type="http://schemas.openxmlformats.org/officeDocument/2006/relationships/image" Target="../media/image50.wmf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pnic.net/docs/policy/ipv6-guidelines.html" TargetMode="External"/><Relationship Id="rId3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miwa@apnic.net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pnic.net/docs/policy/proposals/prop-015-v001" TargetMode="External"/><Relationship Id="rId3" Type="http://schemas.openxmlformats.org/officeDocument/2006/relationships/slideLayout" Target="../slideLayouts/slideLayout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pnic.net/docs/policy/proposals/prop-016-v002" TargetMode="External"/><Relationship Id="rId3" Type="http://schemas.openxmlformats.org/officeDocument/2006/relationships/slideLayout" Target="../slideLayouts/slideLayout3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pnic.net/docs/policy/discussions/prop-005-v002.txt" TargetMode="External"/><Relationship Id="rId3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../../../../References/IPv6/Video-Clip/IPv6-2003-en-1.wmv" TargetMode="External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55.wmf"/><Relationship Id="rId8" Type="http://schemas.openxmlformats.org/officeDocument/2006/relationships/image" Target="../media/image56.wmf"/><Relationship Id="rId9" Type="http://schemas.openxmlformats.org/officeDocument/2006/relationships/image" Target="../media/image57.png"/><Relationship Id="rId10" Type="http://schemas.openxmlformats.org/officeDocument/2006/relationships/image" Target="../media/image58.wmf"/><Relationship Id="rId11" Type="http://schemas.openxmlformats.org/officeDocument/2006/relationships/image" Target="../media/image58.wmf"/><Relationship Id="rId12" Type="http://schemas.openxmlformats.org/officeDocument/2006/relationships/image" Target="../media/image59.wmf"/><Relationship Id="rId13" Type="http://schemas.openxmlformats.org/officeDocument/2006/relationships/image" Target="../media/image60.wmf"/><Relationship Id="rId14" Type="http://schemas.openxmlformats.org/officeDocument/2006/relationships/image" Target="../media/image61.wmf"/><Relationship Id="rId15" Type="http://schemas.openxmlformats.org/officeDocument/2006/relationships/slideLayout" Target="../slideLayouts/slideLayout1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tp.apnic.net/apnic/docs/ipv6-alloc-request" TargetMode="External"/><Relationship Id="rId3" Type="http://schemas.openxmlformats.org/officeDocument/2006/relationships/hyperlink" Target="http://www.apnic.net/faq/IPv6-FAQ.html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gp.potaroo.net/v6/as1221/index.html" TargetMode="External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gp.potaroo.net/v6/as1221/index.html" TargetMode="External"/><Relationship Id="rId3" Type="http://schemas.openxmlformats.org/officeDocument/2006/relationships/slideLayout" Target="../slideLayouts/slideLayout14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0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5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6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4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5.png"/><Relationship Id="rId3" Type="http://schemas.openxmlformats.org/officeDocument/2006/relationships/hyperlink" Target="http://www.cisco.com/warp/public/759/ipj_4-4/ipj_4-4_regional.html" TargetMode="External"/><Relationship Id="rId4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4.wmf"/><Relationship Id="rId7" Type="http://schemas.openxmlformats.org/officeDocument/2006/relationships/image" Target="../media/image24.wmf"/><Relationship Id="rId8" Type="http://schemas.openxmlformats.org/officeDocument/2006/relationships/image" Target="../media/image24.wmf"/><Relationship Id="rId9" Type="http://schemas.openxmlformats.org/officeDocument/2006/relationships/image" Target="../media/image24.wmf"/><Relationship Id="rId10" Type="http://schemas.openxmlformats.org/officeDocument/2006/relationships/image" Target="../media/image24.wmf"/><Relationship Id="rId11" Type="http://schemas.openxmlformats.org/officeDocument/2006/relationships/image" Target="../media/image24.wmf"/><Relationship Id="rId12" Type="http://schemas.openxmlformats.org/officeDocument/2006/relationships/image" Target="../media/image24.wmf"/><Relationship Id="rId13" Type="http://schemas.openxmlformats.org/officeDocument/2006/relationships/image" Target="../media/image24.wmf"/><Relationship Id="rId14" Type="http://schemas.openxmlformats.org/officeDocument/2006/relationships/image" Target="../media/image24.wmf"/><Relationship Id="rId15" Type="http://schemas.openxmlformats.org/officeDocument/2006/relationships/image" Target="../media/image24.wmf"/><Relationship Id="rId16" Type="http://schemas.openxmlformats.org/officeDocument/2006/relationships/image" Target="../media/image24.wmf"/><Relationship Id="rId17" Type="http://schemas.openxmlformats.org/officeDocument/2006/relationships/image" Target="../media/image24.wmf"/><Relationship Id="rId18" Type="http://schemas.openxmlformats.org/officeDocument/2006/relationships/image" Target="../media/image24.wmf"/><Relationship Id="rId19" Type="http://schemas.openxmlformats.org/officeDocument/2006/relationships/image" Target="../media/image24.wmf"/><Relationship Id="rId20" Type="http://schemas.openxmlformats.org/officeDocument/2006/relationships/image" Target="../media/image24.wmf"/><Relationship Id="rId21" Type="http://schemas.openxmlformats.org/officeDocument/2006/relationships/image" Target="../media/image24.wmf"/><Relationship Id="rId22" Type="http://schemas.openxmlformats.org/officeDocument/2006/relationships/image" Target="../media/image24.wmf"/><Relationship Id="rId23" Type="http://schemas.openxmlformats.org/officeDocument/2006/relationships/image" Target="../media/image24.wmf"/><Relationship Id="rId24" Type="http://schemas.openxmlformats.org/officeDocument/2006/relationships/image" Target="../media/image24.wmf"/><Relationship Id="rId25" Type="http://schemas.openxmlformats.org/officeDocument/2006/relationships/image" Target="../media/image24.wmf"/><Relationship Id="rId26" Type="http://schemas.openxmlformats.org/officeDocument/2006/relationships/image" Target="../media/image24.wmf"/><Relationship Id="rId27" Type="http://schemas.openxmlformats.org/officeDocument/2006/relationships/image" Target="../media/image24.wmf"/><Relationship Id="rId28" Type="http://schemas.openxmlformats.org/officeDocument/2006/relationships/image" Target="../media/image24.wmf"/><Relationship Id="rId29" Type="http://schemas.openxmlformats.org/officeDocument/2006/relationships/image" Target="../media/image24.wmf"/><Relationship Id="rId30" Type="http://schemas.openxmlformats.org/officeDocument/2006/relationships/image" Target="../media/image24.wmf"/><Relationship Id="rId31" Type="http://schemas.openxmlformats.org/officeDocument/2006/relationships/image" Target="../media/image24.wmf"/><Relationship Id="rId32" Type="http://schemas.openxmlformats.org/officeDocument/2006/relationships/image" Target="../media/image24.wmf"/><Relationship Id="rId33" Type="http://schemas.openxmlformats.org/officeDocument/2006/relationships/image" Target="../media/image24.wmf"/><Relationship Id="rId34" Type="http://schemas.openxmlformats.org/officeDocument/2006/relationships/image" Target="../media/image24.wmf"/><Relationship Id="rId35" Type="http://schemas.openxmlformats.org/officeDocument/2006/relationships/image" Target="../media/image24.wmf"/><Relationship Id="rId36" Type="http://schemas.openxmlformats.org/officeDocument/2006/relationships/image" Target="../media/image24.wmf"/><Relationship Id="rId37" Type="http://schemas.openxmlformats.org/officeDocument/2006/relationships/image" Target="../media/image24.wmf"/><Relationship Id="rId38" Type="http://schemas.openxmlformats.org/officeDocument/2006/relationships/image" Target="../media/image24.wmf"/><Relationship Id="rId39" Type="http://schemas.openxmlformats.org/officeDocument/2006/relationships/image" Target="../media/image24.wmf"/><Relationship Id="rId40" Type="http://schemas.openxmlformats.org/officeDocument/2006/relationships/image" Target="../media/image24.wmf"/><Relationship Id="rId41" Type="http://schemas.openxmlformats.org/officeDocument/2006/relationships/image" Target="../media/image24.wmf"/><Relationship Id="rId42" Type="http://schemas.openxmlformats.org/officeDocument/2006/relationships/image" Target="../media/image24.wmf"/><Relationship Id="rId43" Type="http://schemas.openxmlformats.org/officeDocument/2006/relationships/image" Target="../media/image24.wmf"/><Relationship Id="rId44" Type="http://schemas.openxmlformats.org/officeDocument/2006/relationships/image" Target="../media/image24.wmf"/><Relationship Id="rId45" Type="http://schemas.openxmlformats.org/officeDocument/2006/relationships/image" Target="../media/image24.wmf"/><Relationship Id="rId46" Type="http://schemas.openxmlformats.org/officeDocument/2006/relationships/image" Target="../media/image24.wmf"/><Relationship Id="rId47" Type="http://schemas.openxmlformats.org/officeDocument/2006/relationships/image" Target="../media/image24.wmf"/><Relationship Id="rId48" Type="http://schemas.openxmlformats.org/officeDocument/2006/relationships/image" Target="../media/image24.wmf"/><Relationship Id="rId49" Type="http://schemas.openxmlformats.org/officeDocument/2006/relationships/image" Target="../media/image24.wmf"/><Relationship Id="rId50" Type="http://schemas.openxmlformats.org/officeDocument/2006/relationships/image" Target="../media/image24.wmf"/><Relationship Id="rId51" Type="http://schemas.openxmlformats.org/officeDocument/2006/relationships/image" Target="../media/image24.wmf"/><Relationship Id="rId52" Type="http://schemas.openxmlformats.org/officeDocument/2006/relationships/image" Target="../media/image24.wmf"/><Relationship Id="rId53" Type="http://schemas.openxmlformats.org/officeDocument/2006/relationships/image" Target="../media/image24.wmf"/><Relationship Id="rId54" Type="http://schemas.openxmlformats.org/officeDocument/2006/relationships/image" Target="../media/image24.wmf"/><Relationship Id="rId55" Type="http://schemas.openxmlformats.org/officeDocument/2006/relationships/image" Target="../media/image24.wmf"/><Relationship Id="rId56" Type="http://schemas.openxmlformats.org/officeDocument/2006/relationships/image" Target="../media/image24.wmf"/><Relationship Id="rId57" Type="http://schemas.openxmlformats.org/officeDocument/2006/relationships/image" Target="../media/image24.wmf"/><Relationship Id="rId58" Type="http://schemas.openxmlformats.org/officeDocument/2006/relationships/image" Target="../media/image24.wmf"/><Relationship Id="rId59" Type="http://schemas.openxmlformats.org/officeDocument/2006/relationships/image" Target="../media/image24.wmf"/><Relationship Id="rId60" Type="http://schemas.openxmlformats.org/officeDocument/2006/relationships/image" Target="../media/image24.wmf"/><Relationship Id="rId61" Type="http://schemas.openxmlformats.org/officeDocument/2006/relationships/image" Target="../media/image24.wmf"/><Relationship Id="rId62" Type="http://schemas.openxmlformats.org/officeDocument/2006/relationships/image" Target="../media/image24.wmf"/><Relationship Id="rId63" Type="http://schemas.openxmlformats.org/officeDocument/2006/relationships/image" Target="../media/image24.wmf"/><Relationship Id="rId64" Type="http://schemas.openxmlformats.org/officeDocument/2006/relationships/image" Target="../media/image24.wmf"/><Relationship Id="rId65" Type="http://schemas.openxmlformats.org/officeDocument/2006/relationships/image" Target="../media/image24.wmf"/><Relationship Id="rId66" Type="http://schemas.openxmlformats.org/officeDocument/2006/relationships/image" Target="../media/image24.wmf"/><Relationship Id="rId67" Type="http://schemas.openxmlformats.org/officeDocument/2006/relationships/image" Target="../media/image24.wmf"/><Relationship Id="rId68" Type="http://schemas.openxmlformats.org/officeDocument/2006/relationships/image" Target="../media/image24.wmf"/><Relationship Id="rId69" Type="http://schemas.openxmlformats.org/officeDocument/2006/relationships/image" Target="../media/image24.wmf"/><Relationship Id="rId70" Type="http://schemas.openxmlformats.org/officeDocument/2006/relationships/image" Target="../media/image24.wmf"/><Relationship Id="rId71" Type="http://schemas.openxmlformats.org/officeDocument/2006/relationships/image" Target="../media/image24.wmf"/><Relationship Id="rId72" Type="http://schemas.openxmlformats.org/officeDocument/2006/relationships/image" Target="../media/image24.wmf"/><Relationship Id="rId73" Type="http://schemas.openxmlformats.org/officeDocument/2006/relationships/image" Target="../media/image24.wmf"/><Relationship Id="rId74" Type="http://schemas.openxmlformats.org/officeDocument/2006/relationships/image" Target="../media/image24.wmf"/><Relationship Id="rId75" Type="http://schemas.openxmlformats.org/officeDocument/2006/relationships/image" Target="../media/image24.wmf"/><Relationship Id="rId76" Type="http://schemas.openxmlformats.org/officeDocument/2006/relationships/image" Target="../media/image24.wmf"/><Relationship Id="rId77" Type="http://schemas.openxmlformats.org/officeDocument/2006/relationships/image" Target="../media/image24.wmf"/><Relationship Id="rId78" Type="http://schemas.openxmlformats.org/officeDocument/2006/relationships/image" Target="../media/image24.wmf"/><Relationship Id="rId79" Type="http://schemas.openxmlformats.org/officeDocument/2006/relationships/image" Target="../media/image24.wmf"/><Relationship Id="rId80" Type="http://schemas.openxmlformats.org/officeDocument/2006/relationships/image" Target="../media/image24.wmf"/><Relationship Id="rId81" Type="http://schemas.openxmlformats.org/officeDocument/2006/relationships/image" Target="../media/image24.wmf"/><Relationship Id="rId82" Type="http://schemas.openxmlformats.org/officeDocument/2006/relationships/image" Target="../media/image24.wmf"/><Relationship Id="rId83" Type="http://schemas.openxmlformats.org/officeDocument/2006/relationships/image" Target="../media/image24.wmf"/><Relationship Id="rId84" Type="http://schemas.openxmlformats.org/officeDocument/2006/relationships/image" Target="../media/image24.wmf"/><Relationship Id="rId85" Type="http://schemas.openxmlformats.org/officeDocument/2006/relationships/image" Target="../media/image24.wmf"/><Relationship Id="rId86" Type="http://schemas.openxmlformats.org/officeDocument/2006/relationships/image" Target="../media/image24.wmf"/><Relationship Id="rId87" Type="http://schemas.openxmlformats.org/officeDocument/2006/relationships/image" Target="../media/image24.wmf"/><Relationship Id="rId88" Type="http://schemas.openxmlformats.org/officeDocument/2006/relationships/image" Target="../media/image24.wmf"/><Relationship Id="rId89" Type="http://schemas.openxmlformats.org/officeDocument/2006/relationships/image" Target="../media/image24.wmf"/><Relationship Id="rId90" Type="http://schemas.openxmlformats.org/officeDocument/2006/relationships/image" Target="../media/image24.wmf"/><Relationship Id="rId91" Type="http://schemas.openxmlformats.org/officeDocument/2006/relationships/image" Target="../media/image24.wmf"/><Relationship Id="rId92" Type="http://schemas.openxmlformats.org/officeDocument/2006/relationships/image" Target="../media/image24.wmf"/><Relationship Id="rId93" Type="http://schemas.openxmlformats.org/officeDocument/2006/relationships/image" Target="../media/image24.wmf"/><Relationship Id="rId94" Type="http://schemas.openxmlformats.org/officeDocument/2006/relationships/image" Target="../media/image24.wmf"/><Relationship Id="rId95" Type="http://schemas.openxmlformats.org/officeDocument/2006/relationships/image" Target="../media/image24.wmf"/><Relationship Id="rId96" Type="http://schemas.openxmlformats.org/officeDocument/2006/relationships/image" Target="../media/image24.wmf"/><Relationship Id="rId97" Type="http://schemas.openxmlformats.org/officeDocument/2006/relationships/image" Target="../media/image24.wmf"/><Relationship Id="rId98" Type="http://schemas.openxmlformats.org/officeDocument/2006/relationships/image" Target="../media/image24.wmf"/><Relationship Id="rId99" Type="http://schemas.openxmlformats.org/officeDocument/2006/relationships/image" Target="../media/image24.wmf"/><Relationship Id="rId100" Type="http://schemas.openxmlformats.org/officeDocument/2006/relationships/image" Target="../media/image24.wmf"/><Relationship Id="rId101" Type="http://schemas.openxmlformats.org/officeDocument/2006/relationships/image" Target="../media/image24.wmf"/><Relationship Id="rId102" Type="http://schemas.openxmlformats.org/officeDocument/2006/relationships/image" Target="../media/image24.wmf"/><Relationship Id="rId103" Type="http://schemas.openxmlformats.org/officeDocument/2006/relationships/image" Target="../media/image24.wmf"/><Relationship Id="rId104" Type="http://schemas.openxmlformats.org/officeDocument/2006/relationships/image" Target="../media/image24.wmf"/><Relationship Id="rId105" Type="http://schemas.openxmlformats.org/officeDocument/2006/relationships/image" Target="../media/image24.wmf"/><Relationship Id="rId106" Type="http://schemas.openxmlformats.org/officeDocument/2006/relationships/image" Target="../media/image24.wmf"/><Relationship Id="rId107" Type="http://schemas.openxmlformats.org/officeDocument/2006/relationships/image" Target="../media/image24.wmf"/><Relationship Id="rId108" Type="http://schemas.openxmlformats.org/officeDocument/2006/relationships/image" Target="../media/image24.wmf"/><Relationship Id="rId109" Type="http://schemas.openxmlformats.org/officeDocument/2006/relationships/image" Target="../media/image24.wmf"/><Relationship Id="rId110" Type="http://schemas.openxmlformats.org/officeDocument/2006/relationships/image" Target="../media/image24.wmf"/><Relationship Id="rId111" Type="http://schemas.openxmlformats.org/officeDocument/2006/relationships/image" Target="../media/image24.wmf"/><Relationship Id="rId112" Type="http://schemas.openxmlformats.org/officeDocument/2006/relationships/image" Target="../media/image24.wmf"/><Relationship Id="rId113" Type="http://schemas.openxmlformats.org/officeDocument/2006/relationships/image" Target="../media/image24.wmf"/><Relationship Id="rId114" Type="http://schemas.openxmlformats.org/officeDocument/2006/relationships/image" Target="../media/image24.wmf"/><Relationship Id="rId115" Type="http://schemas.openxmlformats.org/officeDocument/2006/relationships/image" Target="../media/image24.wmf"/><Relationship Id="rId116" Type="http://schemas.openxmlformats.org/officeDocument/2006/relationships/image" Target="../media/image24.wmf"/><Relationship Id="rId117" Type="http://schemas.openxmlformats.org/officeDocument/2006/relationships/image" Target="../media/image24.wmf"/><Relationship Id="rId118" Type="http://schemas.openxmlformats.org/officeDocument/2006/relationships/image" Target="../media/image24.wmf"/><Relationship Id="rId119" Type="http://schemas.openxmlformats.org/officeDocument/2006/relationships/image" Target="../media/image24.wmf"/><Relationship Id="rId120" Type="http://schemas.openxmlformats.org/officeDocument/2006/relationships/image" Target="../media/image24.wmf"/><Relationship Id="rId121" Type="http://schemas.openxmlformats.org/officeDocument/2006/relationships/image" Target="../media/image24.wmf"/><Relationship Id="rId122" Type="http://schemas.openxmlformats.org/officeDocument/2006/relationships/image" Target="../media/image24.wmf"/><Relationship Id="rId123" Type="http://schemas.openxmlformats.org/officeDocument/2006/relationships/image" Target="../media/image24.wmf"/><Relationship Id="rId124" Type="http://schemas.openxmlformats.org/officeDocument/2006/relationships/image" Target="../media/image24.wmf"/><Relationship Id="rId125" Type="http://schemas.openxmlformats.org/officeDocument/2006/relationships/image" Target="../media/image24.wmf"/><Relationship Id="rId126" Type="http://schemas.openxmlformats.org/officeDocument/2006/relationships/image" Target="../media/image24.wmf"/><Relationship Id="rId127" Type="http://schemas.openxmlformats.org/officeDocument/2006/relationships/image" Target="../media/image24.wmf"/><Relationship Id="rId128" Type="http://schemas.openxmlformats.org/officeDocument/2006/relationships/image" Target="../media/image24.wmf"/><Relationship Id="rId129" Type="http://schemas.openxmlformats.org/officeDocument/2006/relationships/image" Target="../media/image24.wmf"/><Relationship Id="rId130" Type="http://schemas.openxmlformats.org/officeDocument/2006/relationships/image" Target="../media/image24.wmf"/><Relationship Id="rId131" Type="http://schemas.openxmlformats.org/officeDocument/2006/relationships/image" Target="../media/image24.wmf"/><Relationship Id="rId132" Type="http://schemas.openxmlformats.org/officeDocument/2006/relationships/image" Target="../media/image24.wmf"/><Relationship Id="rId133" Type="http://schemas.openxmlformats.org/officeDocument/2006/relationships/image" Target="../media/image24.wmf"/><Relationship Id="rId134" Type="http://schemas.openxmlformats.org/officeDocument/2006/relationships/image" Target="../media/image24.wmf"/><Relationship Id="rId135" Type="http://schemas.openxmlformats.org/officeDocument/2006/relationships/image" Target="../media/image24.wmf"/><Relationship Id="rId136" Type="http://schemas.openxmlformats.org/officeDocument/2006/relationships/image" Target="../media/image24.wmf"/><Relationship Id="rId137" Type="http://schemas.openxmlformats.org/officeDocument/2006/relationships/image" Target="../media/image24.wmf"/><Relationship Id="rId138" Type="http://schemas.openxmlformats.org/officeDocument/2006/relationships/image" Target="../media/image24.wmf"/><Relationship Id="rId139" Type="http://schemas.openxmlformats.org/officeDocument/2006/relationships/image" Target="../media/image24.wmf"/><Relationship Id="rId140" Type="http://schemas.openxmlformats.org/officeDocument/2006/relationships/image" Target="../media/image24.wmf"/><Relationship Id="rId141" Type="http://schemas.openxmlformats.org/officeDocument/2006/relationships/image" Target="../media/image24.wmf"/><Relationship Id="rId142" Type="http://schemas.openxmlformats.org/officeDocument/2006/relationships/image" Target="../media/image24.wmf"/><Relationship Id="rId143" Type="http://schemas.openxmlformats.org/officeDocument/2006/relationships/image" Target="../media/image24.wmf"/><Relationship Id="rId144" Type="http://schemas.openxmlformats.org/officeDocument/2006/relationships/image" Target="../media/image24.wmf"/><Relationship Id="rId145" Type="http://schemas.openxmlformats.org/officeDocument/2006/relationships/image" Target="../media/image24.wmf"/><Relationship Id="rId146" Type="http://schemas.openxmlformats.org/officeDocument/2006/relationships/image" Target="../media/image24.wmf"/><Relationship Id="rId147" Type="http://schemas.openxmlformats.org/officeDocument/2006/relationships/image" Target="../media/image24.wmf"/><Relationship Id="rId148" Type="http://schemas.openxmlformats.org/officeDocument/2006/relationships/image" Target="../media/image24.wmf"/><Relationship Id="rId149" Type="http://schemas.openxmlformats.org/officeDocument/2006/relationships/image" Target="../media/image24.wmf"/><Relationship Id="rId150" Type="http://schemas.openxmlformats.org/officeDocument/2006/relationships/image" Target="../media/image24.wmf"/><Relationship Id="rId151" Type="http://schemas.openxmlformats.org/officeDocument/2006/relationships/image" Target="../media/image24.wmf"/><Relationship Id="rId152" Type="http://schemas.openxmlformats.org/officeDocument/2006/relationships/image" Target="../media/image24.wmf"/><Relationship Id="rId153" Type="http://schemas.openxmlformats.org/officeDocument/2006/relationships/image" Target="../media/image24.wmf"/><Relationship Id="rId154" Type="http://schemas.openxmlformats.org/officeDocument/2006/relationships/image" Target="../media/image24.wmf"/><Relationship Id="rId155" Type="http://schemas.openxmlformats.org/officeDocument/2006/relationships/image" Target="../media/image24.wmf"/><Relationship Id="rId156" Type="http://schemas.openxmlformats.org/officeDocument/2006/relationships/image" Target="../media/image24.wmf"/><Relationship Id="rId157" Type="http://schemas.openxmlformats.org/officeDocument/2006/relationships/image" Target="../media/image25.wmf"/><Relationship Id="rId158" Type="http://schemas.openxmlformats.org/officeDocument/2006/relationships/image" Target="../media/image25.wmf"/><Relationship Id="rId159" Type="http://schemas.openxmlformats.org/officeDocument/2006/relationships/image" Target="../media/image25.wmf"/><Relationship Id="rId160" Type="http://schemas.openxmlformats.org/officeDocument/2006/relationships/image" Target="../media/image25.wmf"/><Relationship Id="rId161" Type="http://schemas.openxmlformats.org/officeDocument/2006/relationships/image" Target="../media/image25.wmf"/><Relationship Id="rId162" Type="http://schemas.openxmlformats.org/officeDocument/2006/relationships/image" Target="../media/image25.wmf"/><Relationship Id="rId163" Type="http://schemas.openxmlformats.org/officeDocument/2006/relationships/image" Target="../media/image25.wmf"/><Relationship Id="rId164" Type="http://schemas.openxmlformats.org/officeDocument/2006/relationships/image" Target="../media/image25.wmf"/><Relationship Id="rId165" Type="http://schemas.openxmlformats.org/officeDocument/2006/relationships/image" Target="../media/image25.wmf"/><Relationship Id="rId166" Type="http://schemas.openxmlformats.org/officeDocument/2006/relationships/image" Target="../media/image25.wmf"/><Relationship Id="rId167" Type="http://schemas.openxmlformats.org/officeDocument/2006/relationships/image" Target="../media/image25.wmf"/><Relationship Id="rId168" Type="http://schemas.openxmlformats.org/officeDocument/2006/relationships/image" Target="../media/image25.wmf"/><Relationship Id="rId169" Type="http://schemas.openxmlformats.org/officeDocument/2006/relationships/image" Target="../media/image25.wmf"/><Relationship Id="rId170" Type="http://schemas.openxmlformats.org/officeDocument/2006/relationships/image" Target="../media/image25.wmf"/><Relationship Id="rId171" Type="http://schemas.openxmlformats.org/officeDocument/2006/relationships/image" Target="../media/image25.wmf"/><Relationship Id="rId172" Type="http://schemas.openxmlformats.org/officeDocument/2006/relationships/image" Target="../media/image25.wmf"/><Relationship Id="rId173" Type="http://schemas.openxmlformats.org/officeDocument/2006/relationships/image" Target="../media/image25.wmf"/><Relationship Id="rId174" Type="http://schemas.openxmlformats.org/officeDocument/2006/relationships/image" Target="../media/image25.wmf"/><Relationship Id="rId175" Type="http://schemas.openxmlformats.org/officeDocument/2006/relationships/image" Target="../media/image25.wmf"/><Relationship Id="rId176" Type="http://schemas.openxmlformats.org/officeDocument/2006/relationships/image" Target="../media/image25.wmf"/><Relationship Id="rId177" Type="http://schemas.openxmlformats.org/officeDocument/2006/relationships/image" Target="../media/image25.wmf"/><Relationship Id="rId178" Type="http://schemas.openxmlformats.org/officeDocument/2006/relationships/image" Target="../media/image25.wmf"/><Relationship Id="rId179" Type="http://schemas.openxmlformats.org/officeDocument/2006/relationships/image" Target="../media/image25.wmf"/><Relationship Id="rId180" Type="http://schemas.openxmlformats.org/officeDocument/2006/relationships/image" Target="../media/image25.wmf"/><Relationship Id="rId181" Type="http://schemas.openxmlformats.org/officeDocument/2006/relationships/image" Target="../media/image25.wmf"/><Relationship Id="rId182" Type="http://schemas.openxmlformats.org/officeDocument/2006/relationships/image" Target="../media/image25.wmf"/><Relationship Id="rId183" Type="http://schemas.openxmlformats.org/officeDocument/2006/relationships/image" Target="../media/image25.wmf"/><Relationship Id="rId184" Type="http://schemas.openxmlformats.org/officeDocument/2006/relationships/image" Target="../media/image25.wmf"/><Relationship Id="rId185" Type="http://schemas.openxmlformats.org/officeDocument/2006/relationships/image" Target="../media/image25.wmf"/><Relationship Id="rId186" Type="http://schemas.openxmlformats.org/officeDocument/2006/relationships/image" Target="../media/image25.wmf"/><Relationship Id="rId187" Type="http://schemas.openxmlformats.org/officeDocument/2006/relationships/image" Target="../media/image25.wmf"/><Relationship Id="rId188" Type="http://schemas.openxmlformats.org/officeDocument/2006/relationships/image" Target="../media/image25.wmf"/><Relationship Id="rId189" Type="http://schemas.openxmlformats.org/officeDocument/2006/relationships/image" Target="../media/image25.wmf"/><Relationship Id="rId190" Type="http://schemas.openxmlformats.org/officeDocument/2006/relationships/image" Target="../media/image25.wmf"/><Relationship Id="rId191" Type="http://schemas.openxmlformats.org/officeDocument/2006/relationships/image" Target="../media/image25.wmf"/><Relationship Id="rId192" Type="http://schemas.openxmlformats.org/officeDocument/2006/relationships/image" Target="../media/image25.wmf"/><Relationship Id="rId193" Type="http://schemas.openxmlformats.org/officeDocument/2006/relationships/image" Target="../media/image25.wmf"/><Relationship Id="rId19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26.wmf"/><Relationship Id="rId4" Type="http://schemas.openxmlformats.org/officeDocument/2006/relationships/image" Target="../media/image25.wmf"/><Relationship Id="rId5" Type="http://schemas.openxmlformats.org/officeDocument/2006/relationships/image" Target="../media/image25.wmf"/><Relationship Id="rId6" Type="http://schemas.openxmlformats.org/officeDocument/2006/relationships/image" Target="../media/image25.wmf"/><Relationship Id="rId7" Type="http://schemas.openxmlformats.org/officeDocument/2006/relationships/image" Target="../media/image25.wmf"/><Relationship Id="rId8" Type="http://schemas.openxmlformats.org/officeDocument/2006/relationships/image" Target="../media/image25.wmf"/><Relationship Id="rId9" Type="http://schemas.openxmlformats.org/officeDocument/2006/relationships/image" Target="../media/image25.wmf"/><Relationship Id="rId10" Type="http://schemas.openxmlformats.org/officeDocument/2006/relationships/image" Target="../media/image25.wmf"/><Relationship Id="rId11" Type="http://schemas.openxmlformats.org/officeDocument/2006/relationships/image" Target="../media/image25.wmf"/><Relationship Id="rId12" Type="http://schemas.openxmlformats.org/officeDocument/2006/relationships/image" Target="../media/image25.wmf"/><Relationship Id="rId13" Type="http://schemas.openxmlformats.org/officeDocument/2006/relationships/image" Target="../media/image25.wmf"/><Relationship Id="rId14" Type="http://schemas.openxmlformats.org/officeDocument/2006/relationships/image" Target="../media/image25.wmf"/><Relationship Id="rId15" Type="http://schemas.openxmlformats.org/officeDocument/2006/relationships/image" Target="../media/image25.wmf"/><Relationship Id="rId16" Type="http://schemas.openxmlformats.org/officeDocument/2006/relationships/image" Target="../media/image25.wmf"/><Relationship Id="rId17" Type="http://schemas.openxmlformats.org/officeDocument/2006/relationships/image" Target="../media/image25.wmf"/><Relationship Id="rId18" Type="http://schemas.openxmlformats.org/officeDocument/2006/relationships/image" Target="../media/image25.wmf"/><Relationship Id="rId19" Type="http://schemas.openxmlformats.org/officeDocument/2006/relationships/image" Target="../media/image25.wmf"/><Relationship Id="rId20" Type="http://schemas.openxmlformats.org/officeDocument/2006/relationships/image" Target="../media/image25.wmf"/><Relationship Id="rId21" Type="http://schemas.openxmlformats.org/officeDocument/2006/relationships/image" Target="../media/image25.wmf"/><Relationship Id="rId22" Type="http://schemas.openxmlformats.org/officeDocument/2006/relationships/image" Target="../media/image25.wmf"/><Relationship Id="rId23" Type="http://schemas.openxmlformats.org/officeDocument/2006/relationships/image" Target="../media/image25.wmf"/><Relationship Id="rId24" Type="http://schemas.openxmlformats.org/officeDocument/2006/relationships/image" Target="../media/image25.wmf"/><Relationship Id="rId25" Type="http://schemas.openxmlformats.org/officeDocument/2006/relationships/image" Target="../media/image25.wmf"/><Relationship Id="rId26" Type="http://schemas.openxmlformats.org/officeDocument/2006/relationships/image" Target="../media/image25.wmf"/><Relationship Id="rId27" Type="http://schemas.openxmlformats.org/officeDocument/2006/relationships/image" Target="../media/image25.wmf"/><Relationship Id="rId28" Type="http://schemas.openxmlformats.org/officeDocument/2006/relationships/image" Target="../media/image25.wmf"/><Relationship Id="rId29" Type="http://schemas.openxmlformats.org/officeDocument/2006/relationships/image" Target="../media/image25.wmf"/><Relationship Id="rId30" Type="http://schemas.openxmlformats.org/officeDocument/2006/relationships/image" Target="../media/image25.wmf"/><Relationship Id="rId31" Type="http://schemas.openxmlformats.org/officeDocument/2006/relationships/image" Target="../media/image25.wmf"/><Relationship Id="rId32" Type="http://schemas.openxmlformats.org/officeDocument/2006/relationships/image" Target="../media/image25.wmf"/><Relationship Id="rId33" Type="http://schemas.openxmlformats.org/officeDocument/2006/relationships/image" Target="../media/image25.wmf"/><Relationship Id="rId34" Type="http://schemas.openxmlformats.org/officeDocument/2006/relationships/image" Target="../media/image25.wmf"/><Relationship Id="rId35" Type="http://schemas.openxmlformats.org/officeDocument/2006/relationships/image" Target="../media/image25.wmf"/><Relationship Id="rId36" Type="http://schemas.openxmlformats.org/officeDocument/2006/relationships/image" Target="../media/image25.wmf"/><Relationship Id="rId37" Type="http://schemas.openxmlformats.org/officeDocument/2006/relationships/image" Target="../media/image25.wmf"/><Relationship Id="rId38" Type="http://schemas.openxmlformats.org/officeDocument/2006/relationships/image" Target="../media/image25.wmf"/><Relationship Id="rId39" Type="http://schemas.openxmlformats.org/officeDocument/2006/relationships/image" Target="../media/image25.wmf"/><Relationship Id="rId40" Type="http://schemas.openxmlformats.org/officeDocument/2006/relationships/image" Target="../media/image25.wmf"/><Relationship Id="rId41" Type="http://schemas.openxmlformats.org/officeDocument/2006/relationships/image" Target="../media/image24.wmf"/><Relationship Id="rId42" Type="http://schemas.openxmlformats.org/officeDocument/2006/relationships/image" Target="../media/image24.wmf"/><Relationship Id="rId43" Type="http://schemas.openxmlformats.org/officeDocument/2006/relationships/image" Target="../media/image24.wmf"/><Relationship Id="rId44" Type="http://schemas.openxmlformats.org/officeDocument/2006/relationships/image" Target="../media/image24.wmf"/><Relationship Id="rId45" Type="http://schemas.openxmlformats.org/officeDocument/2006/relationships/image" Target="../media/image24.wmf"/><Relationship Id="rId46" Type="http://schemas.openxmlformats.org/officeDocument/2006/relationships/image" Target="../media/image24.wmf"/><Relationship Id="rId47" Type="http://schemas.openxmlformats.org/officeDocument/2006/relationships/image" Target="../media/image24.wmf"/><Relationship Id="rId48" Type="http://schemas.openxmlformats.org/officeDocument/2006/relationships/image" Target="../media/image24.wmf"/><Relationship Id="rId49" Type="http://schemas.openxmlformats.org/officeDocument/2006/relationships/image" Target="../media/image24.wmf"/><Relationship Id="rId50" Type="http://schemas.openxmlformats.org/officeDocument/2006/relationships/image" Target="../media/image24.wmf"/><Relationship Id="rId51" Type="http://schemas.openxmlformats.org/officeDocument/2006/relationships/image" Target="../media/image24.wmf"/><Relationship Id="rId52" Type="http://schemas.openxmlformats.org/officeDocument/2006/relationships/image" Target="../media/image24.wmf"/><Relationship Id="rId53" Type="http://schemas.openxmlformats.org/officeDocument/2006/relationships/image" Target="../media/image24.wmf"/><Relationship Id="rId54" Type="http://schemas.openxmlformats.org/officeDocument/2006/relationships/image" Target="../media/image24.wmf"/><Relationship Id="rId55" Type="http://schemas.openxmlformats.org/officeDocument/2006/relationships/image" Target="../media/image24.wmf"/><Relationship Id="rId56" Type="http://schemas.openxmlformats.org/officeDocument/2006/relationships/image" Target="../media/image24.wmf"/><Relationship Id="rId57" Type="http://schemas.openxmlformats.org/officeDocument/2006/relationships/image" Target="../media/image24.wmf"/><Relationship Id="rId58" Type="http://schemas.openxmlformats.org/officeDocument/2006/relationships/image" Target="../media/image24.wmf"/><Relationship Id="rId59" Type="http://schemas.openxmlformats.org/officeDocument/2006/relationships/image" Target="../media/image24.wmf"/><Relationship Id="rId60" Type="http://schemas.openxmlformats.org/officeDocument/2006/relationships/image" Target="../media/image24.wmf"/><Relationship Id="rId61" Type="http://schemas.openxmlformats.org/officeDocument/2006/relationships/image" Target="../media/image24.wmf"/><Relationship Id="rId62" Type="http://schemas.openxmlformats.org/officeDocument/2006/relationships/image" Target="../media/image24.wmf"/><Relationship Id="rId63" Type="http://schemas.openxmlformats.org/officeDocument/2006/relationships/image" Target="../media/image24.wmf"/><Relationship Id="rId64" Type="http://schemas.openxmlformats.org/officeDocument/2006/relationships/image" Target="../media/image24.wmf"/><Relationship Id="rId65" Type="http://schemas.openxmlformats.org/officeDocument/2006/relationships/image" Target="../media/image24.wmf"/><Relationship Id="rId66" Type="http://schemas.openxmlformats.org/officeDocument/2006/relationships/image" Target="../media/image24.wmf"/><Relationship Id="rId67" Type="http://schemas.openxmlformats.org/officeDocument/2006/relationships/image" Target="../media/image24.wmf"/><Relationship Id="rId68" Type="http://schemas.openxmlformats.org/officeDocument/2006/relationships/image" Target="../media/image24.wmf"/><Relationship Id="rId69" Type="http://schemas.openxmlformats.org/officeDocument/2006/relationships/image" Target="../media/image24.wmf"/><Relationship Id="rId70" Type="http://schemas.openxmlformats.org/officeDocument/2006/relationships/image" Target="../media/image24.wmf"/><Relationship Id="rId71" Type="http://schemas.openxmlformats.org/officeDocument/2006/relationships/image" Target="../media/image24.wmf"/><Relationship Id="rId72" Type="http://schemas.openxmlformats.org/officeDocument/2006/relationships/image" Target="../media/image24.wmf"/><Relationship Id="rId73" Type="http://schemas.openxmlformats.org/officeDocument/2006/relationships/image" Target="../media/image24.wmf"/><Relationship Id="rId74" Type="http://schemas.openxmlformats.org/officeDocument/2006/relationships/image" Target="../media/image24.wmf"/><Relationship Id="rId75" Type="http://schemas.openxmlformats.org/officeDocument/2006/relationships/image" Target="../media/image24.wmf"/><Relationship Id="rId76" Type="http://schemas.openxmlformats.org/officeDocument/2006/relationships/image" Target="../media/image24.wmf"/><Relationship Id="rId77" Type="http://schemas.openxmlformats.org/officeDocument/2006/relationships/image" Target="../media/image24.wmf"/><Relationship Id="rId78" Type="http://schemas.openxmlformats.org/officeDocument/2006/relationships/image" Target="../media/image24.wmf"/><Relationship Id="rId79" Type="http://schemas.openxmlformats.org/officeDocument/2006/relationships/image" Target="../media/image24.wmf"/><Relationship Id="rId80" Type="http://schemas.openxmlformats.org/officeDocument/2006/relationships/image" Target="../media/image24.wmf"/><Relationship Id="rId81" Type="http://schemas.openxmlformats.org/officeDocument/2006/relationships/image" Target="../media/image24.wmf"/><Relationship Id="rId82" Type="http://schemas.openxmlformats.org/officeDocument/2006/relationships/image" Target="../media/image24.wmf"/><Relationship Id="rId83" Type="http://schemas.openxmlformats.org/officeDocument/2006/relationships/image" Target="../media/image24.wmf"/><Relationship Id="rId84" Type="http://schemas.openxmlformats.org/officeDocument/2006/relationships/image" Target="../media/image24.wmf"/><Relationship Id="rId85" Type="http://schemas.openxmlformats.org/officeDocument/2006/relationships/image" Target="../media/image24.wmf"/><Relationship Id="rId86" Type="http://schemas.openxmlformats.org/officeDocument/2006/relationships/image" Target="../media/image24.wmf"/><Relationship Id="rId87" Type="http://schemas.openxmlformats.org/officeDocument/2006/relationships/image" Target="../media/image24.wmf"/><Relationship Id="rId88" Type="http://schemas.openxmlformats.org/officeDocument/2006/relationships/image" Target="../media/image24.wmf"/><Relationship Id="rId89" Type="http://schemas.openxmlformats.org/officeDocument/2006/relationships/image" Target="../media/image24.wmf"/><Relationship Id="rId90" Type="http://schemas.openxmlformats.org/officeDocument/2006/relationships/image" Target="../media/image24.wmf"/><Relationship Id="rId91" Type="http://schemas.openxmlformats.org/officeDocument/2006/relationships/image" Target="../media/image24.wmf"/><Relationship Id="rId92" Type="http://schemas.openxmlformats.org/officeDocument/2006/relationships/image" Target="../media/image24.wmf"/><Relationship Id="rId93" Type="http://schemas.openxmlformats.org/officeDocument/2006/relationships/image" Target="../media/image24.wmf"/><Relationship Id="rId94" Type="http://schemas.openxmlformats.org/officeDocument/2006/relationships/image" Target="../media/image24.wmf"/><Relationship Id="rId95" Type="http://schemas.openxmlformats.org/officeDocument/2006/relationships/image" Target="../media/image24.wmf"/><Relationship Id="rId96" Type="http://schemas.openxmlformats.org/officeDocument/2006/relationships/image" Target="../media/image24.wmf"/><Relationship Id="rId97" Type="http://schemas.openxmlformats.org/officeDocument/2006/relationships/image" Target="../media/image24.wmf"/><Relationship Id="rId98" Type="http://schemas.openxmlformats.org/officeDocument/2006/relationships/image" Target="../media/image24.wmf"/><Relationship Id="rId99" Type="http://schemas.openxmlformats.org/officeDocument/2006/relationships/image" Target="../media/image24.wmf"/><Relationship Id="rId100" Type="http://schemas.openxmlformats.org/officeDocument/2006/relationships/image" Target="../media/image24.wmf"/><Relationship Id="rId101" Type="http://schemas.openxmlformats.org/officeDocument/2006/relationships/image" Target="../media/image24.wmf"/><Relationship Id="rId102" Type="http://schemas.openxmlformats.org/officeDocument/2006/relationships/image" Target="../media/image24.wmf"/><Relationship Id="rId103" Type="http://schemas.openxmlformats.org/officeDocument/2006/relationships/image" Target="../media/image24.wmf"/><Relationship Id="rId104" Type="http://schemas.openxmlformats.org/officeDocument/2006/relationships/image" Target="../media/image24.wmf"/><Relationship Id="rId105" Type="http://schemas.openxmlformats.org/officeDocument/2006/relationships/image" Target="../media/image24.wmf"/><Relationship Id="rId106" Type="http://schemas.openxmlformats.org/officeDocument/2006/relationships/image" Target="../media/image24.wmf"/><Relationship Id="rId107" Type="http://schemas.openxmlformats.org/officeDocument/2006/relationships/image" Target="../media/image24.wmf"/><Relationship Id="rId108" Type="http://schemas.openxmlformats.org/officeDocument/2006/relationships/image" Target="../media/image24.wmf"/><Relationship Id="rId109" Type="http://schemas.openxmlformats.org/officeDocument/2006/relationships/image" Target="../media/image24.wmf"/><Relationship Id="rId110" Type="http://schemas.openxmlformats.org/officeDocument/2006/relationships/image" Target="../media/image24.wmf"/><Relationship Id="rId111" Type="http://schemas.openxmlformats.org/officeDocument/2006/relationships/image" Target="../media/image24.wmf"/><Relationship Id="rId112" Type="http://schemas.openxmlformats.org/officeDocument/2006/relationships/image" Target="../media/image24.wmf"/><Relationship Id="rId113" Type="http://schemas.openxmlformats.org/officeDocument/2006/relationships/image" Target="../media/image24.wmf"/><Relationship Id="rId114" Type="http://schemas.openxmlformats.org/officeDocument/2006/relationships/image" Target="../media/image24.wmf"/><Relationship Id="rId115" Type="http://schemas.openxmlformats.org/officeDocument/2006/relationships/image" Target="../media/image24.wmf"/><Relationship Id="rId116" Type="http://schemas.openxmlformats.org/officeDocument/2006/relationships/image" Target="../media/image24.wmf"/><Relationship Id="rId117" Type="http://schemas.openxmlformats.org/officeDocument/2006/relationships/image" Target="../media/image24.wmf"/><Relationship Id="rId118" Type="http://schemas.openxmlformats.org/officeDocument/2006/relationships/image" Target="../media/image24.wmf"/><Relationship Id="rId119" Type="http://schemas.openxmlformats.org/officeDocument/2006/relationships/image" Target="../media/image24.wmf"/><Relationship Id="rId120" Type="http://schemas.openxmlformats.org/officeDocument/2006/relationships/image" Target="../media/image24.wmf"/><Relationship Id="rId121" Type="http://schemas.openxmlformats.org/officeDocument/2006/relationships/image" Target="../media/image24.wmf"/><Relationship Id="rId122" Type="http://schemas.openxmlformats.org/officeDocument/2006/relationships/image" Target="../media/image24.wmf"/><Relationship Id="rId123" Type="http://schemas.openxmlformats.org/officeDocument/2006/relationships/image" Target="../media/image24.wmf"/><Relationship Id="rId124" Type="http://schemas.openxmlformats.org/officeDocument/2006/relationships/image" Target="../media/image24.wmf"/><Relationship Id="rId125" Type="http://schemas.openxmlformats.org/officeDocument/2006/relationships/image" Target="../media/image24.wmf"/><Relationship Id="rId126" Type="http://schemas.openxmlformats.org/officeDocument/2006/relationships/image" Target="../media/image24.wmf"/><Relationship Id="rId127" Type="http://schemas.openxmlformats.org/officeDocument/2006/relationships/image" Target="../media/image24.wmf"/><Relationship Id="rId128" Type="http://schemas.openxmlformats.org/officeDocument/2006/relationships/image" Target="../media/image24.wmf"/><Relationship Id="rId129" Type="http://schemas.openxmlformats.org/officeDocument/2006/relationships/image" Target="../media/image24.wmf"/><Relationship Id="rId130" Type="http://schemas.openxmlformats.org/officeDocument/2006/relationships/image" Target="../media/image24.wmf"/><Relationship Id="rId131" Type="http://schemas.openxmlformats.org/officeDocument/2006/relationships/image" Target="../media/image24.wmf"/><Relationship Id="rId132" Type="http://schemas.openxmlformats.org/officeDocument/2006/relationships/image" Target="../media/image24.wmf"/><Relationship Id="rId133" Type="http://schemas.openxmlformats.org/officeDocument/2006/relationships/image" Target="../media/image24.wmf"/><Relationship Id="rId134" Type="http://schemas.openxmlformats.org/officeDocument/2006/relationships/image" Target="../media/image24.wmf"/><Relationship Id="rId135" Type="http://schemas.openxmlformats.org/officeDocument/2006/relationships/image" Target="../media/image24.wmf"/><Relationship Id="rId136" Type="http://schemas.openxmlformats.org/officeDocument/2006/relationships/image" Target="../media/image24.wmf"/><Relationship Id="rId137" Type="http://schemas.openxmlformats.org/officeDocument/2006/relationships/image" Target="../media/image24.wmf"/><Relationship Id="rId138" Type="http://schemas.openxmlformats.org/officeDocument/2006/relationships/image" Target="../media/image24.wmf"/><Relationship Id="rId139" Type="http://schemas.openxmlformats.org/officeDocument/2006/relationships/image" Target="../media/image24.wmf"/><Relationship Id="rId140" Type="http://schemas.openxmlformats.org/officeDocument/2006/relationships/image" Target="../media/image24.wmf"/><Relationship Id="rId141" Type="http://schemas.openxmlformats.org/officeDocument/2006/relationships/image" Target="../media/image24.wmf"/><Relationship Id="rId142" Type="http://schemas.openxmlformats.org/officeDocument/2006/relationships/image" Target="../media/image24.wmf"/><Relationship Id="rId143" Type="http://schemas.openxmlformats.org/officeDocument/2006/relationships/image" Target="../media/image24.wmf"/><Relationship Id="rId144" Type="http://schemas.openxmlformats.org/officeDocument/2006/relationships/image" Target="../media/image24.wmf"/><Relationship Id="rId145" Type="http://schemas.openxmlformats.org/officeDocument/2006/relationships/image" Target="../media/image24.wmf"/><Relationship Id="rId146" Type="http://schemas.openxmlformats.org/officeDocument/2006/relationships/image" Target="../media/image24.wmf"/><Relationship Id="rId147" Type="http://schemas.openxmlformats.org/officeDocument/2006/relationships/image" Target="../media/image24.wmf"/><Relationship Id="rId148" Type="http://schemas.openxmlformats.org/officeDocument/2006/relationships/image" Target="../media/image24.wmf"/><Relationship Id="rId149" Type="http://schemas.openxmlformats.org/officeDocument/2006/relationships/image" Target="../media/image24.wmf"/><Relationship Id="rId150" Type="http://schemas.openxmlformats.org/officeDocument/2006/relationships/image" Target="../media/image24.wmf"/><Relationship Id="rId151" Type="http://schemas.openxmlformats.org/officeDocument/2006/relationships/image" Target="../media/image24.wmf"/><Relationship Id="rId152" Type="http://schemas.openxmlformats.org/officeDocument/2006/relationships/image" Target="../media/image24.wmf"/><Relationship Id="rId153" Type="http://schemas.openxmlformats.org/officeDocument/2006/relationships/image" Target="../media/image24.wmf"/><Relationship Id="rId154" Type="http://schemas.openxmlformats.org/officeDocument/2006/relationships/image" Target="../media/image24.wmf"/><Relationship Id="rId155" Type="http://schemas.openxmlformats.org/officeDocument/2006/relationships/image" Target="../media/image24.wmf"/><Relationship Id="rId156" Type="http://schemas.openxmlformats.org/officeDocument/2006/relationships/image" Target="../media/image24.wmf"/><Relationship Id="rId157" Type="http://schemas.openxmlformats.org/officeDocument/2006/relationships/image" Target="../media/image24.wmf"/><Relationship Id="rId158" Type="http://schemas.openxmlformats.org/officeDocument/2006/relationships/image" Target="../media/image24.wmf"/><Relationship Id="rId159" Type="http://schemas.openxmlformats.org/officeDocument/2006/relationships/image" Target="../media/image24.wmf"/><Relationship Id="rId160" Type="http://schemas.openxmlformats.org/officeDocument/2006/relationships/image" Target="../media/image24.wmf"/><Relationship Id="rId161" Type="http://schemas.openxmlformats.org/officeDocument/2006/relationships/image" Target="../media/image24.wmf"/><Relationship Id="rId162" Type="http://schemas.openxmlformats.org/officeDocument/2006/relationships/image" Target="../media/image24.wmf"/><Relationship Id="rId163" Type="http://schemas.openxmlformats.org/officeDocument/2006/relationships/image" Target="../media/image24.wmf"/><Relationship Id="rId164" Type="http://schemas.openxmlformats.org/officeDocument/2006/relationships/image" Target="../media/image24.wmf"/><Relationship Id="rId165" Type="http://schemas.openxmlformats.org/officeDocument/2006/relationships/image" Target="../media/image24.wmf"/><Relationship Id="rId166" Type="http://schemas.openxmlformats.org/officeDocument/2006/relationships/image" Target="../media/image24.wmf"/><Relationship Id="rId167" Type="http://schemas.openxmlformats.org/officeDocument/2006/relationships/image" Target="../media/image24.wmf"/><Relationship Id="rId168" Type="http://schemas.openxmlformats.org/officeDocument/2006/relationships/image" Target="../media/image24.wmf"/><Relationship Id="rId169" Type="http://schemas.openxmlformats.org/officeDocument/2006/relationships/image" Target="../media/image24.wmf"/><Relationship Id="rId170" Type="http://schemas.openxmlformats.org/officeDocument/2006/relationships/image" Target="../media/image24.wmf"/><Relationship Id="rId171" Type="http://schemas.openxmlformats.org/officeDocument/2006/relationships/image" Target="../media/image24.wmf"/><Relationship Id="rId172" Type="http://schemas.openxmlformats.org/officeDocument/2006/relationships/image" Target="../media/image24.wmf"/><Relationship Id="rId173" Type="http://schemas.openxmlformats.org/officeDocument/2006/relationships/image" Target="../media/image24.wmf"/><Relationship Id="rId174" Type="http://schemas.openxmlformats.org/officeDocument/2006/relationships/image" Target="../media/image24.wmf"/><Relationship Id="rId175" Type="http://schemas.openxmlformats.org/officeDocument/2006/relationships/image" Target="../media/image24.wmf"/><Relationship Id="rId176" Type="http://schemas.openxmlformats.org/officeDocument/2006/relationships/image" Target="../media/image24.wmf"/><Relationship Id="rId177" Type="http://schemas.openxmlformats.org/officeDocument/2006/relationships/image" Target="../media/image24.wmf"/><Relationship Id="rId178" Type="http://schemas.openxmlformats.org/officeDocument/2006/relationships/image" Target="../media/image24.wmf"/><Relationship Id="rId179" Type="http://schemas.openxmlformats.org/officeDocument/2006/relationships/image" Target="../media/image24.wmf"/><Relationship Id="rId180" Type="http://schemas.openxmlformats.org/officeDocument/2006/relationships/image" Target="../media/image24.wmf"/><Relationship Id="rId181" Type="http://schemas.openxmlformats.org/officeDocument/2006/relationships/image" Target="../media/image24.wmf"/><Relationship Id="rId182" Type="http://schemas.openxmlformats.org/officeDocument/2006/relationships/image" Target="../media/image24.wmf"/><Relationship Id="rId183" Type="http://schemas.openxmlformats.org/officeDocument/2006/relationships/image" Target="../media/image24.wmf"/><Relationship Id="rId184" Type="http://schemas.openxmlformats.org/officeDocument/2006/relationships/image" Target="../media/image24.wmf"/><Relationship Id="rId185" Type="http://schemas.openxmlformats.org/officeDocument/2006/relationships/image" Target="../media/image24.wmf"/><Relationship Id="rId186" Type="http://schemas.openxmlformats.org/officeDocument/2006/relationships/image" Target="../media/image24.wmf"/><Relationship Id="rId187" Type="http://schemas.openxmlformats.org/officeDocument/2006/relationships/image" Target="../media/image24.wmf"/><Relationship Id="rId188" Type="http://schemas.openxmlformats.org/officeDocument/2006/relationships/image" Target="../media/image24.wmf"/><Relationship Id="rId189" Type="http://schemas.openxmlformats.org/officeDocument/2006/relationships/image" Target="../media/image24.wmf"/><Relationship Id="rId190" Type="http://schemas.openxmlformats.org/officeDocument/2006/relationships/image" Target="../media/image24.wmf"/><Relationship Id="rId191" Type="http://schemas.openxmlformats.org/officeDocument/2006/relationships/image" Target="../media/image24.wmf"/><Relationship Id="rId192" Type="http://schemas.openxmlformats.org/officeDocument/2006/relationships/image" Target="../media/image24.wmf"/><Relationship Id="rId193" Type="http://schemas.openxmlformats.org/officeDocument/2006/relationships/image" Target="../media/image24.wmf"/><Relationship Id="rId194" Type="http://schemas.openxmlformats.org/officeDocument/2006/relationships/image" Target="../media/image24.wmf"/><Relationship Id="rId19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1.xml"/><Relationship Id="rId5" Type="http://schemas.openxmlformats.org/officeDocument/2006/relationships/slide" Target="slide18.xml"/><Relationship Id="rId6" Type="http://schemas.openxmlformats.org/officeDocument/2006/relationships/hyperlink" Target="http://www.apnic.net/docs/policy/discussions/prop-017-v001.txt" TargetMode="External"/><Relationship Id="rId7" Type="http://schemas.openxmlformats.org/officeDocument/2006/relationships/hyperlink" Target="http://www.apnic.net/docs/policy/discussions/prop-017-v001.txt" TargetMode="External"/><Relationship Id="rId8" Type="http://schemas.openxmlformats.org/officeDocument/2006/relationships/slide" Target="slide90.xml"/><Relationship Id="rId9" Type="http://schemas.openxmlformats.org/officeDocument/2006/relationships/slide" Target="slide130.xml"/><Relationship Id="rId10" Type="http://schemas.openxmlformats.org/officeDocument/2006/relationships/slide" Target="slide152.xml"/><Relationship Id="rId11" Type="http://schemas.openxmlformats.org/officeDocument/2006/relationships/slide" Target="slide162.xml"/><Relationship Id="rId1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pnic.net/docs/policy/proposals/" TargetMode="External"/><Relationship Id="rId3" Type="http://schemas.openxmlformats.org/officeDocument/2006/relationships/hyperlink" Target="http://www.apnic.net/docs/policy/proposals/" TargetMode="External"/><Relationship Id="rId4" Type="http://schemas.openxmlformats.org/officeDocument/2006/relationships/hyperlink" Target="http://www.apnic.net/docs/policy/proposals/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25.wmf"/><Relationship Id="rId6" Type="http://schemas.openxmlformats.org/officeDocument/2006/relationships/image" Target="../media/image24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image" Target="../media/image29.wmf"/><Relationship Id="rId4" Type="http://schemas.openxmlformats.org/officeDocument/2006/relationships/image" Target="../media/image25.wmf"/><Relationship Id="rId5" Type="http://schemas.openxmlformats.org/officeDocument/2006/relationships/image" Target="../media/image31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pnic.net/apnic-bin/whois2.pl" TargetMode="Externa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../../Desktop/My%20Documents/aatraining/apnictraining/IN-Chennai-190802/APNIC%20Whois%20Database%20objects%20resource%20guide.htm" TargetMode="External"/><Relationship Id="rId3" Type="http://schemas.openxmlformats.org/officeDocument/2006/relationships/hyperlink" Target="file:///../../Desktop/My%20Documents/aatraining/apnictraining/IN-Chennai-190802/APNIC%20Whois%20Database%20objects%20resource%20guide.htm" TargetMode="External"/><Relationship Id="rId4" Type="http://schemas.openxmlformats.org/officeDocument/2006/relationships/image" Target="../media/image38.png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image" Target="../media/image30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pnic.net/docs/database-update-info.html" TargetMode="External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hyperlink" Target="file:///../../Desktop/My%20Documents/aatraining/apnictraining/IN-Chennai-190802/APNIC%20Whois%20Database%20objects%20resource%20guide.htm" TargetMode="External"/><Relationship Id="rId4" Type="http://schemas.openxmlformats.org/officeDocument/2006/relationships/hyperlink" Target="file:///../../Desktop/My%20Documents/aatraining/apnictraining/IN-Chennai-190802/APNIC%20Whois%20Database%20objects%20resource%20guide.htm" TargetMode="External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helpdesk@apnic.net" TargetMode="External"/><Relationship Id="rId3" Type="http://schemas.openxmlformats.org/officeDocument/2006/relationships/hyperlink" Target="http://www.apnic.net/info/faq/isp-request-tips.html#Introduction" TargetMode="External"/><Relationship Id="rId4" Type="http://schemas.openxmlformats.org/officeDocument/2006/relationships/hyperlink" Target="mailto:helpdesk@apnic.net" TargetMode="External"/><Relationship Id="rId5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0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5e1"/>
                </a:solidFill>
                <a:latin typeface="Arial"/>
              </a:rPr>
              <a:t>Welcome!</a:t>
            </a:r>
            <a:br>
              <a:rPr sz="36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PNIC Members Training Cour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57120" y="3638160"/>
            <a:ext cx="683892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Internet Resource Management Essentials</a:t>
            </a:r>
            <a:endParaRPr b="0" lang="en-US" sz="2600" spc="-1" strike="noStrike">
              <a:solidFill>
                <a:srgbClr val="f9f5e1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n conjunction with VNNIC 1</a:t>
            </a:r>
            <a:r>
              <a:rPr b="0" lang="en-US" sz="2800" spc="-1" strike="noStrike" baseline="30000">
                <a:solidFill>
                  <a:srgbClr val="ffcc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OPM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1 September 2004, Hanoi, Vietnam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pic>
        <p:nvPicPr>
          <p:cNvPr id="89" name="" descr="www.vnnic.net.v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4760" y="506520"/>
            <a:ext cx="1123920" cy="84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IRs in the APNIC reg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6  National Internet Registries (NIRs)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APJII, CNNIC, JPNIC, KRNIC, TWNIC and VNNIC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Should fully implement all applicable APNIC address management polici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Ensuring policy compliance with Internet resources management under their managemen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APNIC freely allow member LIRs to join NIRs in their country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NIRs freely allow member LIRs to join APNIC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rt of Authority (SOA) reco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&lt;domain.name&gt;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Name of the domain where SOA belongs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an use ‘@’ as wel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.g: 253.253.192.in-addr.arpa.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he class of the DNS record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OA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he type of DNS record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ndicates authority for this zon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rt of Authority (SOA) reco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&lt;hostname.domain.name.&gt;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'master' field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hostname of the primary zone server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&lt;mailbox.domain.name.&gt;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e-mail address of the person responsible for maintaining the zone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'@' symbol is replaced by a '.', and any '.' before the "@" was replaced by '\'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Ex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dns-admin@apnic.net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 written as dns-admin.apnic.net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dns.admin@apnic.net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 written as dns\.admin.apnic.net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rt of Authority (SOA) reco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&lt;serial-number&gt;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o compare between the primary and secondary server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&lt;refresh&gt;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How often a secondary should check the primar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&lt;retry&gt;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f a refresh attempt fails, a secondary server will retry based on the time specified in the retry field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rt of Authority (SOA) reco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&lt;expire&gt;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f the refresh and retry attempts fail, the secondary server will stop serving the zone after this period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&lt;negative caching&gt;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How long a remote name server can cache negative responses about a zon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omain name or type of data doesn’t exists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ample SOA reco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752400" y="2124000"/>
            <a:ext cx="8217000" cy="216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870120" y="2222640"/>
            <a:ext cx="827388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53.253.192.in-addr.arpa.  IN SOA ns.test-domain.net.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dmin.test-domain.net (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2003033101&gt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10800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3600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604800&gt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10800&gt; )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ameserver (NS) record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eclares the nameservers that serve a given zone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&lt;domain.name&gt;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Domain which the NS belongs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Ex: 253.253.192.in-addr.arpa or @ or &lt;space&gt;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N is the class of the DNS recor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S is the typ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Name Server in this cas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&lt;hostname.domain.name&gt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Hostname of the authoritative server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696960" y="2055960"/>
            <a:ext cx="8217000" cy="141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3640" y="2553120"/>
            <a:ext cx="83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omain.name.&gt; IN NS &lt;hostname.domain.name.&gt;</a:t>
            </a:r>
            <a:r>
              <a:rPr b="0" lang="en-US" sz="2400" spc="-1" strike="noStrike">
                <a:solidFill>
                  <a:srgbClr val="32559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ample NS reco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752400" y="2124000"/>
            <a:ext cx="8217000" cy="186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870120" y="2222640"/>
            <a:ext cx="827388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s.apnic.net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vc00.apnic.net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s.telstra.net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s.arin.net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inter (PTR) recor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reate pointer (PTR) records for each IP address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197000" y="3038400"/>
            <a:ext cx="7194600" cy="808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242720" y="3213720"/>
            <a:ext cx="724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31.28.12.202.in-addr.arpa. IN PTR svc00.apnic.net.</a:t>
            </a:r>
            <a:r>
              <a:rPr b="0" lang="en-US" sz="2000" spc="-1" strike="noStrike">
                <a:solidFill>
                  <a:srgbClr val="325592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1195560" y="5326200"/>
            <a:ext cx="7262640" cy="795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62040" y="5441400"/>
            <a:ext cx="798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31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TR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vc00.apnic.net.</a:t>
            </a:r>
            <a:r>
              <a:rPr b="0" lang="en-US" sz="1600" spc="-1" strike="noStrike">
                <a:solidFill>
                  <a:srgbClr val="325592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reverse zone exa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203400" y="15238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4292640" y="3809880"/>
            <a:ext cx="3798360" cy="685440"/>
            <a:chOff x="4292640" y="3809880"/>
            <a:chExt cx="3798360" cy="685440"/>
          </a:xfrm>
        </p:grpSpPr>
        <p:sp>
          <p:nvSpPr>
            <p:cNvPr id="1507" name=""/>
            <p:cNvSpPr/>
            <p:nvPr/>
          </p:nvSpPr>
          <p:spPr>
            <a:xfrm flipV="1">
              <a:off x="4292640" y="4266720"/>
              <a:ext cx="2391480" cy="228600"/>
            </a:xfrm>
            <a:prstGeom prst="line">
              <a:avLst/>
            </a:prstGeom>
            <a:ln w="38160">
              <a:solidFill>
                <a:srgbClr val="325592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417640" y="3809880"/>
              <a:ext cx="2673360" cy="678600"/>
            </a:xfrm>
            <a:prstGeom prst="rect">
              <a:avLst/>
            </a:prstGeom>
            <a:solidFill>
              <a:srgbClr val="325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766800" y="1158840"/>
            <a:ext cx="8067600" cy="536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741240" y="1357200"/>
            <a:ext cx="7905960" cy="53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ORIGIN 1.168.192.in-addr.arpa.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@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  IN SOA test.company.org. (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\.admin.company.org. 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0020213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serial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refresh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0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retry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expiry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 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neg. answ. ttl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s.company.org.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s2.company.org.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w.company.org.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er.company.org.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s.company.org.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BIND9 auto generate:  65 PTR host65.company.org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GENERATE 65-127 $ PTR host$.company.org.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ame server softwa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SC BIND (Berkeley Internet Name Domain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Version 8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In use, available, obsolete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Don't start to use i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Migrate to Version 9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Version 9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Current version (9.2.3 as of Jan 2004)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Release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Release Candidate (Betas)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Snapshots (Alphas)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9f5e1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9.3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Never Use Snapshots on production server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Other name server softwar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Microsoft DNS server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DJBDN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w to raise your voice as a NIR member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NIRs’ members can raise their voice via NIR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Raise your voice through your NIR staff/mailing list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NIR Workshop at APNIC OPM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Informal discussion forum amongst NI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Better interaction amongst NI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NIR SIG at APNIC OPM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Discuss about NIRs issu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Exchange informa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tting up the primary nameserv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dd an entry specifying the primary server to the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named.conf</a:t>
            </a:r>
            <a:r>
              <a:rPr b="0" i="1" lang="en-US" sz="2400" spc="-1" strike="noStrike">
                <a:solidFill>
                  <a:srgbClr val="f9f5e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&lt;domain-name&gt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Ex: 28.12.202.in-addr.arpa.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&lt;type master&gt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Define the name server as the primary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&lt;path-name&gt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location of the file that contains the zone records 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927000" y="2446200"/>
            <a:ext cx="7961400" cy="147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810800" y="2630160"/>
            <a:ext cx="493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zone "&lt;domain-name&gt;" in { 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 master; 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"&lt;path-name&gt;"; };</a:t>
            </a:r>
            <a:r>
              <a:rPr b="1" lang="en-US" sz="2400" spc="-1" strike="noStrike">
                <a:solidFill>
                  <a:srgbClr val="325592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tting up the secondary nameserv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dd an entry specifying the primary server to the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named.conf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 fil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&lt;type slave&gt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Define the name server as the secondary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&lt;ip address&gt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IP address of the primary name server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&lt;domain-name&gt;, &lt;master&gt;, &lt;path-name&gt; are same as befor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673200" y="2473200"/>
            <a:ext cx="7961040" cy="1747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394280" y="2542680"/>
            <a:ext cx="566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zone "&lt;domain-name&gt;" in { 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 slave; 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"&lt;path-name&gt;";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sters { &lt;IP address&gt; ; };</a:t>
            </a:r>
            <a:r>
              <a:rPr b="1" lang="en-US" sz="2400" spc="-1" strike="noStrike">
                <a:solidFill>
                  <a:srgbClr val="325592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erse delegation require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9f5e1"/>
                </a:solidFill>
                <a:latin typeface="Arial"/>
              </a:rPr>
              <a:t>/24 Delegation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Address blocks should be assigned/allocate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At least two name serve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9f5e1"/>
                </a:solidFill>
                <a:latin typeface="Arial"/>
              </a:rPr>
              <a:t>/16 Delegation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Same as /24 delegation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APNIC delegates entire zone to memb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Recommend APNIC secondary zon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9f5e1"/>
                </a:solidFill>
                <a:latin typeface="Arial"/>
              </a:rPr>
              <a:t>&lt; /24 Delegation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Read “classless in-addr.arpa delegation”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7913520" y="5019840"/>
            <a:ext cx="927360" cy="887400"/>
          </a:xfrm>
          <a:prstGeom prst="flowChartMultidocumen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RFC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2317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bdomains of in-addr.arpa domai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ubnetting on an Octet Boundary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imilar to delegating subdomains of forward-mapping domain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Mapping problem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n IPv4 the mapping is done on 8 bit boundaries (class full), address allocation is classles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bdomains of in-addr.arpa domai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Example: an organisation given a /16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192.168.0.0/16 (one zone file and further delegations to downstreams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168.192.in-addr.arpa zone file should have: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0.168.192.in-addr.arpa. 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NS ns1.organisation0.com.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0.168.192.in-addr.arpa. 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NS ns2.organisation0.com.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1.168.192.in-addr.arpa. 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NS ns1.organisation1.com.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1.168.192.in-addr.arpa. 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NS ns2.organisation1.com.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2.168.192.in-addr.arpa. 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NS ns1.organisation2.com.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2.168.192.in-addr.arpa. 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NS ns2.organisation2.com.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bdomains of in-addr.arpa domai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Example: an organisation given a /20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192.168.0.0/20 (a lot of zone files!) – have to do it per /24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Zone fil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0.168.192.in-addr.arpa.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1.168.192.in-addr.arpa.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2.168.192.in-addr.arpa.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15.168.192.in-addr.arpa.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bdomains of in-addr.arpa domai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400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Example: case of a /24 subnetted with the mask 255.255.255.192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n-addr zone – 254.253.192.in-addr.arpa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ubnet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192.253.254.0/26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192.253.254.64/26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192.253.254.128/26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192.253.254.192/26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f different organisations has to manage the reverse-mapping for each subne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olution to follow…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assless in-addr for 192.253.254/2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897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9f5e1"/>
                </a:solidFill>
                <a:latin typeface="Arial"/>
              </a:rPr>
              <a:t>CNAME records for each of the domain names in the zone</a:t>
            </a:r>
            <a:endParaRPr b="0" lang="en-US" sz="29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9f5e1"/>
                </a:solidFill>
                <a:latin typeface="Arial"/>
              </a:rPr>
              <a:t>Pointing to domain names in the new subdomains</a:t>
            </a:r>
            <a:endParaRPr b="0" lang="en-US" sz="25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722160" y="3162240"/>
            <a:ext cx="8421840" cy="3508560"/>
          </a:xfrm>
          <a:prstGeom prst="roundRect">
            <a:avLst>
              <a:gd name="adj" fmla="val 16667"/>
            </a:avLst>
          </a:prstGeom>
          <a:solidFill>
            <a:srgbClr val="f9f5e1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ORIG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4.253.192.in-addr.arpa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-63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S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s1.organisation1.com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-63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S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s2.organisation1.com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NAM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0-63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NAM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0-63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-127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S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s1.organisation2.com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-1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S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s2.organisation2.com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NAM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.64-127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NAM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6.64-127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assless in-addr for 192.253.254/2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897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9f5e1"/>
                </a:solidFill>
                <a:latin typeface="Arial"/>
              </a:rPr>
              <a:t>Using $GENERATE (db.192.253.254 file)</a:t>
            </a:r>
            <a:endParaRPr b="0" lang="en-US" sz="29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852480" y="2332080"/>
            <a:ext cx="8101080" cy="4235400"/>
          </a:xfrm>
          <a:prstGeom prst="roundRect">
            <a:avLst>
              <a:gd name="adj" fmla="val 16667"/>
            </a:avLst>
          </a:prstGeom>
          <a:solidFill>
            <a:srgbClr val="f9f5e1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ORIGIN 254.253.192.in-addr.arpa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-6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s1.organisation1.com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-6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S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s2.organisation1.com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GENERATE 1-63$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NAM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.0-63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-127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S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s1.organisation2.com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-1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S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s2.organisation2.com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GENERATE 65-127$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NAME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.64-127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assless in-addr for 192.253.254.0/2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897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ow, the zone data file fo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-63.254.253.192.in-addr.arpa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 can contain just PTR records for IP addresses 192.253.254.1 through 192.253.154.63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939960" y="2827440"/>
            <a:ext cx="7954920" cy="3859200"/>
          </a:xfrm>
          <a:prstGeom prst="roundRect">
            <a:avLst>
              <a:gd name="adj" fmla="val 16667"/>
            </a:avLst>
          </a:prstGeom>
          <a:solidFill>
            <a:srgbClr val="f9f5e1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996840" y="2924280"/>
            <a:ext cx="79329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ORIGIN</a:t>
            </a:r>
            <a:r>
              <a:rPr b="1" lang="en-US" sz="1600" spc="-1" strike="noStrike">
                <a:solidFill>
                  <a:srgbClr val="325592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325592"/>
                </a:solidFill>
                <a:latin typeface="Courier New"/>
              </a:rPr>
              <a:t>0-63.254.253.192.in-addr.arpa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TTL 1d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   SOA  ns1.organisation1.com. Root.ns1.organisation1.com. (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Serial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Refresh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Retry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w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Expire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h 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Negative caching TTL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s1.organisation1.com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s2.organisation1.com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TR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rg1-name1.organisation1.com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TR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rg1-name2.organisation1.com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TR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rg1-name3.organisation1.com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PNIC memb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6461280"/>
            <a:ext cx="67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ource: APNIC statistic data - Last update August 2004 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-534960" y="925560"/>
            <a:ext cx="1043316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erse delegation procedu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704880" y="1523520"/>
            <a:ext cx="8439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Upon allocation, member is asked if they want /24 place holder domain objects with member maintain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Gives member direct contro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tandard APNIC database object,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can be updated through online form or via email.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ameserver/domain set up verified before being submitted to the database.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Protection by maintainer objec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(current auths:  CRYPT-PW, PGP).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Zone file updated 2-hourly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Reverse delegation procedure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Complete the documenta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9f5e1"/>
                </a:solidFill>
                <a:uFillTx/>
                <a:latin typeface="Arial"/>
              </a:rPr>
              <a:t>http://www.apnic.net/db/domain.htm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On-line form interfac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al time feedback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Gives errors, warnings in zone configur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erial number of zone consistent across nameserve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ameservers listed in zone consisten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Uses database ‘domain’ objec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valuation procedu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Parser checks for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‘</a:t>
            </a: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whois’ databas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IP address range is </a:t>
            </a:r>
            <a:r>
              <a:rPr b="0" lang="en-AU" sz="2400" spc="-1" strike="noStrike" u="sng">
                <a:solidFill>
                  <a:srgbClr val="f9f5e1"/>
                </a:solidFill>
                <a:uFillTx/>
                <a:latin typeface="Arial"/>
              </a:rPr>
              <a:t>assigned</a:t>
            </a: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 or </a:t>
            </a:r>
            <a:r>
              <a:rPr b="0" lang="en-AU" sz="2400" spc="-1" strike="noStrike" u="sng">
                <a:solidFill>
                  <a:srgbClr val="f9f5e1"/>
                </a:solidFill>
                <a:uFillTx/>
                <a:latin typeface="Arial"/>
              </a:rPr>
              <a:t>allocate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Must be in APNIC databas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Maintainer objec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Mandatory field of domain objec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Nic-handl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zone-c, tech-c, admin-c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valuation procedure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Nameserver check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Minimum 2 nameservers required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Check serial versions of zone files are the sam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Check  NS records in zones are the same as listed on form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Nameserver 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an resolve itself, forward and revers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nline errors (also via email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8604360" y="0"/>
            <a:ext cx="5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v. DNS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552" name="" descr=""/>
          <p:cNvPicPr/>
          <p:nvPr/>
        </p:nvPicPr>
        <p:blipFill>
          <a:blip r:embed="rId2"/>
          <a:stretch/>
        </p:blipFill>
        <p:spPr>
          <a:xfrm>
            <a:off x="676440" y="1195560"/>
            <a:ext cx="84247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3" name="" descr=""/>
          <p:cNvPicPr/>
          <p:nvPr/>
        </p:nvPicPr>
        <p:blipFill>
          <a:blip r:embed="rId2"/>
          <a:stretch/>
        </p:blipFill>
        <p:spPr>
          <a:xfrm>
            <a:off x="716040" y="942840"/>
            <a:ext cx="8385120" cy="5811840"/>
          </a:xfrm>
          <a:prstGeom prst="rect">
            <a:avLst/>
          </a:prstGeom>
          <a:ln w="0">
            <a:noFill/>
          </a:ln>
        </p:spPr>
      </p:pic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quest submission err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8604360" y="0"/>
            <a:ext cx="5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v. DNS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023240" y="3597120"/>
            <a:ext cx="1699920" cy="30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Update failed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015320" y="4930920"/>
            <a:ext cx="1699920" cy="549000"/>
          </a:xfrm>
          <a:prstGeom prst="rect">
            <a:avLst/>
          </a:prstGeom>
          <a:solidFill>
            <a:srgbClr val="ffff99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Authorisation</a:t>
            </a:r>
            <a:br>
              <a:rPr sz="1800"/>
            </a:b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 failed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H="1">
            <a:off x="6491160" y="5194440"/>
            <a:ext cx="517680" cy="507960"/>
          </a:xfrm>
          <a:prstGeom prst="line">
            <a:avLst/>
          </a:prstGeom>
          <a:ln w="38160">
            <a:solidFill>
              <a:srgbClr val="9900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6563880" y="3751200"/>
            <a:ext cx="44460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0" name="" descr=""/>
          <p:cNvPicPr/>
          <p:nvPr/>
        </p:nvPicPr>
        <p:blipFill>
          <a:blip r:embed="rId2"/>
          <a:stretch/>
        </p:blipFill>
        <p:spPr>
          <a:xfrm>
            <a:off x="836640" y="1328760"/>
            <a:ext cx="7588080" cy="5297400"/>
          </a:xfrm>
          <a:prstGeom prst="rect">
            <a:avLst/>
          </a:prstGeom>
          <a:ln w="0">
            <a:noFill/>
          </a:ln>
        </p:spPr>
      </p:pic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ccessful upd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8604360" y="0"/>
            <a:ext cx="5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v. DNS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563" name=""/>
          <p:cNvGrpSpPr/>
          <p:nvPr/>
        </p:nvGrpSpPr>
        <p:grpSpPr>
          <a:xfrm>
            <a:off x="6477120" y="5351400"/>
            <a:ext cx="2158920" cy="303120"/>
            <a:chOff x="6477120" y="5351400"/>
            <a:chExt cx="2158920" cy="303120"/>
          </a:xfrm>
        </p:grpSpPr>
        <p:sp>
          <p:nvSpPr>
            <p:cNvPr id="1564" name=""/>
            <p:cNvSpPr/>
            <p:nvPr/>
          </p:nvSpPr>
          <p:spPr>
            <a:xfrm>
              <a:off x="6935760" y="5351400"/>
              <a:ext cx="1700280" cy="3031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Arial"/>
                </a:rPr>
                <a:t>Update ok!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6477120" y="5505120"/>
              <a:ext cx="444240" cy="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is domain obje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703440" y="1600200"/>
            <a:ext cx="633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descr:       </a:t>
            </a: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in-addr.arpa zone for 28.12.202.in-addr.arpa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5e1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PNIC &amp; member responsibilit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APNIC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Manage reverse delegations of address block distributed by APNIC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Process members requests for reverse delegations of network allocation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Member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Be familiar with APNIC procedur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Ensure that addresses are reverse-mappe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Maintain nameservers for allocation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Minimise pollution of DN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8604360" y="0"/>
            <a:ext cx="5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v. DNS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Question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re all your zones, and your customer zones registered?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573" name="">
            <a:hlinkClick r:id="rId3"/>
          </p:cNvPr>
          <p:cNvSpPr/>
          <p:nvPr/>
        </p:nvSpPr>
        <p:spPr>
          <a:xfrm>
            <a:off x="158760" y="1274760"/>
            <a:ext cx="8983800" cy="5170320"/>
          </a:xfrm>
          <a:custGeom>
            <a:avLst/>
            <a:gdLst>
              <a:gd name="textAreaLeft" fmla="*/ 334800 w 8983800"/>
              <a:gd name="textAreaRight" fmla="*/ 8649000 w 8983800"/>
              <a:gd name="textAreaTop" fmla="*/ 334800 h 5170320"/>
              <a:gd name="textAreaBottom" fmla="*/ 4835520 h 5170320"/>
            </a:gdLst>
            <a:ahLst/>
            <a:rect l="textAreaLeft" t="textAreaTop" r="textAreaRight" b="textAreaBottom"/>
            <a:pathLst>
              <a:path w="37530" h="21600">
                <a:moveTo>
                  <a:pt x="0" y="0"/>
                </a:moveTo>
                <a:lnTo>
                  <a:pt x="37530" y="0"/>
                </a:lnTo>
                <a:lnTo>
                  <a:pt x="37530" y="21600"/>
                </a:lnTo>
                <a:lnTo>
                  <a:pt x="0" y="21600"/>
                </a:lnTo>
                <a:close/>
              </a:path>
              <a:path fill="lightenLess" w="37530" h="21600">
                <a:moveTo>
                  <a:pt x="0" y="0"/>
                </a:moveTo>
                <a:lnTo>
                  <a:pt x="37530" y="0"/>
                </a:lnTo>
                <a:lnTo>
                  <a:pt x="36130" y="1400"/>
                </a:lnTo>
                <a:lnTo>
                  <a:pt x="1400" y="1400"/>
                </a:lnTo>
                <a:close/>
              </a:path>
              <a:path fill="darken" w="37530" h="21600">
                <a:moveTo>
                  <a:pt x="37530" y="0"/>
                </a:moveTo>
                <a:lnTo>
                  <a:pt x="37530" y="21600"/>
                </a:lnTo>
                <a:lnTo>
                  <a:pt x="36130" y="20200"/>
                </a:lnTo>
                <a:lnTo>
                  <a:pt x="36130" y="1400"/>
                </a:lnTo>
                <a:close/>
              </a:path>
              <a:path fill="darkenLess" w="37530" h="21600">
                <a:moveTo>
                  <a:pt x="37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30" y="20200"/>
                </a:lnTo>
                <a:close/>
              </a:path>
              <a:path fill="lighten" w="37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19280" y="6572160"/>
            <a:ext cx="57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erial available at: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</a:rPr>
              <a:t>www.apnic.net/training/recent/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nefits of APNIC memb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544920" y="2679840"/>
          <a:ext cx="2116080" cy="183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44920" y="2679840"/>
                    <a:ext cx="2116080" cy="18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rot="5400000">
            <a:off x="3216600" y="3280320"/>
            <a:ext cx="334800" cy="669960"/>
          </a:xfrm>
          <a:prstGeom prst="upDownArrow">
            <a:avLst>
              <a:gd name="adj1" fmla="val 50000"/>
              <a:gd name="adj2" fmla="val 39836"/>
            </a:avLst>
          </a:prstGeom>
          <a:gradFill rotWithShape="0">
            <a:gsLst>
              <a:gs pos="0">
                <a:srgbClr val="cccc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5646240" y="3317760"/>
            <a:ext cx="320760" cy="669960"/>
          </a:xfrm>
          <a:prstGeom prst="upDownArrow">
            <a:avLst>
              <a:gd name="adj1" fmla="val 50000"/>
              <a:gd name="adj2" fmla="val 41580"/>
            </a:avLst>
          </a:prstGeom>
          <a:gradFill rotWithShape="0">
            <a:gsLst>
              <a:gs pos="0">
                <a:srgbClr val="cccc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9058800">
            <a:off x="5093640" y="4357440"/>
            <a:ext cx="339480" cy="669960"/>
          </a:xfrm>
          <a:prstGeom prst="upDownArrow">
            <a:avLst>
              <a:gd name="adj1" fmla="val 50000"/>
              <a:gd name="adj2" fmla="val 39287"/>
            </a:avLst>
          </a:prstGeom>
          <a:gradFill rotWithShape="0">
            <a:gsLst>
              <a:gs pos="0">
                <a:srgbClr val="cccc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9058800">
            <a:off x="3863160" y="2247120"/>
            <a:ext cx="320760" cy="669960"/>
          </a:xfrm>
          <a:prstGeom prst="upDownArrow">
            <a:avLst>
              <a:gd name="adj1" fmla="val 50000"/>
              <a:gd name="adj2" fmla="val 41580"/>
            </a:avLst>
          </a:prstGeom>
          <a:gradFill rotWithShape="0">
            <a:gsLst>
              <a:gs pos="0">
                <a:srgbClr val="cccc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530200">
            <a:off x="5151240" y="2236320"/>
            <a:ext cx="345960" cy="669960"/>
          </a:xfrm>
          <a:prstGeom prst="upDownArrow">
            <a:avLst>
              <a:gd name="adj1" fmla="val 50000"/>
              <a:gd name="adj2" fmla="val 38551"/>
            </a:avLst>
          </a:prstGeom>
          <a:gradFill rotWithShape="0">
            <a:gsLst>
              <a:gs pos="0">
                <a:srgbClr val="cccc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7040" y="6453360"/>
            <a:ext cx="67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i="1" lang="en-AU" sz="2400" spc="-1" strike="noStrike">
                <a:solidFill>
                  <a:srgbClr val="ffffff"/>
                </a:solidFill>
                <a:latin typeface="Arial"/>
                <a:ea typeface="굴림"/>
              </a:rPr>
              <a:t>NOT: Automatic or easier resource allocation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495400">
            <a:off x="3754080" y="4344840"/>
            <a:ext cx="353880" cy="669960"/>
          </a:xfrm>
          <a:prstGeom prst="upDownArrow">
            <a:avLst>
              <a:gd name="adj1" fmla="val 50000"/>
              <a:gd name="adj2" fmla="val 37688"/>
            </a:avLst>
          </a:prstGeom>
          <a:gradFill rotWithShape="0">
            <a:gsLst>
              <a:gs pos="0">
                <a:srgbClr val="cccc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670720" y="1276200"/>
            <a:ext cx="2539800" cy="1605960"/>
            <a:chOff x="5670720" y="1276200"/>
            <a:chExt cx="2539800" cy="1605960"/>
          </a:xfrm>
        </p:grpSpPr>
        <p:graphicFrame>
          <p:nvGraphicFramePr>
            <p:cNvPr id="164" name=""/>
            <p:cNvGraphicFramePr/>
            <p:nvPr/>
          </p:nvGraphicFramePr>
          <p:xfrm>
            <a:off x="5916600" y="1276200"/>
            <a:ext cx="1389240" cy="1052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16600" y="1276200"/>
                      <a:ext cx="1389240" cy="105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5670720" y="2239560"/>
              <a:ext cx="253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source Services &amp; Registration Services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599080" y="3070080"/>
            <a:ext cx="3544920" cy="1877760"/>
            <a:chOff x="5599080" y="3070080"/>
            <a:chExt cx="3544920" cy="1877760"/>
          </a:xfrm>
        </p:grpSpPr>
        <p:graphicFrame>
          <p:nvGraphicFramePr>
            <p:cNvPr id="168" name=""/>
            <p:cNvGraphicFramePr/>
            <p:nvPr/>
          </p:nvGraphicFramePr>
          <p:xfrm>
            <a:off x="5599080" y="3070080"/>
            <a:ext cx="2033640" cy="1877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599080" y="3070080"/>
                      <a:ext cx="2033640" cy="187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7477200" y="3303360"/>
              <a:ext cx="1666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articipation in the APNIC Community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718160" y="4959360"/>
            <a:ext cx="2962080" cy="1090440"/>
            <a:chOff x="4718160" y="4959360"/>
            <a:chExt cx="2962080" cy="1090440"/>
          </a:xfrm>
        </p:grpSpPr>
        <p:graphicFrame>
          <p:nvGraphicFramePr>
            <p:cNvPr id="172" name=""/>
            <p:cNvGraphicFramePr/>
            <p:nvPr/>
          </p:nvGraphicFramePr>
          <p:xfrm>
            <a:off x="4718160" y="4959360"/>
            <a:ext cx="1428480" cy="1081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718160" y="4959360"/>
                      <a:ext cx="1428480" cy="10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5286240" y="5407200"/>
              <a:ext cx="239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ubsidised access to APNIC Training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487520" y="4510080"/>
            <a:ext cx="2163600" cy="1846080"/>
            <a:chOff x="1487520" y="4510080"/>
            <a:chExt cx="2163600" cy="1846080"/>
          </a:xfrm>
        </p:grpSpPr>
        <p:graphicFrame>
          <p:nvGraphicFramePr>
            <p:cNvPr id="176" name=""/>
            <p:cNvGraphicFramePr/>
            <p:nvPr/>
          </p:nvGraphicFramePr>
          <p:xfrm>
            <a:off x="1508040" y="4510080"/>
            <a:ext cx="2117160" cy="13273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508040" y="4510080"/>
                      <a:ext cx="2117160" cy="132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" name=""/>
            <p:cNvSpPr/>
            <p:nvPr/>
          </p:nvSpPr>
          <p:spPr>
            <a:xfrm>
              <a:off x="1487520" y="5713560"/>
              <a:ext cx="216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fluence in APNIC Activities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55800" y="3346560"/>
            <a:ext cx="2120760" cy="1191240"/>
            <a:chOff x="955800" y="3346560"/>
            <a:chExt cx="2120760" cy="1191240"/>
          </a:xfrm>
        </p:grpSpPr>
        <p:graphicFrame>
          <p:nvGraphicFramePr>
            <p:cNvPr id="180" name=""/>
            <p:cNvGraphicFramePr/>
            <p:nvPr/>
          </p:nvGraphicFramePr>
          <p:xfrm>
            <a:off x="2119320" y="3375000"/>
            <a:ext cx="957240" cy="9813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119320" y="3375000"/>
                      <a:ext cx="957240" cy="98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"/>
            <p:cNvSpPr/>
            <p:nvPr/>
          </p:nvSpPr>
          <p:spPr>
            <a:xfrm>
              <a:off x="955800" y="3346560"/>
              <a:ext cx="149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oting rights at APNIC Meetings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895320" y="1460520"/>
            <a:ext cx="3106800" cy="1660320"/>
            <a:chOff x="895320" y="1460520"/>
            <a:chExt cx="3106800" cy="1660320"/>
          </a:xfrm>
        </p:grpSpPr>
        <p:graphicFrame>
          <p:nvGraphicFramePr>
            <p:cNvPr id="184" name=""/>
            <p:cNvGraphicFramePr/>
            <p:nvPr/>
          </p:nvGraphicFramePr>
          <p:xfrm>
            <a:off x="1563840" y="1460520"/>
            <a:ext cx="2154240" cy="11098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563840" y="1460520"/>
                      <a:ext cx="2154240" cy="110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6" name=""/>
            <p:cNvSpPr/>
            <p:nvPr/>
          </p:nvSpPr>
          <p:spPr>
            <a:xfrm>
              <a:off x="895320" y="2478240"/>
              <a:ext cx="310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ree attendance at APNIC Members Meetings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8607600" y="0"/>
            <a:ext cx="5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venting Spam &amp; Network Ab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Best Current Practices’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Spam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Unsolicited Commercial Email (UCE)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Unrequested and unwanted email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dvertising products, services, pornography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Otherwise known as ‘spam’, ‘junk mail’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ome times contains virus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nding ‘spam’ is unacceptable practic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SPs generally ‘anti-spam’ (through AUP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do you need to be careful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pam created to facilitate viru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Virus writers using spammers techniques to distribute virus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Viruses created to facilitate Spam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pammers using viruses to hijack (zombie) machines to further propagate Spam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pammers moving from open relays to zombie machin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Phishing attack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do you need to be careful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804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pam is becoming more crimina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nti-spam technologies block routine spam better everyday, but spammers constantly trying to bypass the technology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nti spam legislations need to be implemente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pam volume is exploding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ingle spammer can send 200 million msgs a day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8% of internet e-mail in 2001, 64% of internet e-mail in 2004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pammers are making mone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do you need to be careful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pam has become a real business problem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Lost of employee productivit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Employees deleting spam, discussing spam, complaining about spam etc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ncreased risk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Offensive spam results in lawsuit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Unnecessary IT cost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T administrators, Mail server CPU, storage, bandwidth etc.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st Current Practice’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Best Current Practice’ (BCP)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Voluntary code of conduct for ISP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onsensus on cod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any ISPs wish to be seen publically combating UC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Need to work with all customers, especially ISP customers so their customers adopt the BCP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ghting against Sp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o email relaying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Historically SMTP systems ‘relayed’ email from anyone to destin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quiremen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Provide SMTP delivery for customers only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s determined by domain  and/or IP addres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SPs should configure email systems to prevent relaying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heck customers do not run open relays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ghting against sp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ust be able to trace email passing through a system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dd a ‘received’ head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achine name can be forge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received’ line should contain name and IP addres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dentification of the sender of the emai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ial up connections with dynamic addressing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commend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ime stamps based on NTP to identify send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SPs should keep logs for reasonable tim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ghting against sp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White/ Black list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Lists of suspected IPs that spam and lists of “approved” sende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nd user submission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etwork of users that submit spam and create rules to block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LD blocking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nalyse headers to block certain messages routed through certain TLD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P blocking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nalyze the headers to check that IP address of the originating SMTP serv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ghting against sp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everse DN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Performs a reverse DNS lookup and verifies the credibility of the header info of messag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I (Artificial Intelligence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Lexical analysis; to identify spam like characteristic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Filtering solution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Body rules, key word, content searche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pam trap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Create decoy e-mail accounts and filter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Block by number of recipient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Filter e-mails that have too many recipient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ulti-layer solution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pammers need to avoid many layer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  <a:ea typeface="굴림"/>
              </a:rPr>
              <a:t>APNIC is not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ot a network operator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oes not provide networking servic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Works closely with APRICOT forum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ot a standards body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oes not develop technical standard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Works within IETF in relevant areas (IPv6 etc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ot a domain name registry or registrar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Will refer queries to relevant parti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607600" y="0"/>
            <a:ext cx="5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Handle abuse report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SPs should accept and process reports of abuse by their custome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et up a specialist ‘abuse@isp.net’ mailbox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SP should acknowledge receipt of abus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Ticketing system to allow tracking of report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dentity of reporter should be kept confidentia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SP may immediately terminate customers accoun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May also apply ‘warning’ then eventual termination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According to ISPs AUP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isseminate information to communit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On action taken against custome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Publish overview statistical informa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Ensure terminated accounts are not re-opene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ealing with UC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Enhances an ISP’s standing in global community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void mass filtering of ISP email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void unwanted attention from legal authoriti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ifficult, but importan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arketing departments don’t like i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ncorporate into ISP AUP (terms &amp; contracts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SP should provide document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Explaining nature of UB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Why sending it is considered unacceptable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tate what is required for a ‘spam abuse’ repor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Where such reports can be sen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Prevention is better than cur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8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ustomer education – important fa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542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Be careful about giving the email addresses to unknown sources (e.g. when filling in forms online etc.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o not write back to the spammer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onfirm the validity of the e-mail i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Has a link for removal from their list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normally doesn’t work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port the complaints to the spammer's ISP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earch spammers IP in the Whois database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nclude the full header with the complai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tecting network abu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oftware to detect network abus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ostly designed to search the ARIN Whois databas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ay refer to APNIC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any websites with whois lookup functions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has the same limitations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However the IP addresses are registered by four RIRs on a regional basi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f a standard search refers you to APNIC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t means only that the network in question is registered in the Asia Pacific region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oes not mean that APNIC is responsible or that the hacker/spammer is using APNIC network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tecting Network Abu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vestigation of network abuse compla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68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PNIC is not able to investigate these complaint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an use the APNIC Whois Database to find out where to take your complaint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PNIC does not regulate the conduct of Internet activity (legally or practically)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vestigation of network abuse compla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68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Laws relating to network abuse vary from country to country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nvestigation possibiliti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ooperation of the network administrator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law enforcement agencies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Local jurisdiction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jurisdiction where the problem originates 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can APNIC help you 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he APNIC Whois Database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Holds IP address records within the AP reg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an use this database to track down the source of the network abus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an find contact details of the relevant network administrators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ot the individual use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use administrators log files to contact the individual involved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can APNIC help you 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Education of network operators in the Asia Pacific community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ddress policies and the importance of registration of resources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ommunity discussions can be raised in the APNIC open policy meetings / mailing lists etc.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  <a:ea typeface="굴림"/>
              </a:rPr>
              <a:t>APNIC reg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6497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07600" y="44280"/>
            <a:ext cx="5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990360" y="1523520"/>
            <a:ext cx="7467480" cy="49532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866880" y="1509840"/>
            <a:ext cx="7815240" cy="51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Question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Useful FAQ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9f5e1"/>
                </a:solidFill>
                <a:uFillTx/>
                <a:latin typeface="Arial"/>
              </a:rPr>
              <a:t>http://www.apnic.net/info/faq/abuse/index.htm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Question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Useful FAQ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9f5e1"/>
                </a:solidFill>
                <a:uFillTx/>
                <a:latin typeface="Arial"/>
              </a:rPr>
              <a:t>http://www.apnic.net/info/faq/abuse/index.htm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onomous System Numb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Procedur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n Autonomous System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ollection of networks with same routing polic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Usually under single ownership, trust and administrative contro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grpSp>
        <p:nvGrpSpPr>
          <p:cNvPr id="1623" name=""/>
          <p:cNvGrpSpPr/>
          <p:nvPr/>
        </p:nvGrpSpPr>
        <p:grpSpPr>
          <a:xfrm>
            <a:off x="2249640" y="1539720"/>
            <a:ext cx="4641480" cy="2452320"/>
            <a:chOff x="2249640" y="1539720"/>
            <a:chExt cx="4641480" cy="2452320"/>
          </a:xfrm>
        </p:grpSpPr>
        <p:pic>
          <p:nvPicPr>
            <p:cNvPr id="1624" name="" descr=""/>
            <p:cNvPicPr/>
            <p:nvPr/>
          </p:nvPicPr>
          <p:blipFill>
            <a:blip r:embed="rId2"/>
            <a:stretch/>
          </p:blipFill>
          <p:spPr>
            <a:xfrm>
              <a:off x="2392560" y="1539720"/>
              <a:ext cx="4056120" cy="24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5" name=""/>
            <p:cNvSpPr/>
            <p:nvPr/>
          </p:nvSpPr>
          <p:spPr>
            <a:xfrm>
              <a:off x="4049640" y="1891440"/>
              <a:ext cx="1139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1452600"/>
                  <a:tab algn="l" pos="2905200"/>
                  <a:tab algn="l" pos="4357800"/>
                  <a:tab algn="l" pos="5810400"/>
                  <a:tab algn="l" pos="7262640"/>
                  <a:tab algn="l" pos="8715240"/>
                  <a:tab algn="l" pos="10167840"/>
                </a:tabLst>
              </a:pPr>
              <a:r>
                <a:rPr b="1" lang="en-US" sz="2500" spc="-1" strike="noStrike">
                  <a:solidFill>
                    <a:srgbClr val="325592"/>
                  </a:solidFill>
                  <a:latin typeface="Arial"/>
                </a:rPr>
                <a:t>AS 100</a:t>
              </a:r>
              <a:endParaRPr b="0" lang="en-US" sz="25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3142440" y="2730960"/>
              <a:ext cx="1018080" cy="609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885560" y="2970360"/>
              <a:ext cx="1101960" cy="389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4930200" y="2235600"/>
              <a:ext cx="1094400" cy="2912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078000" y="2096640"/>
              <a:ext cx="1057320" cy="569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pic>
          <p:nvPicPr>
            <p:cNvPr id="1630" name="" descr=""/>
            <p:cNvPicPr/>
            <p:nvPr/>
          </p:nvPicPr>
          <p:blipFill>
            <a:blip r:embed="rId3"/>
            <a:stretch/>
          </p:blipFill>
          <p:spPr>
            <a:xfrm>
              <a:off x="2249640" y="1864440"/>
              <a:ext cx="1141200" cy="66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1" name="" descr=""/>
            <p:cNvPicPr/>
            <p:nvPr/>
          </p:nvPicPr>
          <p:blipFill>
            <a:blip r:embed="rId4"/>
            <a:stretch/>
          </p:blipFill>
          <p:spPr>
            <a:xfrm>
              <a:off x="2249640" y="3031200"/>
              <a:ext cx="114120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2" name="" descr=""/>
            <p:cNvPicPr/>
            <p:nvPr/>
          </p:nvPicPr>
          <p:blipFill>
            <a:blip r:embed="rId5"/>
            <a:stretch/>
          </p:blipFill>
          <p:spPr>
            <a:xfrm>
              <a:off x="3867480" y="2413080"/>
              <a:ext cx="1143000" cy="66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3" name="" descr=""/>
            <p:cNvPicPr/>
            <p:nvPr/>
          </p:nvPicPr>
          <p:blipFill>
            <a:blip r:embed="rId6"/>
            <a:stretch/>
          </p:blipFill>
          <p:spPr>
            <a:xfrm>
              <a:off x="5748480" y="3031200"/>
              <a:ext cx="1142640" cy="66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4" name=""/>
            <p:cNvGrpSpPr/>
            <p:nvPr/>
          </p:nvGrpSpPr>
          <p:grpSpPr>
            <a:xfrm>
              <a:off x="5749920" y="1832400"/>
              <a:ext cx="1140840" cy="706680"/>
              <a:chOff x="5749920" y="1832400"/>
              <a:chExt cx="1140840" cy="706680"/>
            </a:xfrm>
          </p:grpSpPr>
          <p:pic>
            <p:nvPicPr>
              <p:cNvPr id="163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749920" y="1832400"/>
                <a:ext cx="1140840" cy="66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6" name=""/>
              <p:cNvSpPr/>
              <p:nvPr/>
            </p:nvSpPr>
            <p:spPr>
              <a:xfrm>
                <a:off x="6215760" y="2173320"/>
                <a:ext cx="20700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1452600"/>
                    <a:tab algn="l" pos="2905200"/>
                    <a:tab algn="l" pos="4357800"/>
                    <a:tab algn="l" pos="5810400"/>
                    <a:tab algn="l" pos="7262640"/>
                    <a:tab algn="l" pos="8715240"/>
                    <a:tab algn="l" pos="10167840"/>
                  </a:tabLst>
                </a:pPr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7" name=""/>
          <p:cNvSpPr/>
          <p:nvPr/>
        </p:nvSpPr>
        <p:spPr>
          <a:xfrm>
            <a:off x="8604360" y="0"/>
            <a:ext cx="5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N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do I need an AS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When do I need an AS?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ulti-homed network to different providers an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outing policy different to external peer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commended reading!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FC1930: Guidelines for creation, selection and registration of an Autonomous System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8604360" y="0"/>
            <a:ext cx="5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N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099200" y="3789360"/>
            <a:ext cx="927360" cy="887400"/>
          </a:xfrm>
          <a:prstGeom prst="flowChartMultidocumen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RFC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1930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don’t I need an AS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actors that don’t coun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ransition and ‘future proofing’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ulti-homing to the same upstream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FC2270: A dedicated AS for sites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homed to a single provid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ervice differenti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FC1997: BGP Communities attribut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7753320" y="3137040"/>
            <a:ext cx="927000" cy="887400"/>
          </a:xfrm>
          <a:prstGeom prst="flowChartMultidocumen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RFC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2270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759800" y="4449600"/>
            <a:ext cx="927000" cy="887400"/>
          </a:xfrm>
          <a:prstGeom prst="flowChartMultidocumen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RFC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1997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8604360" y="0"/>
            <a:ext cx="5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N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questing an AS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omplete the request form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web form available: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apnic.net/db/aut-num.htm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quest form is parsed - real tim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ust include routing policy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multiple import and export line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s checked for syntactical accuracy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based on RPSL (rfc2622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Peers verified by querying routing tabl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[NO-PARSE] will not send request to pars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8604360" y="0"/>
            <a:ext cx="5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N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375680" y="4137120"/>
            <a:ext cx="927000" cy="887400"/>
          </a:xfrm>
          <a:prstGeom prst="flowChartMultidocumen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RFC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2622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questing an ASN 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Custom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quested directly from APNIC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S number is “portable”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quested via member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SN is “non-portable”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SN returned if customer changes provid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ransfers of ASN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eed legal documentation (mergers etc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hould be returned if no longer require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8604360" y="0"/>
            <a:ext cx="5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N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presentation of routing poli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outing  and packet flow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1123920" y="2610000"/>
            <a:ext cx="2666880" cy="106668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757840" y="2550960"/>
            <a:ext cx="2666880" cy="106704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045160" y="28515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1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653880" y="28515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2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33640" y="2604960"/>
            <a:ext cx="2106720" cy="0"/>
          </a:xfrm>
          <a:prstGeom prst="line">
            <a:avLst/>
          </a:prstGeom>
          <a:ln w="38160">
            <a:solidFill>
              <a:srgbClr val="f9f5e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727440" y="3548160"/>
            <a:ext cx="2033640" cy="0"/>
          </a:xfrm>
          <a:prstGeom prst="line">
            <a:avLst/>
          </a:prstGeom>
          <a:ln w="38160">
            <a:solidFill>
              <a:srgbClr val="f9f5e1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805200" y="2868480"/>
            <a:ext cx="1955880" cy="0"/>
          </a:xfrm>
          <a:prstGeom prst="line">
            <a:avLst/>
          </a:prstGeom>
          <a:ln w="38160">
            <a:solidFill>
              <a:srgbClr val="f9f5e1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805200" y="3171960"/>
            <a:ext cx="1955880" cy="0"/>
          </a:xfrm>
          <a:prstGeom prst="line">
            <a:avLst/>
          </a:prstGeom>
          <a:ln w="38160">
            <a:solidFill>
              <a:srgbClr val="f9f5e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989880" y="2836800"/>
            <a:ext cx="1573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routing flow</a:t>
            </a:r>
            <a:endParaRPr b="0" lang="en-US" sz="1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014000" y="3233880"/>
            <a:ext cx="1506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packet flow</a:t>
            </a:r>
            <a:endParaRPr b="0" lang="en-US" sz="1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047120" y="2262240"/>
            <a:ext cx="1506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packet flow</a:t>
            </a:r>
            <a:endParaRPr b="0" lang="en-US" sz="1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41680" y="3556080"/>
            <a:ext cx="1235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ff9900"/>
                </a:solidFill>
                <a:latin typeface="Arial"/>
              </a:rPr>
              <a:t>accepts</a:t>
            </a:r>
            <a:endParaRPr b="0" lang="en-US" sz="1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493000" y="2152800"/>
            <a:ext cx="1467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ff9900"/>
                </a:solidFill>
                <a:latin typeface="Arial"/>
              </a:rPr>
              <a:t>announces</a:t>
            </a:r>
            <a:endParaRPr b="0" lang="en-US" sz="1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526000" y="3546360"/>
            <a:ext cx="1468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ff9900"/>
                </a:solidFill>
                <a:latin typeface="Arial"/>
              </a:rPr>
              <a:t>announces</a:t>
            </a:r>
            <a:endParaRPr b="0" lang="en-US" sz="1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862600" y="2201760"/>
            <a:ext cx="1285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ff9900"/>
                </a:solidFill>
                <a:latin typeface="Arial"/>
              </a:rPr>
              <a:t>accepts</a:t>
            </a:r>
            <a:endParaRPr b="0" lang="en-US" sz="1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8604360" y="0"/>
            <a:ext cx="5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N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928800" y="4600440"/>
            <a:ext cx="75038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For AS1 and AS2 networks to communicate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9f5e1"/>
                </a:solidFill>
                <a:latin typeface="Arial"/>
              </a:rPr>
              <a:t>AS1 must announce to AS2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9f5e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9f5e1"/>
                </a:solidFill>
                <a:latin typeface="Arial"/>
              </a:rPr>
              <a:t>AS2 must accept from AS1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9f5e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9f5e1"/>
                </a:solidFill>
                <a:latin typeface="Arial"/>
              </a:rPr>
              <a:t>AS2 must announce to AS1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9f5e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9f5e1"/>
                </a:solidFill>
                <a:latin typeface="Arial"/>
              </a:rPr>
              <a:t>AS1 must accept from AS2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"/>
          <p:cNvSpPr/>
          <p:nvPr/>
        </p:nvSpPr>
        <p:spPr>
          <a:xfrm>
            <a:off x="4724280" y="2590920"/>
            <a:ext cx="2667240" cy="106668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presentation of routing poli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1371600" y="2590920"/>
            <a:ext cx="2666880" cy="106668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167560" y="28576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1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640840" y="28576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2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038480" y="3124080"/>
            <a:ext cx="685800" cy="0"/>
          </a:xfrm>
          <a:prstGeom prst="line">
            <a:avLst/>
          </a:prstGeom>
          <a:ln w="3816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91360" y="4794120"/>
            <a:ext cx="35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ut-num: AS1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mport: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rom AS2 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tion pref=100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cept AS2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xport: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o AS2 announce AS1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812840" y="4794120"/>
            <a:ext cx="347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ut-num: AS2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mport: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rom AS1 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tion pref=100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cept AS1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xport: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o AS1 announce AS2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473280" y="186696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Basic concept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568680" y="387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270320" y="3999600"/>
            <a:ext cx="396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ction pref”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 the lower the value, the preferred the route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3679920" y="4602240"/>
            <a:ext cx="1171440" cy="923760"/>
          </a:xfrm>
          <a:prstGeom prst="line">
            <a:avLst/>
          </a:prstGeom>
          <a:ln w="38160">
            <a:solidFill>
              <a:srgbClr val="f9f5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149640" y="5573880"/>
            <a:ext cx="654120" cy="415800"/>
          </a:xfrm>
          <a:prstGeom prst="ellipse">
            <a:avLst/>
          </a:prstGeom>
          <a:noFill/>
          <a:ln w="3816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8604360" y="0"/>
            <a:ext cx="5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N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500"/>
                            </p:stCondLst>
                            <p:childTnLst>
                              <p:par>
                                <p:cTn id="1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PNIC services &amp; activit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360" y="1537920"/>
            <a:ext cx="3849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9f5e1"/>
                </a:solidFill>
                <a:uFillTx/>
                <a:latin typeface="Arial"/>
              </a:rPr>
              <a:t>Resources Servic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Pv4, IPv6, ASN, reverse DN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Policy developmen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Approved and implemented by membership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PNIC whois db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whois.apnic.ne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Registration of resources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Routing Registry: irr.apnic.ne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63880" y="1523520"/>
            <a:ext cx="4322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9f5e1"/>
                </a:solidFill>
                <a:uFillTx/>
                <a:latin typeface="Arial"/>
              </a:rPr>
              <a:t>Information dissemina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PNIC meeting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Publication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Web and ftp sit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Newsletters, global resource report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Mailing list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Open for anyone!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raining Cours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Subsidised for members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o-ordination &amp; liais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With membership, other RIRs &amp; other Internet Orgs.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8217000" y="4464000"/>
            <a:ext cx="718920" cy="7524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897360" y="3924360"/>
            <a:ext cx="731880" cy="527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807000" y="2079720"/>
            <a:ext cx="809280" cy="698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7993080" y="2754360"/>
            <a:ext cx="53964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/>
          <p:nvPr/>
        </p:nvSpPr>
        <p:spPr>
          <a:xfrm>
            <a:off x="615960" y="2664000"/>
            <a:ext cx="8442360" cy="2136600"/>
          </a:xfrm>
          <a:prstGeom prst="roundRect">
            <a:avLst>
              <a:gd name="adj" fmla="val 16667"/>
            </a:avLst>
          </a:prstGeom>
          <a:solidFill>
            <a:srgbClr val="99cc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822600" y="1374840"/>
            <a:ext cx="7032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778040"/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aut-num: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AS4777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778040"/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as-name: 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APNIC-NSPIXP2-AS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778040"/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descr: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Asia Pacific Network Information Centre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778040"/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descr: 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AS for NSPIXP2, remote facilities site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778040"/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rt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AS2500 action pref=100; accept ANY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778040"/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rt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m AS2524 action pref=100; accept ANY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778040"/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rt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AS2514 action pref=100; accept ANY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778040"/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ort: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AS2500 announce AS4777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778040"/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ort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AS2524 announce AS4777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778040"/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ort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AS2514 announce AS477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778040"/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ault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AS2500 action pref=100; networks ANY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778040"/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admin-c: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PW35-AP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778040"/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tech-c: 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NO4-AP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778040"/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remarks: 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Filtering prefixes longer than /24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778040"/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mnt-by: 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MAINT-APNIC-AP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778040"/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changed:  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paulg@apnic.net 19981028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778040"/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ource: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APNIC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-num object exa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783200" y="3824280"/>
            <a:ext cx="112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LICY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PSL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8604360" y="0"/>
            <a:ext cx="5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N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692" name="" descr=""/>
          <p:cNvPicPr/>
          <p:nvPr/>
        </p:nvPicPr>
        <p:blipFill>
          <a:blip r:embed="rId2"/>
          <a:stretch/>
        </p:blipFill>
        <p:spPr>
          <a:xfrm>
            <a:off x="7197840" y="485640"/>
            <a:ext cx="658800" cy="3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8" dur="10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2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1295280" y="228600"/>
            <a:ext cx="76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276200" y="252360"/>
            <a:ext cx="76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Questions ?</a:t>
            </a:r>
            <a:endParaRPr b="0" lang="en-US" sz="3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619280" y="6572160"/>
            <a:ext cx="57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erial available at: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</a:rPr>
              <a:t>www.apnic.net/training/recent/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Technical o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verview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Policies &amp; Procedur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"/>
          <p:cNvSpPr/>
          <p:nvPr/>
        </p:nvSpPr>
        <p:spPr>
          <a:xfrm>
            <a:off x="99072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 </a:t>
            </a:r>
            <a:endParaRPr b="0" lang="en-US" sz="3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990720" y="1523880"/>
            <a:ext cx="7467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Rationale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6 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ddressing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eatures of IPv6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ransition Techniques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urrent status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Pv6 Policies &amp; Procedures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tiona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9f5e1"/>
                </a:solidFill>
                <a:latin typeface="Arial"/>
              </a:rPr>
              <a:t>Address depletion concern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9f5e1"/>
                </a:solidFill>
                <a:latin typeface="Arial"/>
              </a:rPr>
              <a:t>Squeeze on available addresses spac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Probably will never run out, but will be harder to obtai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9f5e1"/>
                </a:solidFill>
                <a:latin typeface="Arial"/>
              </a:rPr>
              <a:t>End to end connectivity no longer visibl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Widespread use of NAT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6 provides much larger IP address space than IPv4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tionale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ncrease of backbone routing table siz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Current backbone routing table size  &gt; 100K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CIDR does not guarantee an efficient and scalable hierarchy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The lack of uniformity of the current hierarchical system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Routing aggregation is still a concern in IPv6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6 address architecture is more hierarchical than IPv4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dres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agement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erarch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8532720" y="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Pv6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089240" y="1537920"/>
            <a:ext cx="1243080" cy="337320"/>
          </a:xfrm>
          <a:prstGeom prst="rect">
            <a:avLst/>
          </a:prstGeom>
          <a:solidFill>
            <a:srgbClr val="ffffcc"/>
          </a:solidFill>
          <a:ln w="2844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NA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727280" y="2223000"/>
            <a:ext cx="1770120" cy="368280"/>
          </a:xfrm>
          <a:prstGeom prst="rect">
            <a:avLst/>
          </a:prstGeom>
          <a:solidFill>
            <a:srgbClr val="ffcc00"/>
          </a:solidFill>
          <a:ln w="2844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R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842080" y="2223000"/>
            <a:ext cx="1731960" cy="368280"/>
          </a:xfrm>
          <a:prstGeom prst="rect">
            <a:avLst/>
          </a:prstGeom>
          <a:solidFill>
            <a:srgbClr val="ffcc00"/>
          </a:solidFill>
          <a:ln w="2844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R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842080" y="2832840"/>
            <a:ext cx="1752480" cy="368280"/>
          </a:xfrm>
          <a:prstGeom prst="rect">
            <a:avLst/>
          </a:prstGeom>
          <a:solidFill>
            <a:srgbClr val="ffcc00"/>
          </a:solidFill>
          <a:ln w="2844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R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1712" name=""/>
          <p:cNvCxnSpPr>
            <a:stCxn id="1709" idx="0"/>
            <a:endCxn id="1708" idx="1"/>
          </p:cNvCxnSpPr>
          <p:nvPr/>
        </p:nvCxnSpPr>
        <p:spPr>
          <a:xfrm flipH="1" flipV="1" rot="5400000">
            <a:off x="3099240" y="1219320"/>
            <a:ext cx="489600" cy="1463040"/>
          </a:xfrm>
          <a:prstGeom prst="bentConnector2">
            <a:avLst/>
          </a:prstGeom>
          <a:ln w="28440">
            <a:solidFill>
              <a:srgbClr val="f9f5e1"/>
            </a:solidFill>
            <a:miter/>
          </a:ln>
        </p:spPr>
      </p:cxnSp>
      <p:cxnSp>
        <p:nvCxnSpPr>
          <p:cNvPr id="1713" name=""/>
          <p:cNvCxnSpPr>
            <a:stCxn id="1710" idx="0"/>
            <a:endCxn id="1708" idx="3"/>
          </p:cNvCxnSpPr>
          <p:nvPr/>
        </p:nvCxnSpPr>
        <p:spPr>
          <a:xfrm flipV="1" rot="16200000">
            <a:off x="5782680" y="1269360"/>
            <a:ext cx="489600" cy="1362600"/>
          </a:xfrm>
          <a:prstGeom prst="bentConnector2">
            <a:avLst/>
          </a:prstGeom>
          <a:ln w="28440">
            <a:solidFill>
              <a:srgbClr val="f9f5e1"/>
            </a:solidFill>
            <a:miter/>
          </a:ln>
        </p:spPr>
      </p:cxnSp>
      <p:sp>
        <p:nvSpPr>
          <p:cNvPr id="1714" name=""/>
          <p:cNvSpPr/>
          <p:nvPr/>
        </p:nvSpPr>
        <p:spPr>
          <a:xfrm>
            <a:off x="6680160" y="2590920"/>
            <a:ext cx="0" cy="228600"/>
          </a:xfrm>
          <a:prstGeom prst="line">
            <a:avLst/>
          </a:prstGeom>
          <a:ln w="2844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189080" y="4197240"/>
            <a:ext cx="7157880" cy="14400"/>
          </a:xfrm>
          <a:prstGeom prst="line">
            <a:avLst/>
          </a:prstGeom>
          <a:ln w="28440">
            <a:solidFill>
              <a:srgbClr val="f9f5e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246320" y="4597560"/>
            <a:ext cx="2700360" cy="174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327640" y="4540320"/>
            <a:ext cx="2700360" cy="1743120"/>
          </a:xfrm>
          <a:prstGeom prst="rect">
            <a:avLst/>
          </a:prstGeom>
          <a:solidFill>
            <a:srgbClr val="b2b2b2"/>
          </a:solidFill>
          <a:ln w="2844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1718" name=""/>
          <p:cNvCxnSpPr>
            <a:stCxn id="1716" idx="0"/>
            <a:endCxn id="1709" idx="2"/>
          </p:cNvCxnSpPr>
          <p:nvPr/>
        </p:nvCxnSpPr>
        <p:spPr>
          <a:xfrm flipV="1">
            <a:off x="2597040" y="2618640"/>
            <a:ext cx="16560" cy="1964520"/>
          </a:xfrm>
          <a:prstGeom prst="straightConnector1">
            <a:avLst/>
          </a:prstGeom>
          <a:ln w="28440">
            <a:solidFill>
              <a:srgbClr val="f9f5e1"/>
            </a:solidFill>
            <a:miter/>
          </a:ln>
        </p:spPr>
      </p:cxnSp>
      <p:cxnSp>
        <p:nvCxnSpPr>
          <p:cNvPr id="1719" name=""/>
          <p:cNvCxnSpPr>
            <a:stCxn id="1717" idx="0"/>
          </p:cNvCxnSpPr>
          <p:nvPr/>
        </p:nvCxnSpPr>
        <p:spPr>
          <a:xfrm flipV="1">
            <a:off x="6678720" y="3733560"/>
            <a:ext cx="2160" cy="792720"/>
          </a:xfrm>
          <a:prstGeom prst="straightConnector1">
            <a:avLst/>
          </a:prstGeom>
          <a:ln w="28440">
            <a:solidFill>
              <a:srgbClr val="f9f5e1"/>
            </a:solidFill>
            <a:miter/>
          </a:ln>
        </p:spPr>
      </p:cxnSp>
      <p:pic>
        <p:nvPicPr>
          <p:cNvPr id="1720" name="" descr=""/>
          <p:cNvPicPr/>
          <p:nvPr/>
        </p:nvPicPr>
        <p:blipFill>
          <a:blip r:embed="rId2"/>
          <a:stretch/>
        </p:blipFill>
        <p:spPr>
          <a:xfrm>
            <a:off x="1844640" y="4672080"/>
            <a:ext cx="1473120" cy="1106280"/>
          </a:xfrm>
          <a:prstGeom prst="rect">
            <a:avLst/>
          </a:prstGeom>
          <a:ln w="0">
            <a:noFill/>
          </a:ln>
        </p:spPr>
      </p:pic>
      <p:sp>
        <p:nvSpPr>
          <p:cNvPr id="1721" name=""/>
          <p:cNvSpPr/>
          <p:nvPr/>
        </p:nvSpPr>
        <p:spPr>
          <a:xfrm>
            <a:off x="1230480" y="5748480"/>
            <a:ext cx="25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er Site</a:t>
            </a:r>
            <a:endParaRPr b="0" lang="en-US" sz="2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397840" y="5715000"/>
            <a:ext cx="25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er Site</a:t>
            </a:r>
            <a:endParaRPr b="0" lang="en-US" sz="28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723" name="" descr=""/>
          <p:cNvPicPr/>
          <p:nvPr/>
        </p:nvPicPr>
        <p:blipFill>
          <a:blip r:embed="rId3"/>
          <a:stretch/>
        </p:blipFill>
        <p:spPr>
          <a:xfrm>
            <a:off x="5899320" y="4618080"/>
            <a:ext cx="1517400" cy="1195200"/>
          </a:xfrm>
          <a:prstGeom prst="rect">
            <a:avLst/>
          </a:prstGeom>
          <a:ln w="0">
            <a:noFill/>
          </a:ln>
        </p:spPr>
      </p:pic>
      <p:sp>
        <p:nvSpPr>
          <p:cNvPr id="1724" name=""/>
          <p:cNvSpPr/>
          <p:nvPr/>
        </p:nvSpPr>
        <p:spPr>
          <a:xfrm>
            <a:off x="5842080" y="3366000"/>
            <a:ext cx="1770120" cy="368280"/>
          </a:xfrm>
          <a:prstGeom prst="rect">
            <a:avLst/>
          </a:prstGeom>
          <a:solidFill>
            <a:srgbClr val="ffcc00"/>
          </a:solidFill>
          <a:ln w="2844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R/ISP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727280" y="3290040"/>
            <a:ext cx="1770120" cy="368280"/>
          </a:xfrm>
          <a:prstGeom prst="rect">
            <a:avLst/>
          </a:prstGeom>
          <a:solidFill>
            <a:srgbClr val="ffcc00"/>
          </a:solidFill>
          <a:ln w="2844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R/ISP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6680160" y="3200400"/>
            <a:ext cx="0" cy="152280"/>
          </a:xfrm>
          <a:prstGeom prst="line">
            <a:avLst/>
          </a:prstGeom>
          <a:ln w="2844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8142120" y="21574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 Unicode MS"/>
              </a:rPr>
              <a:t>/23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8129160" y="33163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 Unicode MS"/>
              </a:rPr>
              <a:t>/32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8172000" y="51577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 Unicode MS"/>
              </a:rPr>
              <a:t>/48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571640" y="51166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 Unicode MS"/>
              </a:rPr>
              <a:t>/64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5167440" y="5170320"/>
            <a:ext cx="1001520" cy="130320"/>
          </a:xfrm>
          <a:prstGeom prst="line">
            <a:avLst/>
          </a:prstGeom>
          <a:ln w="3168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349160" y="591336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 Unicode MS"/>
              </a:rPr>
              <a:t>/128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V="1">
            <a:off x="5153040" y="5630760"/>
            <a:ext cx="798480" cy="493920"/>
          </a:xfrm>
          <a:prstGeom prst="line">
            <a:avLst/>
          </a:prstGeom>
          <a:ln w="3168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tionale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Needs to improve the Internet environmen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Encryption, authentication, and data integrity safeguards neede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Necessity of IP level security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Plug and Play function neede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Reduce network administrators work load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Reduce errors caused by individual user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More recent technologies (security, Plug and Play, multicast, etc.) available by default in IPv6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9f5e1"/>
                </a:solidFill>
                <a:latin typeface="Arial"/>
              </a:rPr>
              <a:t>Useful reading: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f9f5e1"/>
                </a:solidFill>
                <a:latin typeface="Arial"/>
              </a:rPr>
              <a:t>The case for IPv6”: </a:t>
            </a:r>
            <a:r>
              <a:rPr b="0" lang="en-US" sz="1400" spc="-1" strike="noStrike">
                <a:solidFill>
                  <a:srgbClr val="f9f5e1"/>
                </a:solidFill>
                <a:latin typeface="Arial"/>
              </a:rPr>
              <a:t>http://www.6bone.net/misc/case-for-ipv6.html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address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128 bits of address spac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Hexadecimal values of eight 16 bit field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X:X:X:X:X:X:X:X  (X=16 bit number, e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x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: A2FE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16 bit number is converted to a 4 digit hexadecimal number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FE38:DCE3:124C:C1A2:BA03:6735:EF1C:683D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Abbreviated form of addres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4EED: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00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23:0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000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:0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000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:0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000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36E:125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:2B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00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4EED:23:0:0:0:36E:1250:2B00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4EED:23::36E:1250:2B00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(Null value can be used only once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addressing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mod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5094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6 Address type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Unicas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An identifier for a single interfac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Anycas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An identifier for a set of interfac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Multicas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An identifier for a group of nod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6351480" y="1844640"/>
            <a:ext cx="792360" cy="0"/>
          </a:xfrm>
          <a:prstGeom prst="line">
            <a:avLst/>
          </a:prstGeom>
          <a:ln w="38160">
            <a:solidFill>
              <a:srgbClr val="ffcc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6372360" y="3357720"/>
            <a:ext cx="431640" cy="0"/>
          </a:xfrm>
          <a:prstGeom prst="line">
            <a:avLst/>
          </a:prstGeom>
          <a:ln w="38160">
            <a:solidFill>
              <a:srgbClr val="ffcc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6804000" y="2708280"/>
            <a:ext cx="863640" cy="649440"/>
          </a:xfrm>
          <a:prstGeom prst="line">
            <a:avLst/>
          </a:prstGeom>
          <a:ln w="28440">
            <a:solidFill>
              <a:srgbClr val="ffcc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817320" y="3412080"/>
            <a:ext cx="830520" cy="492840"/>
          </a:xfrm>
          <a:prstGeom prst="line">
            <a:avLst/>
          </a:prstGeom>
          <a:ln w="28440">
            <a:solidFill>
              <a:srgbClr val="ffcc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804000" y="3357720"/>
            <a:ext cx="360360" cy="0"/>
          </a:xfrm>
          <a:prstGeom prst="line">
            <a:avLst/>
          </a:prstGeom>
          <a:ln w="2844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6372360" y="5518080"/>
            <a:ext cx="431640" cy="0"/>
          </a:xfrm>
          <a:prstGeom prst="line">
            <a:avLst/>
          </a:prstGeom>
          <a:ln w="38160">
            <a:solidFill>
              <a:srgbClr val="ffcc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6804000" y="5086080"/>
            <a:ext cx="360360" cy="431640"/>
          </a:xfrm>
          <a:prstGeom prst="line">
            <a:avLst/>
          </a:prstGeom>
          <a:ln w="2844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04000" y="5518080"/>
            <a:ext cx="360360" cy="0"/>
          </a:xfrm>
          <a:prstGeom prst="line">
            <a:avLst/>
          </a:prstGeom>
          <a:ln w="2844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19120" y="5499360"/>
            <a:ext cx="401760" cy="393480"/>
          </a:xfrm>
          <a:prstGeom prst="line">
            <a:avLst/>
          </a:prstGeom>
          <a:ln w="2844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49" name="computr2"/>
          <p:cNvSpPr/>
          <p:nvPr/>
        </p:nvSpPr>
        <p:spPr>
          <a:xfrm>
            <a:off x="5918040" y="1628640"/>
            <a:ext cx="505080" cy="5097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50" name="computr2"/>
          <p:cNvSpPr/>
          <p:nvPr/>
        </p:nvSpPr>
        <p:spPr>
          <a:xfrm>
            <a:off x="7045200" y="1628640"/>
            <a:ext cx="505080" cy="5097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51" name="computr2"/>
          <p:cNvSpPr/>
          <p:nvPr/>
        </p:nvSpPr>
        <p:spPr>
          <a:xfrm>
            <a:off x="5952960" y="3141720"/>
            <a:ext cx="505080" cy="509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52" name="computr2"/>
          <p:cNvSpPr/>
          <p:nvPr/>
        </p:nvSpPr>
        <p:spPr>
          <a:xfrm>
            <a:off x="7605720" y="2565360"/>
            <a:ext cx="504720" cy="5097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53" name="computr2"/>
          <p:cNvSpPr/>
          <p:nvPr/>
        </p:nvSpPr>
        <p:spPr>
          <a:xfrm>
            <a:off x="7139160" y="3094200"/>
            <a:ext cx="504720" cy="509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54" name="computr2"/>
          <p:cNvSpPr/>
          <p:nvPr/>
        </p:nvSpPr>
        <p:spPr>
          <a:xfrm>
            <a:off x="7594560" y="3627360"/>
            <a:ext cx="504720" cy="5097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55" name="computr2"/>
          <p:cNvSpPr/>
          <p:nvPr/>
        </p:nvSpPr>
        <p:spPr>
          <a:xfrm>
            <a:off x="7164360" y="4692600"/>
            <a:ext cx="504720" cy="5097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56" name="computr2"/>
          <p:cNvSpPr/>
          <p:nvPr/>
        </p:nvSpPr>
        <p:spPr>
          <a:xfrm>
            <a:off x="7164360" y="5221440"/>
            <a:ext cx="504720" cy="509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57" name="computr2"/>
          <p:cNvSpPr/>
          <p:nvPr/>
        </p:nvSpPr>
        <p:spPr>
          <a:xfrm>
            <a:off x="7176960" y="5754600"/>
            <a:ext cx="505080" cy="5097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58" name="computr2"/>
          <p:cNvSpPr/>
          <p:nvPr/>
        </p:nvSpPr>
        <p:spPr>
          <a:xfrm>
            <a:off x="5999040" y="5292720"/>
            <a:ext cx="505080" cy="5097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133880" y="1022400"/>
            <a:ext cx="797040" cy="814320"/>
          </a:xfrm>
          <a:prstGeom prst="flowChartMultidocumen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RFC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  <a:ea typeface="ＭＳ Ｐゴシック"/>
              </a:rPr>
              <a:t>3513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228600"/>
            <a:ext cx="76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76200" y="252360"/>
            <a:ext cx="76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Questions ?</a:t>
            </a:r>
            <a:endParaRPr b="0" lang="en-US" sz="3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6572160"/>
            <a:ext cx="57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erial available at: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</a:rPr>
              <a:t>www.apnic.net/training/recent/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icast add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Address given to interface for communication between host and router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Aggregatable global unicast addres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Local use unicast addres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Link-local address (starting with FE80::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Site-local address (starting with FEC0::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601640" y="3225960"/>
            <a:ext cx="3156120" cy="490320"/>
          </a:xfrm>
          <a:prstGeom prst="rect">
            <a:avLst/>
          </a:prstGeom>
          <a:solidFill>
            <a:srgbClr val="ccffff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1328760" y="3225960"/>
            <a:ext cx="272880" cy="490320"/>
          </a:xfrm>
          <a:prstGeom prst="rect">
            <a:avLst/>
          </a:prstGeom>
          <a:solidFill>
            <a:srgbClr val="ccffff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757760" y="3225960"/>
            <a:ext cx="3290760" cy="490320"/>
          </a:xfrm>
          <a:prstGeom prst="rect">
            <a:avLst/>
          </a:prstGeom>
          <a:solidFill>
            <a:srgbClr val="ffcc99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262520" y="3208320"/>
            <a:ext cx="60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25592"/>
                </a:solidFill>
                <a:latin typeface="Arial"/>
                <a:ea typeface="ＭＳ Ｐゴシック"/>
              </a:rPr>
              <a:t>001     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25592"/>
                </a:solidFill>
                <a:latin typeface="Arial"/>
                <a:ea typeface="ＭＳ Ｐゴシック"/>
              </a:rPr>
              <a:t>FP                                             subnet prefix                                                                                         Interface ID  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25592"/>
                </a:solidFill>
                <a:latin typeface="Arial"/>
                <a:ea typeface="ＭＳ Ｐゴシック"/>
              </a:rPr>
              <a:t>3bits                                                                                                                                                             64 bits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705200" y="5160960"/>
            <a:ext cx="3289320" cy="488880"/>
          </a:xfrm>
          <a:prstGeom prst="rect">
            <a:avLst/>
          </a:prstGeom>
          <a:solidFill>
            <a:srgbClr val="ffcc99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041560" y="5160960"/>
            <a:ext cx="2663640" cy="488880"/>
          </a:xfrm>
          <a:prstGeom prst="rect">
            <a:avLst/>
          </a:prstGeom>
          <a:solidFill>
            <a:srgbClr val="ccffff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289160" y="5160960"/>
            <a:ext cx="750600" cy="488880"/>
          </a:xfrm>
          <a:prstGeom prst="rect">
            <a:avLst/>
          </a:prstGeom>
          <a:solidFill>
            <a:srgbClr val="ccffff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1270440" y="5303880"/>
            <a:ext cx="58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25592"/>
                </a:solidFill>
                <a:latin typeface="Arial"/>
                <a:ea typeface="ＭＳ Ｐゴシック"/>
              </a:rPr>
              <a:t>1111111010                                 000…….0000                                                                                   Interface ID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25592"/>
                </a:solidFill>
                <a:latin typeface="Arial"/>
                <a:ea typeface="ＭＳ Ｐゴシック"/>
              </a:rPr>
              <a:t>       </a:t>
            </a:r>
            <a:r>
              <a:rPr b="1" lang="en-US" sz="900" spc="-1" strike="noStrike">
                <a:solidFill>
                  <a:srgbClr val="325592"/>
                </a:solidFill>
                <a:latin typeface="Arial"/>
                <a:ea typeface="ＭＳ Ｐゴシック"/>
              </a:rPr>
              <a:t>10 bits                                         54 bits                                                                                           64 bits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716360" y="6046920"/>
            <a:ext cx="3289320" cy="488880"/>
          </a:xfrm>
          <a:prstGeom prst="rect">
            <a:avLst/>
          </a:prstGeom>
          <a:solidFill>
            <a:srgbClr val="ffcc99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052720" y="6046920"/>
            <a:ext cx="2663640" cy="488880"/>
          </a:xfrm>
          <a:prstGeom prst="rect">
            <a:avLst/>
          </a:prstGeom>
          <a:solidFill>
            <a:srgbClr val="ccffff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300320" y="6046920"/>
            <a:ext cx="750600" cy="488880"/>
          </a:xfrm>
          <a:prstGeom prst="rect">
            <a:avLst/>
          </a:prstGeom>
          <a:solidFill>
            <a:srgbClr val="ccffff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314360" y="6118200"/>
            <a:ext cx="57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25592"/>
                </a:solidFill>
                <a:latin typeface="Arial"/>
                <a:ea typeface="ＭＳ Ｐゴシック"/>
              </a:rPr>
              <a:t>1111111011                                     Subnet-ID                                                                                 Interface ID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25592"/>
                </a:solidFill>
                <a:latin typeface="Arial"/>
                <a:ea typeface="ＭＳ Ｐゴシック"/>
              </a:rPr>
              <a:t>       </a:t>
            </a:r>
            <a:r>
              <a:rPr b="1" lang="en-US" sz="900" spc="-1" strike="noStrike">
                <a:solidFill>
                  <a:srgbClr val="325592"/>
                </a:solidFill>
                <a:latin typeface="Arial"/>
                <a:ea typeface="ＭＳ Ｐゴシック"/>
              </a:rPr>
              <a:t>10 bits                                         54 bits                                                                                           64 bits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952560" y="6039000"/>
            <a:ext cx="7429320" cy="5904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919080" y="5992560"/>
            <a:ext cx="7429680" cy="565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Pv6 head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971280" y="939600"/>
            <a:ext cx="74674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Comparison between IPv4 header and IPv6 head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 flipV="1">
            <a:off x="1273320" y="3589560"/>
            <a:ext cx="36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25592"/>
                </a:solidFill>
                <a:latin typeface="Arial"/>
                <a:ea typeface="ＭＳ Ｐゴシック"/>
              </a:rPr>
              <a:t>IHL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827640" y="51865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HL=IP Header Length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TTL=Time to Live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780" name=""/>
          <p:cNvGrpSpPr/>
          <p:nvPr/>
        </p:nvGrpSpPr>
        <p:grpSpPr>
          <a:xfrm>
            <a:off x="741240" y="1803240"/>
            <a:ext cx="4033800" cy="3025440"/>
            <a:chOff x="741240" y="1803240"/>
            <a:chExt cx="4033800" cy="3025440"/>
          </a:xfrm>
        </p:grpSpPr>
        <p:sp>
          <p:nvSpPr>
            <p:cNvPr id="1781" name=""/>
            <p:cNvSpPr/>
            <p:nvPr/>
          </p:nvSpPr>
          <p:spPr>
            <a:xfrm>
              <a:off x="1749240" y="2811240"/>
              <a:ext cx="1008000" cy="504720"/>
            </a:xfrm>
            <a:prstGeom prst="rect">
              <a:avLst/>
            </a:prstGeom>
            <a:solidFill>
              <a:srgbClr val="f9f5e1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1782" name=""/>
            <p:cNvGrpSpPr/>
            <p:nvPr/>
          </p:nvGrpSpPr>
          <p:grpSpPr>
            <a:xfrm>
              <a:off x="741240" y="1803240"/>
              <a:ext cx="4033800" cy="3025440"/>
              <a:chOff x="741240" y="1803240"/>
              <a:chExt cx="4033800" cy="3025440"/>
            </a:xfrm>
          </p:grpSpPr>
          <p:grpSp>
            <p:nvGrpSpPr>
              <p:cNvPr id="1783" name=""/>
              <p:cNvGrpSpPr/>
              <p:nvPr/>
            </p:nvGrpSpPr>
            <p:grpSpPr>
              <a:xfrm>
                <a:off x="741240" y="1803240"/>
                <a:ext cx="4033800" cy="1009440"/>
                <a:chOff x="741240" y="1803240"/>
                <a:chExt cx="4033800" cy="1009440"/>
              </a:xfrm>
            </p:grpSpPr>
            <p:grpSp>
              <p:nvGrpSpPr>
                <p:cNvPr id="1784" name=""/>
                <p:cNvGrpSpPr/>
                <p:nvPr/>
              </p:nvGrpSpPr>
              <p:grpSpPr>
                <a:xfrm>
                  <a:off x="741240" y="1803240"/>
                  <a:ext cx="4033800" cy="504720"/>
                  <a:chOff x="741240" y="1803240"/>
                  <a:chExt cx="4033800" cy="504720"/>
                </a:xfrm>
              </p:grpSpPr>
              <p:grpSp>
                <p:nvGrpSpPr>
                  <p:cNvPr id="1785" name=""/>
                  <p:cNvGrpSpPr/>
                  <p:nvPr/>
                </p:nvGrpSpPr>
                <p:grpSpPr>
                  <a:xfrm>
                    <a:off x="741240" y="1803240"/>
                    <a:ext cx="4033800" cy="504720"/>
                    <a:chOff x="741240" y="1803240"/>
                    <a:chExt cx="4033800" cy="504720"/>
                  </a:xfrm>
                </p:grpSpPr>
                <p:sp>
                  <p:nvSpPr>
                    <p:cNvPr id="1786" name=""/>
                    <p:cNvSpPr/>
                    <p:nvPr/>
                  </p:nvSpPr>
                  <p:spPr>
                    <a:xfrm>
                      <a:off x="741240" y="1803240"/>
                      <a:ext cx="504720" cy="504720"/>
                    </a:xfrm>
                    <a:prstGeom prst="rect">
                      <a:avLst/>
                    </a:prstGeom>
                    <a:solidFill>
                      <a:srgbClr val="f9f5e1"/>
                    </a:solidFill>
                    <a:ln w="12600">
                      <a:solidFill>
                        <a:srgbClr val="32559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7" name=""/>
                    <p:cNvSpPr/>
                    <p:nvPr/>
                  </p:nvSpPr>
                  <p:spPr>
                    <a:xfrm>
                      <a:off x="1245960" y="1803240"/>
                      <a:ext cx="504720" cy="504720"/>
                    </a:xfrm>
                    <a:prstGeom prst="rect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32559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8" name=""/>
                    <p:cNvSpPr/>
                    <p:nvPr/>
                  </p:nvSpPr>
                  <p:spPr>
                    <a:xfrm>
                      <a:off x="1749240" y="1803240"/>
                      <a:ext cx="1008000" cy="50472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12600">
                      <a:solidFill>
                        <a:srgbClr val="32559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9" name=""/>
                    <p:cNvSpPr/>
                    <p:nvPr/>
                  </p:nvSpPr>
                  <p:spPr>
                    <a:xfrm>
                      <a:off x="2757240" y="1803240"/>
                      <a:ext cx="2017800" cy="504720"/>
                    </a:xfrm>
                    <a:prstGeom prst="rect">
                      <a:avLst/>
                    </a:prstGeom>
                    <a:solidFill>
                      <a:srgbClr val="f9f5e1"/>
                    </a:solidFill>
                    <a:ln w="12600">
                      <a:solidFill>
                        <a:srgbClr val="32559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90" name=""/>
                  <p:cNvSpPr/>
                  <p:nvPr/>
                </p:nvSpPr>
                <p:spPr>
                  <a:xfrm>
                    <a:off x="741240" y="1874520"/>
                    <a:ext cx="3816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325592"/>
                        </a:solidFill>
                        <a:latin typeface="Arial"/>
                        <a:ea typeface="ＭＳ Ｐゴシック"/>
                      </a:rPr>
                      <a:t>Version        IHL         Type of Service                    Total Length </a:t>
                    </a:r>
                    <a:endParaRPr b="0" lang="en-US" sz="900" spc="-1" strike="noStrike">
                      <a:solidFill>
                        <a:srgbClr val="325592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325592"/>
                        </a:solidFill>
                        <a:latin typeface="Arial"/>
                        <a:ea typeface="ＭＳ Ｐゴシック"/>
                      </a:rPr>
                      <a:t> </a:t>
                    </a:r>
                    <a:r>
                      <a:rPr b="0" lang="en-US" sz="900" spc="-1" strike="noStrike">
                        <a:solidFill>
                          <a:srgbClr val="325592"/>
                        </a:solidFill>
                        <a:latin typeface="Arial"/>
                        <a:ea typeface="ＭＳ Ｐゴシック"/>
                      </a:rPr>
                      <a:t>4 bits          4bits                 8bits                                  16bits</a:t>
                    </a:r>
                    <a:endParaRPr b="0" lang="en-US" sz="900" spc="-1" strike="noStrike">
                      <a:solidFill>
                        <a:srgbClr val="32559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1" name=""/>
                <p:cNvSpPr/>
                <p:nvPr/>
              </p:nvSpPr>
              <p:spPr>
                <a:xfrm>
                  <a:off x="2757240" y="2307960"/>
                  <a:ext cx="504720" cy="504720"/>
                </a:xfrm>
                <a:prstGeom prst="rect">
                  <a:avLst/>
                </a:prstGeom>
                <a:solidFill>
                  <a:srgbClr val="ffcc99"/>
                </a:solidFill>
                <a:ln w="12600">
                  <a:solidFill>
                    <a:srgbClr val="3255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3261960" y="2307960"/>
                  <a:ext cx="1513080" cy="504720"/>
                </a:xfrm>
                <a:prstGeom prst="rect">
                  <a:avLst/>
                </a:prstGeom>
                <a:solidFill>
                  <a:srgbClr val="ffcc99"/>
                </a:solidFill>
                <a:ln w="12600">
                  <a:solidFill>
                    <a:srgbClr val="3255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741240" y="2307960"/>
                  <a:ext cx="2017800" cy="504720"/>
                </a:xfrm>
                <a:prstGeom prst="rect">
                  <a:avLst/>
                </a:prstGeom>
                <a:solidFill>
                  <a:srgbClr val="ffcc99"/>
                </a:solidFill>
                <a:ln w="12600">
                  <a:solidFill>
                    <a:srgbClr val="3255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741240" y="2379240"/>
                  <a:ext cx="381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325592"/>
                      </a:solidFill>
                      <a:latin typeface="Arial"/>
                      <a:ea typeface="ＭＳ Ｐゴシック"/>
                    </a:rPr>
                    <a:t>                     </a:t>
                  </a:r>
                  <a:r>
                    <a:rPr b="0" lang="en-US" sz="900" spc="-1" strike="noStrike">
                      <a:solidFill>
                        <a:srgbClr val="325592"/>
                      </a:solidFill>
                      <a:latin typeface="Arial"/>
                      <a:ea typeface="ＭＳ Ｐゴシック"/>
                    </a:rPr>
                    <a:t>Identification                       Flags              Fragment Offset</a:t>
                  </a:r>
                  <a:endParaRPr b="0" lang="en-US" sz="900" spc="-1" strike="noStrike">
                    <a:solidFill>
                      <a:srgbClr val="325592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325592"/>
                      </a:solidFill>
                      <a:latin typeface="Arial"/>
                      <a:ea typeface="ＭＳ Ｐゴシック"/>
                    </a:rPr>
                    <a:t>                           </a:t>
                  </a:r>
                  <a:r>
                    <a:rPr b="0" lang="en-US" sz="900" spc="-1" strike="noStrike">
                      <a:solidFill>
                        <a:srgbClr val="325592"/>
                      </a:solidFill>
                      <a:latin typeface="Arial"/>
                      <a:ea typeface="ＭＳ Ｐゴシック"/>
                    </a:rPr>
                    <a:t>16 bits                            4 bits                   12 bits</a:t>
                  </a:r>
                  <a:endParaRPr b="0" lang="en-US" sz="9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5" name=""/>
              <p:cNvGrpSpPr/>
              <p:nvPr/>
            </p:nvGrpSpPr>
            <p:grpSpPr>
              <a:xfrm>
                <a:off x="741240" y="2811240"/>
                <a:ext cx="4033800" cy="504720"/>
                <a:chOff x="741240" y="2811240"/>
                <a:chExt cx="4033800" cy="504720"/>
              </a:xfrm>
            </p:grpSpPr>
            <p:sp>
              <p:nvSpPr>
                <p:cNvPr id="1796" name=""/>
                <p:cNvSpPr/>
                <p:nvPr/>
              </p:nvSpPr>
              <p:spPr>
                <a:xfrm>
                  <a:off x="741240" y="2811240"/>
                  <a:ext cx="1008000" cy="504720"/>
                </a:xfrm>
                <a:prstGeom prst="rect">
                  <a:avLst/>
                </a:prstGeom>
                <a:solidFill>
                  <a:srgbClr val="f9f5e1"/>
                </a:solidFill>
                <a:ln w="12600">
                  <a:solidFill>
                    <a:srgbClr val="3255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2757240" y="2811240"/>
                  <a:ext cx="2017800" cy="504720"/>
                </a:xfrm>
                <a:prstGeom prst="rect">
                  <a:avLst/>
                </a:prstGeom>
                <a:solidFill>
                  <a:srgbClr val="ffcc99"/>
                </a:solidFill>
                <a:ln w="12600">
                  <a:solidFill>
                    <a:srgbClr val="3255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814320" y="2882520"/>
                  <a:ext cx="367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325592"/>
                      </a:solidFill>
                      <a:latin typeface="Arial"/>
                      <a:ea typeface="ＭＳ Ｐゴシック"/>
                    </a:rPr>
                    <a:t>  </a:t>
                  </a:r>
                  <a:r>
                    <a:rPr b="0" lang="en-US" sz="900" spc="-1" strike="noStrike">
                      <a:solidFill>
                        <a:srgbClr val="325592"/>
                      </a:solidFill>
                      <a:latin typeface="Arial"/>
                      <a:ea typeface="ＭＳ Ｐゴシック"/>
                    </a:rPr>
                    <a:t>TTL                      Protocol Header                Header Checksum</a:t>
                  </a:r>
                  <a:endParaRPr b="0" lang="en-US" sz="900" spc="-1" strike="noStrike">
                    <a:solidFill>
                      <a:srgbClr val="325592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325592"/>
                      </a:solidFill>
                      <a:latin typeface="Arial"/>
                      <a:ea typeface="ＭＳ Ｐゴシック"/>
                    </a:rPr>
                    <a:t>  </a:t>
                  </a:r>
                  <a:r>
                    <a:rPr b="0" lang="en-US" sz="900" spc="-1" strike="noStrike">
                      <a:solidFill>
                        <a:srgbClr val="325592"/>
                      </a:solidFill>
                      <a:latin typeface="Arial"/>
                      <a:ea typeface="ＭＳ Ｐゴシック"/>
                    </a:rPr>
                    <a:t>8 bits                         8 bits                                      16 bits</a:t>
                  </a:r>
                  <a:endParaRPr b="0" lang="en-US" sz="9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9" name=""/>
              <p:cNvGrpSpPr/>
              <p:nvPr/>
            </p:nvGrpSpPr>
            <p:grpSpPr>
              <a:xfrm>
                <a:off x="741240" y="3315960"/>
                <a:ext cx="4033800" cy="1512720"/>
                <a:chOff x="741240" y="3315960"/>
                <a:chExt cx="4033800" cy="1512720"/>
              </a:xfrm>
            </p:grpSpPr>
            <p:sp>
              <p:nvSpPr>
                <p:cNvPr id="1800" name=""/>
                <p:cNvSpPr/>
                <p:nvPr/>
              </p:nvSpPr>
              <p:spPr>
                <a:xfrm>
                  <a:off x="741240" y="4323960"/>
                  <a:ext cx="4033800" cy="504720"/>
                </a:xfrm>
                <a:prstGeom prst="rect">
                  <a:avLst/>
                </a:prstGeom>
                <a:solidFill>
                  <a:srgbClr val="ffcc99"/>
                </a:solidFill>
                <a:ln w="12600">
                  <a:solidFill>
                    <a:srgbClr val="3255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1" name=""/>
                <p:cNvGrpSpPr/>
                <p:nvPr/>
              </p:nvGrpSpPr>
              <p:grpSpPr>
                <a:xfrm>
                  <a:off x="741240" y="3315960"/>
                  <a:ext cx="4033800" cy="504720"/>
                  <a:chOff x="741240" y="3315960"/>
                  <a:chExt cx="4033800" cy="504720"/>
                </a:xfrm>
              </p:grpSpPr>
              <p:sp>
                <p:nvSpPr>
                  <p:cNvPr id="1802" name=""/>
                  <p:cNvSpPr/>
                  <p:nvPr/>
                </p:nvSpPr>
                <p:spPr>
                  <a:xfrm>
                    <a:off x="741240" y="3315960"/>
                    <a:ext cx="4033800" cy="504720"/>
                  </a:xfrm>
                  <a:prstGeom prst="rect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32559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2559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>
                    <a:off x="814320" y="3387240"/>
                    <a:ext cx="3816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325592"/>
                        </a:solidFill>
                        <a:latin typeface="Arial"/>
                        <a:ea typeface="ＭＳ Ｐゴシック"/>
                      </a:rPr>
                      <a:t>Source Address</a:t>
                    </a:r>
                    <a:endParaRPr b="0" lang="en-US" sz="900" spc="-1" strike="noStrike">
                      <a:solidFill>
                        <a:srgbClr val="325592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325592"/>
                        </a:solidFill>
                        <a:latin typeface="Arial"/>
                        <a:ea typeface="ＭＳ Ｐゴシック"/>
                      </a:rPr>
                      <a:t>32 bits</a:t>
                    </a:r>
                    <a:endParaRPr b="0" lang="en-US" sz="900" spc="-1" strike="noStrike">
                      <a:solidFill>
                        <a:srgbClr val="32559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4" name=""/>
                <p:cNvGrpSpPr/>
                <p:nvPr/>
              </p:nvGrpSpPr>
              <p:grpSpPr>
                <a:xfrm>
                  <a:off x="741240" y="3819240"/>
                  <a:ext cx="4033800" cy="504720"/>
                  <a:chOff x="741240" y="3819240"/>
                  <a:chExt cx="4033800" cy="504720"/>
                </a:xfrm>
              </p:grpSpPr>
              <p:sp>
                <p:nvSpPr>
                  <p:cNvPr id="1805" name=""/>
                  <p:cNvSpPr/>
                  <p:nvPr/>
                </p:nvSpPr>
                <p:spPr>
                  <a:xfrm>
                    <a:off x="741240" y="3819240"/>
                    <a:ext cx="4033800" cy="504720"/>
                  </a:xfrm>
                  <a:prstGeom prst="rect">
                    <a:avLst/>
                  </a:prstGeom>
                  <a:solidFill>
                    <a:srgbClr val="ffff99"/>
                  </a:solidFill>
                  <a:ln w="12600">
                    <a:solidFill>
                      <a:srgbClr val="32559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2559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>
                    <a:off x="885600" y="3890520"/>
                    <a:ext cx="3816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325592"/>
                        </a:solidFill>
                        <a:latin typeface="Arial"/>
                        <a:ea typeface="ＭＳ Ｐゴシック"/>
                      </a:rPr>
                      <a:t>Destination Address</a:t>
                    </a:r>
                    <a:endParaRPr b="0" lang="en-US" sz="900" spc="-1" strike="noStrike">
                      <a:solidFill>
                        <a:srgbClr val="325592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325592"/>
                        </a:solidFill>
                        <a:latin typeface="Arial"/>
                        <a:ea typeface="ＭＳ Ｐゴシック"/>
                      </a:rPr>
                      <a:t>32 bits</a:t>
                    </a:r>
                    <a:endParaRPr b="0" lang="en-US" sz="900" spc="-1" strike="noStrike">
                      <a:solidFill>
                        <a:srgbClr val="32559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7" name=""/>
                <p:cNvSpPr/>
                <p:nvPr/>
              </p:nvSpPr>
              <p:spPr>
                <a:xfrm>
                  <a:off x="885600" y="4395600"/>
                  <a:ext cx="381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325592"/>
                      </a:solidFill>
                      <a:latin typeface="Arial"/>
                      <a:ea typeface="ＭＳ Ｐゴシック"/>
                    </a:rPr>
                    <a:t>IP options</a:t>
                  </a:r>
                  <a:endParaRPr b="0" lang="en-US" sz="900" spc="-1" strike="noStrike">
                    <a:solidFill>
                      <a:srgbClr val="32559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325592"/>
                      </a:solidFill>
                      <a:latin typeface="Arial"/>
                      <a:ea typeface="ＭＳ Ｐゴシック"/>
                    </a:rPr>
                    <a:t>0 or more bits</a:t>
                  </a:r>
                  <a:endParaRPr b="0" lang="en-US" sz="9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08" name=""/>
          <p:cNvSpPr/>
          <p:nvPr/>
        </p:nvSpPr>
        <p:spPr>
          <a:xfrm>
            <a:off x="655560" y="13003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IPv4 Header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2268360" y="5257800"/>
            <a:ext cx="289080" cy="289080"/>
          </a:xfrm>
          <a:prstGeom prst="rect">
            <a:avLst/>
          </a:prstGeom>
          <a:solidFill>
            <a:srgbClr val="ffcc99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2484720" y="5257800"/>
            <a:ext cx="130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= </a:t>
            </a:r>
            <a:r>
              <a:rPr b="0" lang="en-US" sz="1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Eliminated</a:t>
            </a:r>
            <a:r>
              <a:rPr b="0" lang="en-US" sz="10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 in IPv6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811" name=""/>
          <p:cNvGrpSpPr/>
          <p:nvPr/>
        </p:nvGrpSpPr>
        <p:grpSpPr>
          <a:xfrm>
            <a:off x="915840" y="5619600"/>
            <a:ext cx="2178720" cy="1152720"/>
            <a:chOff x="915840" y="5619600"/>
            <a:chExt cx="2178720" cy="1152720"/>
          </a:xfrm>
        </p:grpSpPr>
        <p:grpSp>
          <p:nvGrpSpPr>
            <p:cNvPr id="1812" name=""/>
            <p:cNvGrpSpPr/>
            <p:nvPr/>
          </p:nvGrpSpPr>
          <p:grpSpPr>
            <a:xfrm>
              <a:off x="915840" y="5619600"/>
              <a:ext cx="2178720" cy="288720"/>
              <a:chOff x="915840" y="5619600"/>
              <a:chExt cx="2178720" cy="288720"/>
            </a:xfrm>
          </p:grpSpPr>
          <p:sp>
            <p:nvSpPr>
              <p:cNvPr id="1813" name=""/>
              <p:cNvSpPr/>
              <p:nvPr/>
            </p:nvSpPr>
            <p:spPr>
              <a:xfrm>
                <a:off x="915840" y="5619600"/>
                <a:ext cx="289080" cy="2887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636560" y="5619600"/>
                <a:ext cx="289080" cy="2887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276200" y="5762520"/>
                <a:ext cx="289080" cy="73080"/>
              </a:xfrm>
              <a:prstGeom prst="rightArrow">
                <a:avLst>
                  <a:gd name="adj1" fmla="val 50000"/>
                  <a:gd name="adj2" fmla="val 98892"/>
                </a:avLst>
              </a:prstGeom>
              <a:solidFill>
                <a:srgbClr val="f9f5e1"/>
              </a:solidFill>
              <a:ln w="1260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924920" y="5619600"/>
                <a:ext cx="1169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9f5e1"/>
                    </a:solidFill>
                    <a:latin typeface="Arial"/>
                    <a:ea typeface="Arial Unicode MS"/>
                  </a:rPr>
                  <a:t>Enhanced in IPv6</a:t>
                </a:r>
                <a:endParaRPr b="0" lang="en-US" sz="10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1817" name=""/>
            <p:cNvSpPr/>
            <p:nvPr/>
          </p:nvSpPr>
          <p:spPr>
            <a:xfrm>
              <a:off x="915840" y="6051600"/>
              <a:ext cx="289080" cy="288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636560" y="6051600"/>
              <a:ext cx="289080" cy="2887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276200" y="6194520"/>
              <a:ext cx="289080" cy="73080"/>
            </a:xfrm>
            <a:prstGeom prst="rightArrow">
              <a:avLst>
                <a:gd name="adj1" fmla="val 50000"/>
                <a:gd name="adj2" fmla="val 98892"/>
              </a:avLst>
            </a:prstGeom>
            <a:solidFill>
              <a:srgbClr val="f9f5e1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924920" y="6051600"/>
              <a:ext cx="116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9f5e1"/>
                  </a:solidFill>
                  <a:latin typeface="Arial"/>
                  <a:ea typeface="Arial Unicode MS"/>
                </a:rPr>
                <a:t>Enhanced in IPv6</a:t>
              </a:r>
              <a:endParaRPr b="0" lang="en-US" sz="1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915840" y="6483240"/>
              <a:ext cx="289080" cy="2890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36560" y="6483240"/>
              <a:ext cx="289080" cy="289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276200" y="6626160"/>
              <a:ext cx="289080" cy="73080"/>
            </a:xfrm>
            <a:prstGeom prst="rightArrow">
              <a:avLst>
                <a:gd name="adj1" fmla="val 50000"/>
                <a:gd name="adj2" fmla="val 98892"/>
              </a:avLst>
            </a:prstGeom>
            <a:solidFill>
              <a:srgbClr val="f9f5e1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924920" y="6483240"/>
              <a:ext cx="116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9f5e1"/>
                  </a:solidFill>
                  <a:latin typeface="Arial"/>
                  <a:ea typeface="Arial Unicode MS"/>
                </a:rPr>
                <a:t>Enhanced in IPv6</a:t>
              </a:r>
              <a:endParaRPr b="0" lang="en-US" sz="1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825" name=""/>
          <p:cNvGrpSpPr/>
          <p:nvPr/>
        </p:nvGrpSpPr>
        <p:grpSpPr>
          <a:xfrm>
            <a:off x="4859280" y="1300320"/>
            <a:ext cx="4121280" cy="5486400"/>
            <a:chOff x="4859280" y="1300320"/>
            <a:chExt cx="4121280" cy="5486400"/>
          </a:xfrm>
        </p:grpSpPr>
        <p:sp>
          <p:nvSpPr>
            <p:cNvPr id="1826" name=""/>
            <p:cNvSpPr/>
            <p:nvPr/>
          </p:nvSpPr>
          <p:spPr>
            <a:xfrm>
              <a:off x="4859280" y="130032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9f5e1"/>
                  </a:solidFill>
                  <a:latin typeface="Arial Unicode MS"/>
                  <a:ea typeface="Arial Unicode MS"/>
                </a:rPr>
                <a:t>IPv6 Header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946760" y="2811600"/>
              <a:ext cx="4033800" cy="5047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019840" y="288288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Source Address</a:t>
              </a:r>
              <a:endParaRPr b="0" lang="en-US" sz="9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128 bits</a:t>
              </a:r>
              <a:endParaRPr b="0" lang="en-US" sz="9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44960" y="4802040"/>
              <a:ext cx="4033800" cy="505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075280" y="488808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Destination Address</a:t>
              </a:r>
              <a:endParaRPr b="0" lang="en-US" sz="9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128 bits</a:t>
              </a:r>
              <a:endParaRPr b="0" lang="en-US" sz="9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46760" y="2308320"/>
              <a:ext cx="2017440" cy="504720"/>
            </a:xfrm>
            <a:prstGeom prst="rect">
              <a:avLst/>
            </a:prstGeom>
            <a:solidFill>
              <a:srgbClr val="f9f5e1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962760" y="2308320"/>
              <a:ext cx="1008000" cy="504720"/>
            </a:xfrm>
            <a:prstGeom prst="rect">
              <a:avLst/>
            </a:prstGeom>
            <a:solidFill>
              <a:srgbClr val="f9f5e1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970760" y="2308320"/>
              <a:ext cx="1008000" cy="504720"/>
            </a:xfrm>
            <a:prstGeom prst="rect">
              <a:avLst/>
            </a:prstGeom>
            <a:solidFill>
              <a:srgbClr val="f9f5e1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946760" y="1803240"/>
              <a:ext cx="504720" cy="505080"/>
            </a:xfrm>
            <a:prstGeom prst="rect">
              <a:avLst/>
            </a:prstGeom>
            <a:solidFill>
              <a:srgbClr val="f9f5e1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450040" y="1803240"/>
              <a:ext cx="1008000" cy="5050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458040" y="1803240"/>
              <a:ext cx="2520720" cy="5050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946760" y="187488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Version        Traffic Class                               Flow Label</a:t>
              </a:r>
              <a:endParaRPr b="0" lang="en-US" sz="9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 </a:t>
              </a:r>
              <a:r>
                <a:rPr b="0" lang="en-US" sz="9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4bits                 8 bits                                        20 bits</a:t>
              </a:r>
              <a:endParaRPr b="0" lang="en-US" sz="9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018040" y="237960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              </a:t>
              </a:r>
              <a:r>
                <a:rPr b="0" lang="en-US" sz="9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Payload Length                         Next Header             Hop Limit</a:t>
              </a:r>
              <a:endParaRPr b="0" lang="en-US" sz="9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                     </a:t>
              </a:r>
              <a:r>
                <a:rPr b="0" lang="en-US" sz="9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16 bits                                      8 bits                       8 bits</a:t>
              </a:r>
              <a:endParaRPr b="0" lang="en-US" sz="9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946760" y="3287880"/>
              <a:ext cx="4033800" cy="5047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938840" y="3781440"/>
              <a:ext cx="4033800" cy="5047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944960" y="4286160"/>
              <a:ext cx="4033800" cy="5050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946760" y="5272200"/>
              <a:ext cx="4033800" cy="504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944960" y="5776920"/>
              <a:ext cx="4033800" cy="504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938840" y="6281640"/>
              <a:ext cx="4033800" cy="505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7" dur="indefinite" restart="never" nodeType="tmRoot">
          <p:childTnLst>
            <p:seq>
              <p:cTn id="1948" dur="indefinite" nodeType="mainSeq">
                <p:childTnLst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Pv6 header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6 header is considerably simpler than IPv4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4: 14 fields, IPv6: 8 field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4 header can be variable in length: 196 bits +</a:t>
            </a:r>
            <a:r>
              <a:rPr b="0" lang="el-GR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α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6 header: Fixed length: 320 bit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Eliminated fields in IPv6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Header Length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dentification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Flag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Fragmentation Offse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Checksum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Enhanced fields in IPv6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Traffic Class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Flow Label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Authentication and privacy capabiliti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atures –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oconfigur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tateless mechanism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For a site not concerned with the exact address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o manual configuration require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inimal configuration of route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o additional serve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tateful mechanism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For a site requires tighter control over exact address assignment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Need DHCP serv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HCPv6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Enable “Plug and play”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7819920" y="1660680"/>
            <a:ext cx="797040" cy="814320"/>
          </a:xfrm>
          <a:prstGeom prst="flowChartMultidocumen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RFC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2462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Pv6 features – autoconfiguration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computr2"/>
          <p:cNvSpPr/>
          <p:nvPr/>
        </p:nvSpPr>
        <p:spPr>
          <a:xfrm>
            <a:off x="985680" y="2295360"/>
            <a:ext cx="648000" cy="582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52" name="computr2"/>
          <p:cNvSpPr/>
          <p:nvPr/>
        </p:nvSpPr>
        <p:spPr>
          <a:xfrm>
            <a:off x="3995640" y="2276640"/>
            <a:ext cx="647640" cy="582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53" name="computr2"/>
          <p:cNvSpPr/>
          <p:nvPr/>
        </p:nvSpPr>
        <p:spPr>
          <a:xfrm>
            <a:off x="2495520" y="2281320"/>
            <a:ext cx="647640" cy="582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54" name="computr2"/>
          <p:cNvSpPr/>
          <p:nvPr/>
        </p:nvSpPr>
        <p:spPr>
          <a:xfrm>
            <a:off x="6676920" y="2300400"/>
            <a:ext cx="647640" cy="5824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878040" y="3146400"/>
            <a:ext cx="7559640" cy="0"/>
          </a:xfrm>
          <a:prstGeom prst="line">
            <a:avLst/>
          </a:prstGeom>
          <a:ln w="2556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309680" y="2852640"/>
            <a:ext cx="0" cy="287280"/>
          </a:xfrm>
          <a:prstGeom prst="line">
            <a:avLst/>
          </a:prstGeom>
          <a:ln w="2556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2803680" y="2840040"/>
            <a:ext cx="0" cy="287280"/>
          </a:xfrm>
          <a:prstGeom prst="line">
            <a:avLst/>
          </a:prstGeom>
          <a:ln w="2556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314960" y="2846520"/>
            <a:ext cx="0" cy="287280"/>
          </a:xfrm>
          <a:prstGeom prst="line">
            <a:avLst/>
          </a:prstGeom>
          <a:ln w="2556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6994440" y="2859120"/>
            <a:ext cx="0" cy="287280"/>
          </a:xfrm>
          <a:prstGeom prst="line">
            <a:avLst/>
          </a:prstGeom>
          <a:ln w="2556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860" name=""/>
          <p:cNvGrpSpPr/>
          <p:nvPr/>
        </p:nvGrpSpPr>
        <p:grpSpPr>
          <a:xfrm>
            <a:off x="5248440" y="2492280"/>
            <a:ext cx="743400" cy="371520"/>
            <a:chOff x="5248440" y="2492280"/>
            <a:chExt cx="743400" cy="371520"/>
          </a:xfrm>
        </p:grpSpPr>
        <p:grpSp>
          <p:nvGrpSpPr>
            <p:cNvPr id="1861" name=""/>
            <p:cNvGrpSpPr/>
            <p:nvPr/>
          </p:nvGrpSpPr>
          <p:grpSpPr>
            <a:xfrm>
              <a:off x="5264640" y="2505960"/>
              <a:ext cx="727200" cy="357840"/>
              <a:chOff x="5264640" y="2505960"/>
              <a:chExt cx="727200" cy="357840"/>
            </a:xfrm>
          </p:grpSpPr>
          <p:sp>
            <p:nvSpPr>
              <p:cNvPr id="1862" name=""/>
              <p:cNvSpPr/>
              <p:nvPr/>
            </p:nvSpPr>
            <p:spPr>
              <a:xfrm>
                <a:off x="5264640" y="2622960"/>
                <a:ext cx="727200" cy="130680"/>
              </a:xfrm>
              <a:custGeom>
                <a:avLst/>
                <a:gdLst/>
                <a:ahLst/>
                <a:rect l="l" t="t" r="r" b="b"/>
                <a:pathLst>
                  <a:path w="232" h="37">
                    <a:moveTo>
                      <a:pt x="0" y="0"/>
                    </a:moveTo>
                    <a:lnTo>
                      <a:pt x="231" y="0"/>
                    </a:lnTo>
                    <a:lnTo>
                      <a:pt x="231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270040" y="263340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5270040" y="250596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1865" name=""/>
            <p:cNvSpPr/>
            <p:nvPr/>
          </p:nvSpPr>
          <p:spPr>
            <a:xfrm>
              <a:off x="5248440" y="2605680"/>
              <a:ext cx="731160" cy="127800"/>
            </a:xfrm>
            <a:custGeom>
              <a:avLst/>
              <a:gdLst/>
              <a:ahLst/>
              <a:rect l="l" t="t" r="r" b="b"/>
              <a:pathLst>
                <a:path w="233" h="36">
                  <a:moveTo>
                    <a:pt x="0" y="0"/>
                  </a:moveTo>
                  <a:lnTo>
                    <a:pt x="232" y="0"/>
                  </a:lnTo>
                  <a:lnTo>
                    <a:pt x="232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254560" y="2616120"/>
              <a:ext cx="721800" cy="231120"/>
            </a:xfrm>
            <a:prstGeom prst="ellipse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254560" y="2492280"/>
              <a:ext cx="721800" cy="22680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1868" name=""/>
            <p:cNvGrpSpPr/>
            <p:nvPr/>
          </p:nvGrpSpPr>
          <p:grpSpPr>
            <a:xfrm>
              <a:off x="5389920" y="2520360"/>
              <a:ext cx="456840" cy="169200"/>
              <a:chOff x="5389920" y="2520360"/>
              <a:chExt cx="456840" cy="169200"/>
            </a:xfrm>
          </p:grpSpPr>
          <p:grpSp>
            <p:nvGrpSpPr>
              <p:cNvPr id="1869" name=""/>
              <p:cNvGrpSpPr/>
              <p:nvPr/>
            </p:nvGrpSpPr>
            <p:grpSpPr>
              <a:xfrm>
                <a:off x="5389920" y="2520360"/>
                <a:ext cx="456840" cy="169200"/>
                <a:chOff x="5389920" y="2520360"/>
                <a:chExt cx="456840" cy="169200"/>
              </a:xfrm>
            </p:grpSpPr>
            <p:sp>
              <p:nvSpPr>
                <p:cNvPr id="1870" name=""/>
                <p:cNvSpPr/>
                <p:nvPr/>
              </p:nvSpPr>
              <p:spPr>
                <a:xfrm>
                  <a:off x="5389920" y="252036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5389920" y="252036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5630400" y="262980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5630400" y="262980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4" name=""/>
              <p:cNvGrpSpPr/>
              <p:nvPr/>
            </p:nvGrpSpPr>
            <p:grpSpPr>
              <a:xfrm>
                <a:off x="5405400" y="2520360"/>
                <a:ext cx="425520" cy="169200"/>
                <a:chOff x="5405400" y="2520360"/>
                <a:chExt cx="425520" cy="16920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5614560" y="252036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5614560" y="252036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5405400" y="261540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5405400" y="261540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79" name=""/>
          <p:cNvGrpSpPr/>
          <p:nvPr/>
        </p:nvGrpSpPr>
        <p:grpSpPr>
          <a:xfrm>
            <a:off x="3168360" y="3330360"/>
            <a:ext cx="4993200" cy="1041840"/>
            <a:chOff x="3168360" y="3330360"/>
            <a:chExt cx="4993200" cy="1041840"/>
          </a:xfrm>
        </p:grpSpPr>
        <p:sp>
          <p:nvSpPr>
            <p:cNvPr id="1880" name=""/>
            <p:cNvSpPr/>
            <p:nvPr/>
          </p:nvSpPr>
          <p:spPr>
            <a:xfrm>
              <a:off x="3168360" y="3548160"/>
              <a:ext cx="4993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9f5e1"/>
                  </a:solidFill>
                  <a:latin typeface="Arial"/>
                </a:rPr>
                <a:t>Tentative address</a:t>
              </a:r>
              <a:r>
                <a:rPr b="1" lang="en-US" sz="1600" spc="-1" strike="noStrike">
                  <a:solidFill>
                    <a:srgbClr val="f9f5e1"/>
                  </a:solidFill>
                  <a:latin typeface="Arial"/>
                  <a:ea typeface="ＭＳ Ｐゴシック"/>
                </a:rPr>
                <a:t> (link-local address)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9f5e1"/>
                  </a:solidFill>
                  <a:latin typeface="Arial"/>
                </a:rPr>
                <a:t>Well-known link local prefix +Interface ID</a:t>
              </a:r>
              <a:r>
                <a:rPr b="1" lang="en-US" sz="1600" spc="-1" strike="noStrike">
                  <a:solidFill>
                    <a:srgbClr val="f9f5e1"/>
                  </a:solidFill>
                  <a:latin typeface="Arial"/>
                  <a:ea typeface="ＭＳ Ｐゴシック"/>
                </a:rPr>
                <a:t> (EUI -64)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9f5e1"/>
                  </a:solidFill>
                  <a:latin typeface="Arial"/>
                  <a:ea typeface="ＭＳ Ｐゴシック"/>
                </a:rPr>
                <a:t>Ex: FE80::310:BAFF:FE64:1D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V="1" rot="16200000">
              <a:off x="6826680" y="3330720"/>
              <a:ext cx="360360" cy="358920"/>
            </a:xfrm>
            <a:prstGeom prst="rightArrow">
              <a:avLst>
                <a:gd name="adj1" fmla="val 50000"/>
                <a:gd name="adj2" fmla="val 25100"/>
              </a:avLst>
            </a:prstGeom>
            <a:solidFill>
              <a:srgbClr val="ffcc00"/>
            </a:solidFill>
            <a:ln w="25560">
              <a:solidFill>
                <a:srgbClr val="f9f5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1882" name=""/>
          <p:cNvSpPr/>
          <p:nvPr/>
        </p:nvSpPr>
        <p:spPr>
          <a:xfrm>
            <a:off x="6948360" y="1052640"/>
            <a:ext cx="1656000" cy="1152360"/>
          </a:xfrm>
          <a:prstGeom prst="wedgeEllipseCallout">
            <a:avLst>
              <a:gd name="adj1" fmla="val -43768"/>
              <a:gd name="adj2" fmla="val 72453"/>
            </a:avLst>
          </a:prstGeom>
          <a:solidFill>
            <a:srgbClr val="f9f5e1"/>
          </a:solidFill>
          <a:ln w="2556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5592"/>
                </a:solidFill>
                <a:latin typeface="Arial"/>
              </a:rPr>
              <a:t>Is this address unique?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91200" y="4913280"/>
            <a:ext cx="7604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A new host is turned on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Tentative address will be assigned to the new host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Duplicate Address Detection (DAD) is performed on all unicast  address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f no ND message comes back then the address is unique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FE80::310:BAFF:FE64:1D will be assigned to the new host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5944320" y="2565360"/>
            <a:ext cx="262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Assign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FE80::310:BAFF:FE64:1D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539640" y="321300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3FFE:0:0:1/64 network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608800" y="2852640"/>
            <a:ext cx="0" cy="287280"/>
          </a:xfrm>
          <a:prstGeom prst="line">
            <a:avLst/>
          </a:prstGeom>
          <a:ln w="2556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3" dur="indefinite" restart="never" nodeType="tmRoot">
          <p:childTnLst>
            <p:seq>
              <p:cTn id="1974" dur="indefinite" nodeType="mainSeq">
                <p:childTnLst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5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2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5104 -0.08148 -0.10208 -0.16296 -0.15 -0.16667 C -0.19809 -0.17037 -0.24722 -0.01852 -0.2875 -0.02222 C -0.32778 -0.02592 -0.36528 -0.18611 -0.39167 -0.18889 C -0.41806 -0.19167 -0.42101 -0.03796 -0.44583 -0.03889 C -0.47083 -0.03981 -0.5125 -0.19537 -0.54167 -0.19444 C -0.57083 -0.19352 -0.60694 -0.06296 -0.62083 -0.03333 C -0.63472 -0.0037 -0.62431 -0.01944 -0.625 -0.01667 E">
                                      <p:cBhvr>
                                        <p:cTn id="1996" dur="2000" fill="hold"/>
                                        <p:tgtEl>
                                          <p:spTgt spid="1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Pv6 feature: autoconfiguration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computr2"/>
          <p:cNvSpPr/>
          <p:nvPr/>
        </p:nvSpPr>
        <p:spPr>
          <a:xfrm>
            <a:off x="985680" y="2295360"/>
            <a:ext cx="648000" cy="582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89" name="computr2"/>
          <p:cNvSpPr/>
          <p:nvPr/>
        </p:nvSpPr>
        <p:spPr>
          <a:xfrm>
            <a:off x="3995640" y="2276640"/>
            <a:ext cx="647640" cy="582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90" name="computr2"/>
          <p:cNvSpPr/>
          <p:nvPr/>
        </p:nvSpPr>
        <p:spPr>
          <a:xfrm>
            <a:off x="2495520" y="2281320"/>
            <a:ext cx="647640" cy="582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91" name="computr2"/>
          <p:cNvSpPr/>
          <p:nvPr/>
        </p:nvSpPr>
        <p:spPr>
          <a:xfrm>
            <a:off x="6676920" y="2300400"/>
            <a:ext cx="647640" cy="5824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878040" y="3146400"/>
            <a:ext cx="7559640" cy="0"/>
          </a:xfrm>
          <a:prstGeom prst="line">
            <a:avLst/>
          </a:prstGeom>
          <a:ln w="2556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1309680" y="2852640"/>
            <a:ext cx="0" cy="287280"/>
          </a:xfrm>
          <a:prstGeom prst="line">
            <a:avLst/>
          </a:prstGeom>
          <a:ln w="2556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2803680" y="2840040"/>
            <a:ext cx="0" cy="287280"/>
          </a:xfrm>
          <a:prstGeom prst="line">
            <a:avLst/>
          </a:prstGeom>
          <a:ln w="2556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4314960" y="2846520"/>
            <a:ext cx="0" cy="287280"/>
          </a:xfrm>
          <a:prstGeom prst="line">
            <a:avLst/>
          </a:prstGeom>
          <a:ln w="2556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994440" y="2859120"/>
            <a:ext cx="0" cy="287280"/>
          </a:xfrm>
          <a:prstGeom prst="line">
            <a:avLst/>
          </a:prstGeom>
          <a:ln w="2556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897" name=""/>
          <p:cNvGrpSpPr/>
          <p:nvPr/>
        </p:nvGrpSpPr>
        <p:grpSpPr>
          <a:xfrm>
            <a:off x="5248440" y="2492280"/>
            <a:ext cx="743400" cy="371520"/>
            <a:chOff x="5248440" y="2492280"/>
            <a:chExt cx="743400" cy="371520"/>
          </a:xfrm>
        </p:grpSpPr>
        <p:grpSp>
          <p:nvGrpSpPr>
            <p:cNvPr id="1898" name=""/>
            <p:cNvGrpSpPr/>
            <p:nvPr/>
          </p:nvGrpSpPr>
          <p:grpSpPr>
            <a:xfrm>
              <a:off x="5264640" y="2505960"/>
              <a:ext cx="727200" cy="357840"/>
              <a:chOff x="5264640" y="2505960"/>
              <a:chExt cx="727200" cy="357840"/>
            </a:xfrm>
          </p:grpSpPr>
          <p:sp>
            <p:nvSpPr>
              <p:cNvPr id="1899" name=""/>
              <p:cNvSpPr/>
              <p:nvPr/>
            </p:nvSpPr>
            <p:spPr>
              <a:xfrm>
                <a:off x="5264640" y="2622960"/>
                <a:ext cx="727200" cy="130680"/>
              </a:xfrm>
              <a:custGeom>
                <a:avLst/>
                <a:gdLst/>
                <a:ahLst/>
                <a:rect l="l" t="t" r="r" b="b"/>
                <a:pathLst>
                  <a:path w="232" h="37">
                    <a:moveTo>
                      <a:pt x="0" y="0"/>
                    </a:moveTo>
                    <a:lnTo>
                      <a:pt x="231" y="0"/>
                    </a:lnTo>
                    <a:lnTo>
                      <a:pt x="231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270040" y="263340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270040" y="250596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1902" name=""/>
            <p:cNvSpPr/>
            <p:nvPr/>
          </p:nvSpPr>
          <p:spPr>
            <a:xfrm>
              <a:off x="5248440" y="2605680"/>
              <a:ext cx="731160" cy="127800"/>
            </a:xfrm>
            <a:custGeom>
              <a:avLst/>
              <a:gdLst/>
              <a:ahLst/>
              <a:rect l="l" t="t" r="r" b="b"/>
              <a:pathLst>
                <a:path w="233" h="36">
                  <a:moveTo>
                    <a:pt x="0" y="0"/>
                  </a:moveTo>
                  <a:lnTo>
                    <a:pt x="232" y="0"/>
                  </a:lnTo>
                  <a:lnTo>
                    <a:pt x="232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254560" y="2616120"/>
              <a:ext cx="721800" cy="231120"/>
            </a:xfrm>
            <a:prstGeom prst="ellipse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254560" y="2492280"/>
              <a:ext cx="721800" cy="22680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1905" name=""/>
            <p:cNvGrpSpPr/>
            <p:nvPr/>
          </p:nvGrpSpPr>
          <p:grpSpPr>
            <a:xfrm>
              <a:off x="5389920" y="2520360"/>
              <a:ext cx="456840" cy="169200"/>
              <a:chOff x="5389920" y="2520360"/>
              <a:chExt cx="456840" cy="169200"/>
            </a:xfrm>
          </p:grpSpPr>
          <p:grpSp>
            <p:nvGrpSpPr>
              <p:cNvPr id="1906" name=""/>
              <p:cNvGrpSpPr/>
              <p:nvPr/>
            </p:nvGrpSpPr>
            <p:grpSpPr>
              <a:xfrm>
                <a:off x="5389920" y="2520360"/>
                <a:ext cx="456840" cy="169200"/>
                <a:chOff x="5389920" y="2520360"/>
                <a:chExt cx="456840" cy="169200"/>
              </a:xfrm>
            </p:grpSpPr>
            <p:sp>
              <p:nvSpPr>
                <p:cNvPr id="1907" name=""/>
                <p:cNvSpPr/>
                <p:nvPr/>
              </p:nvSpPr>
              <p:spPr>
                <a:xfrm>
                  <a:off x="5389920" y="252036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5389920" y="252036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5630400" y="262980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5630400" y="262980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1" name=""/>
              <p:cNvGrpSpPr/>
              <p:nvPr/>
            </p:nvGrpSpPr>
            <p:grpSpPr>
              <a:xfrm>
                <a:off x="5405400" y="2520360"/>
                <a:ext cx="425520" cy="169200"/>
                <a:chOff x="5405400" y="2520360"/>
                <a:chExt cx="425520" cy="169200"/>
              </a:xfrm>
            </p:grpSpPr>
            <p:sp>
              <p:nvSpPr>
                <p:cNvPr id="1912" name=""/>
                <p:cNvSpPr/>
                <p:nvPr/>
              </p:nvSpPr>
              <p:spPr>
                <a:xfrm>
                  <a:off x="5614560" y="252036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5614560" y="252036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5405400" y="261540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5405400" y="261540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16" name=""/>
          <p:cNvSpPr/>
          <p:nvPr/>
        </p:nvSpPr>
        <p:spPr>
          <a:xfrm>
            <a:off x="5944320" y="2781360"/>
            <a:ext cx="26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FE80::310:BAFF:FE64:1D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877080" y="1125360"/>
            <a:ext cx="2266920" cy="1152720"/>
          </a:xfrm>
          <a:prstGeom prst="wedgeEllipseCallout">
            <a:avLst>
              <a:gd name="adj1" fmla="val -42087"/>
              <a:gd name="adj2" fmla="val 73689"/>
            </a:avLst>
          </a:prstGeom>
          <a:solidFill>
            <a:srgbClr val="f9f5e1"/>
          </a:solidFill>
          <a:ln w="2556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5592"/>
                </a:solidFill>
                <a:latin typeface="Arial"/>
              </a:rPr>
              <a:t>Send me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5592"/>
                </a:solidFill>
                <a:latin typeface="Arial"/>
              </a:rPr>
              <a:t>Router Advertisement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900000" y="4653000"/>
            <a:ext cx="8064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The new host will send “router solicitation” request via multicasting to obtain the network prefix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The router will reply “routing advertisement”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The new host will learn the network prefix.  Ex: 3FFE:0:0: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The new host will assigned a new address Network prefix+Interface ID             Ex:  3FFE:0:0:1:310:BAFF:FE64:1D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572000" y="2852640"/>
            <a:ext cx="1295280" cy="1368360"/>
          </a:xfrm>
          <a:prstGeom prst="verticalScroll">
            <a:avLst>
              <a:gd name="adj" fmla="val 12500"/>
            </a:avLst>
          </a:prstGeom>
          <a:solidFill>
            <a:srgbClr val="00ffff"/>
          </a:solidFill>
          <a:ln w="2556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vertisement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5898240" y="3213000"/>
            <a:ext cx="310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Assign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3FFE:0:0:1:310:BAFF:FE64:1D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561600" y="3213000"/>
            <a:ext cx="23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3FFE:0:0:1/64 network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5616720" y="2876400"/>
            <a:ext cx="0" cy="287640"/>
          </a:xfrm>
          <a:prstGeom prst="line">
            <a:avLst/>
          </a:prstGeom>
          <a:ln w="2556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1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-0.02867 C -0.00972 -0.07722 -0.03889 -0.12601 -0.06805 -0.11746 C -0.09722 -0.10913 -0.12639 -0.04393 -0.15555 0.02127 E">
                                      <p:cBhvr>
                                        <p:cTn id="2025" dur="2000" fill="hold"/>
                                        <p:tgtEl>
                                          <p:spTgt spid="1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6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93 0.09676 0.09861 0.19352 0.12916 0.18334 C 0.15972 0.17315 0.1743 -0.02037 0.18333 -0.06111 E">
                                      <p:cBhvr>
                                        <p:cTn id="2040" dur="2000" fill="hold"/>
                                        <p:tgtEl>
                                          <p:spTgt spid="1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8" dur="20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atures –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oconfiguratio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Keeps end user costs dow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No need for manual configur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n conjunction with the possibility of low cost network interfac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Helpful when residential networks emerge as an important marke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Pv4 to IPv6 transi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mplementation rather than transi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No fixed day to convert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The key to successful IPv6 transi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Maintaining compatibility with IPv4 hosts and routers while deploying IPv6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Millions of IPv4 nodes already exis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Upgrading every IPv4 nodes to IPv6 is not feasibl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No need to convert all at onc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Transition process will be gradua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Pv4 to IPv6 transition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Commonly utilised transition techniqu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Dual Stack Transi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To allow IPv4 and IPv6 to co-exist in the same devices and network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Tunneling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To avoid order dependenci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Transl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To allow IPv6 only devices to communicate with IPv4 only devic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ual stack transi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902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Dual stack  = TCP/IP protocol stack running both IPv4 and IPv6 protocol stacks simultaneousl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Application can talk to both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Useful at the early phase of transi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826920" y="1052640"/>
            <a:ext cx="727236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932" name=""/>
          <p:cNvGrpSpPr/>
          <p:nvPr/>
        </p:nvGrpSpPr>
        <p:grpSpPr>
          <a:xfrm>
            <a:off x="2195640" y="4076640"/>
            <a:ext cx="4248000" cy="2121120"/>
            <a:chOff x="2195640" y="4076640"/>
            <a:chExt cx="4248000" cy="2121120"/>
          </a:xfrm>
        </p:grpSpPr>
        <p:grpSp>
          <p:nvGrpSpPr>
            <p:cNvPr id="1933" name=""/>
            <p:cNvGrpSpPr/>
            <p:nvPr/>
          </p:nvGrpSpPr>
          <p:grpSpPr>
            <a:xfrm>
              <a:off x="3724200" y="4076640"/>
              <a:ext cx="1130400" cy="1216080"/>
              <a:chOff x="3724200" y="4076640"/>
              <a:chExt cx="1130400" cy="1216080"/>
            </a:xfrm>
          </p:grpSpPr>
          <p:sp>
            <p:nvSpPr>
              <p:cNvPr id="1934" name=""/>
              <p:cNvSpPr/>
              <p:nvPr/>
            </p:nvSpPr>
            <p:spPr>
              <a:xfrm>
                <a:off x="3724200" y="4076640"/>
                <a:ext cx="1087920" cy="1216080"/>
              </a:xfrm>
              <a:prstGeom prst="rect">
                <a:avLst/>
              </a:prstGeom>
              <a:noFill/>
              <a:ln w="25560">
                <a:solidFill>
                  <a:srgbClr val="325592"/>
                </a:solidFill>
                <a:miter/>
              </a:ln>
              <a:effectLst>
                <a:outerShdw dist="17819" dir="2700000" blurRad="0" rotWithShape="0">
                  <a:srgbClr val="32559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3735360" y="4994640"/>
                <a:ext cx="1075320" cy="29196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3729600" y="4692960"/>
                <a:ext cx="1076400" cy="290520"/>
              </a:xfrm>
              <a:prstGeom prst="rect">
                <a:avLst/>
              </a:prstGeom>
              <a:solidFill>
                <a:srgbClr val="ff4d4d"/>
              </a:solidFill>
              <a:ln w="1260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3734280" y="4389480"/>
                <a:ext cx="1071720" cy="2916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3729600" y="4082040"/>
                <a:ext cx="1076400" cy="29160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3948840" y="5015520"/>
                <a:ext cx="662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RIVER</a:t>
                </a:r>
                <a:endParaRPr b="0" lang="en-US" sz="10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3796920" y="4686120"/>
                <a:ext cx="983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IPv4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       IP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v6</a:t>
                </a:r>
                <a:endParaRPr b="0" lang="en-US" sz="10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3811680" y="4102920"/>
                <a:ext cx="1042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3949200" y="4407840"/>
                <a:ext cx="7398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TCP/UDP</a:t>
                </a:r>
                <a:endParaRPr b="0" lang="en-US" sz="10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259520" y="4681440"/>
                <a:ext cx="0" cy="312840"/>
              </a:xfrm>
              <a:prstGeom prst="line">
                <a:avLst/>
              </a:prstGeom>
              <a:ln w="1260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pic>
          <p:nvPicPr>
            <p:cNvPr id="1944" name="" descr=""/>
            <p:cNvPicPr/>
            <p:nvPr/>
          </p:nvPicPr>
          <p:blipFill>
            <a:blip r:embed="rId2"/>
            <a:stretch/>
          </p:blipFill>
          <p:spPr>
            <a:xfrm>
              <a:off x="2344680" y="5549760"/>
              <a:ext cx="365040" cy="41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5" name="" descr=""/>
            <p:cNvPicPr/>
            <p:nvPr/>
          </p:nvPicPr>
          <p:blipFill>
            <a:blip r:embed="rId3"/>
            <a:stretch/>
          </p:blipFill>
          <p:spPr>
            <a:xfrm>
              <a:off x="5745240" y="5549760"/>
              <a:ext cx="365040" cy="41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6" name="" descr=""/>
            <p:cNvPicPr/>
            <p:nvPr/>
          </p:nvPicPr>
          <p:blipFill>
            <a:blip r:embed="rId4"/>
            <a:stretch/>
          </p:blipFill>
          <p:spPr>
            <a:xfrm>
              <a:off x="4044960" y="5549760"/>
              <a:ext cx="366840" cy="4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7" name=""/>
            <p:cNvSpPr/>
            <p:nvPr/>
          </p:nvSpPr>
          <p:spPr>
            <a:xfrm flipV="1">
              <a:off x="2195640" y="6159240"/>
              <a:ext cx="4248000" cy="12600"/>
            </a:xfrm>
            <a:prstGeom prst="line">
              <a:avLst/>
            </a:prstGeom>
            <a:ln w="28440">
              <a:solidFill>
                <a:srgbClr val="f9f5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530440" y="5970600"/>
              <a:ext cx="0" cy="227160"/>
            </a:xfrm>
            <a:prstGeom prst="line">
              <a:avLst/>
            </a:prstGeom>
            <a:ln w="28440">
              <a:solidFill>
                <a:srgbClr val="f9f5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238640" y="5958000"/>
              <a:ext cx="9360" cy="214200"/>
            </a:xfrm>
            <a:prstGeom prst="line">
              <a:avLst/>
            </a:prstGeom>
            <a:ln w="28440">
              <a:solidFill>
                <a:srgbClr val="f9f5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945040" y="5958000"/>
              <a:ext cx="11160" cy="201600"/>
            </a:xfrm>
            <a:prstGeom prst="line">
              <a:avLst/>
            </a:prstGeom>
            <a:ln w="28440">
              <a:solidFill>
                <a:srgbClr val="f9f5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388400" y="5504040"/>
              <a:ext cx="114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9f5e1"/>
                  </a:solidFill>
                  <a:latin typeface="Arial"/>
                </a:rPr>
                <a:t>Dual Stack 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9f5e1"/>
                  </a:solidFill>
                  <a:latin typeface="Arial"/>
                </a:rPr>
                <a:t>Host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247120" y="51991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IPv4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615640" y="51958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IPv6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811680" y="4184640"/>
              <a:ext cx="0" cy="1295280"/>
            </a:xfrm>
            <a:prstGeom prst="line">
              <a:avLst/>
            </a:prstGeom>
            <a:ln w="28440">
              <a:solidFill>
                <a:srgbClr val="f9f5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732200" y="4167360"/>
              <a:ext cx="0" cy="1309680"/>
            </a:xfrm>
            <a:prstGeom prst="line">
              <a:avLst/>
            </a:prstGeom>
            <a:ln w="28440">
              <a:solidFill>
                <a:srgbClr val="f9f5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H="1">
              <a:off x="2885760" y="5468760"/>
              <a:ext cx="925560" cy="0"/>
            </a:xfrm>
            <a:prstGeom prst="line">
              <a:avLst/>
            </a:prstGeom>
            <a:ln w="28440">
              <a:solidFill>
                <a:srgbClr val="f9f5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H="1">
              <a:off x="4731840" y="5460840"/>
              <a:ext cx="925560" cy="0"/>
            </a:xfrm>
            <a:prstGeom prst="line">
              <a:avLst/>
            </a:prstGeom>
            <a:ln w="28440">
              <a:solidFill>
                <a:srgbClr val="f9f5e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rnet Registry Allocation and Assign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st running IPv4 stac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computr2"/>
          <p:cNvSpPr/>
          <p:nvPr/>
        </p:nvSpPr>
        <p:spPr>
          <a:xfrm>
            <a:off x="7286760" y="2324160"/>
            <a:ext cx="792000" cy="801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60" name="computr2"/>
          <p:cNvSpPr/>
          <p:nvPr/>
        </p:nvSpPr>
        <p:spPr>
          <a:xfrm>
            <a:off x="7286760" y="4089240"/>
            <a:ext cx="792000" cy="801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961" name=""/>
          <p:cNvGrpSpPr/>
          <p:nvPr/>
        </p:nvGrpSpPr>
        <p:grpSpPr>
          <a:xfrm>
            <a:off x="4067280" y="3519360"/>
            <a:ext cx="743400" cy="371520"/>
            <a:chOff x="4067280" y="3519360"/>
            <a:chExt cx="743400" cy="371520"/>
          </a:xfrm>
        </p:grpSpPr>
        <p:grpSp>
          <p:nvGrpSpPr>
            <p:cNvPr id="1962" name=""/>
            <p:cNvGrpSpPr/>
            <p:nvPr/>
          </p:nvGrpSpPr>
          <p:grpSpPr>
            <a:xfrm>
              <a:off x="4083480" y="3533040"/>
              <a:ext cx="727200" cy="357840"/>
              <a:chOff x="4083480" y="3533040"/>
              <a:chExt cx="727200" cy="357840"/>
            </a:xfrm>
          </p:grpSpPr>
          <p:sp>
            <p:nvSpPr>
              <p:cNvPr id="1963" name=""/>
              <p:cNvSpPr/>
              <p:nvPr/>
            </p:nvSpPr>
            <p:spPr>
              <a:xfrm>
                <a:off x="4083480" y="3650040"/>
                <a:ext cx="727200" cy="130680"/>
              </a:xfrm>
              <a:custGeom>
                <a:avLst/>
                <a:gdLst/>
                <a:ahLst/>
                <a:rect l="l" t="t" r="r" b="b"/>
                <a:pathLst>
                  <a:path w="232" h="37">
                    <a:moveTo>
                      <a:pt x="0" y="0"/>
                    </a:moveTo>
                    <a:lnTo>
                      <a:pt x="231" y="0"/>
                    </a:lnTo>
                    <a:lnTo>
                      <a:pt x="231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088880" y="366048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088880" y="353304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1966" name=""/>
            <p:cNvSpPr/>
            <p:nvPr/>
          </p:nvSpPr>
          <p:spPr>
            <a:xfrm>
              <a:off x="4067280" y="3632760"/>
              <a:ext cx="731160" cy="127800"/>
            </a:xfrm>
            <a:custGeom>
              <a:avLst/>
              <a:gdLst/>
              <a:ahLst/>
              <a:rect l="l" t="t" r="r" b="b"/>
              <a:pathLst>
                <a:path w="233" h="36">
                  <a:moveTo>
                    <a:pt x="0" y="0"/>
                  </a:moveTo>
                  <a:lnTo>
                    <a:pt x="232" y="0"/>
                  </a:lnTo>
                  <a:lnTo>
                    <a:pt x="232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4073400" y="3643200"/>
              <a:ext cx="721800" cy="231120"/>
            </a:xfrm>
            <a:prstGeom prst="ellipse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073400" y="3519360"/>
              <a:ext cx="721800" cy="22680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1969" name=""/>
            <p:cNvGrpSpPr/>
            <p:nvPr/>
          </p:nvGrpSpPr>
          <p:grpSpPr>
            <a:xfrm>
              <a:off x="4208760" y="3547440"/>
              <a:ext cx="456840" cy="169200"/>
              <a:chOff x="4208760" y="3547440"/>
              <a:chExt cx="456840" cy="169200"/>
            </a:xfrm>
          </p:grpSpPr>
          <p:grpSp>
            <p:nvGrpSpPr>
              <p:cNvPr id="1970" name=""/>
              <p:cNvGrpSpPr/>
              <p:nvPr/>
            </p:nvGrpSpPr>
            <p:grpSpPr>
              <a:xfrm>
                <a:off x="4208760" y="3547440"/>
                <a:ext cx="456840" cy="169200"/>
                <a:chOff x="4208760" y="3547440"/>
                <a:chExt cx="456840" cy="169200"/>
              </a:xfrm>
            </p:grpSpPr>
            <p:sp>
              <p:nvSpPr>
                <p:cNvPr id="1971" name=""/>
                <p:cNvSpPr/>
                <p:nvPr/>
              </p:nvSpPr>
              <p:spPr>
                <a:xfrm>
                  <a:off x="4208760" y="354744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4208760" y="354744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4449240" y="365688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4449240" y="365688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5" name=""/>
              <p:cNvGrpSpPr/>
              <p:nvPr/>
            </p:nvGrpSpPr>
            <p:grpSpPr>
              <a:xfrm>
                <a:off x="4224240" y="3547440"/>
                <a:ext cx="425520" cy="169200"/>
                <a:chOff x="4224240" y="3547440"/>
                <a:chExt cx="425520" cy="16920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4433400" y="354744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4433400" y="354744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4224240" y="364248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4224240" y="364248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80" name="Cloud"/>
          <p:cNvSpPr/>
          <p:nvPr/>
        </p:nvSpPr>
        <p:spPr>
          <a:xfrm>
            <a:off x="5595840" y="2355840"/>
            <a:ext cx="1224000" cy="8208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25592"/>
                </a:solidFill>
                <a:latin typeface="Arial"/>
              </a:rPr>
              <a:t>IPv4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81" name="Cloud"/>
          <p:cNvSpPr/>
          <p:nvPr/>
        </p:nvSpPr>
        <p:spPr>
          <a:xfrm>
            <a:off x="5595840" y="4119480"/>
            <a:ext cx="1224000" cy="8208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25592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82" name="computr2"/>
          <p:cNvSpPr/>
          <p:nvPr/>
        </p:nvSpPr>
        <p:spPr>
          <a:xfrm>
            <a:off x="2700360" y="1557360"/>
            <a:ext cx="792000" cy="801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83" name="tower"/>
          <p:cNvSpPr/>
          <p:nvPr/>
        </p:nvSpPr>
        <p:spPr>
          <a:xfrm>
            <a:off x="1116000" y="3068640"/>
            <a:ext cx="596880" cy="1192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84" name="Cloud"/>
          <p:cNvSpPr/>
          <p:nvPr/>
        </p:nvSpPr>
        <p:spPr>
          <a:xfrm>
            <a:off x="2484360" y="3308400"/>
            <a:ext cx="1224000" cy="8208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900000" y="155736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www.apnic.net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= A ?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1986" name=""/>
          <p:cNvCxnSpPr>
            <a:stCxn id="1982" idx="10"/>
            <a:endCxn id="1983" idx="10"/>
          </p:cNvCxnSpPr>
          <p:nvPr/>
        </p:nvCxnSpPr>
        <p:spPr>
          <a:xfrm flipH="1">
            <a:off x="1712160" y="2142720"/>
            <a:ext cx="1089720" cy="926280"/>
          </a:xfrm>
          <a:prstGeom prst="straightConnector1">
            <a:avLst/>
          </a:prstGeom>
          <a:ln w="41400">
            <a:solidFill>
              <a:srgbClr val="f9f5e1"/>
            </a:solidFill>
            <a:miter/>
            <a:tailEnd len="med" type="triangle" w="med"/>
          </a:ln>
        </p:spPr>
      </p:cxnSp>
      <p:sp>
        <p:nvSpPr>
          <p:cNvPr id="1987" name=""/>
          <p:cNvSpPr/>
          <p:nvPr/>
        </p:nvSpPr>
        <p:spPr>
          <a:xfrm>
            <a:off x="900000" y="465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192.168.10.1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1988" name=""/>
          <p:cNvCxnSpPr>
            <a:stCxn id="1983" idx="11"/>
            <a:endCxn id="1982" idx="11"/>
          </p:cNvCxnSpPr>
          <p:nvPr/>
        </p:nvCxnSpPr>
        <p:spPr>
          <a:xfrm flipV="1">
            <a:off x="1712520" y="2358360"/>
            <a:ext cx="1384920" cy="710280"/>
          </a:xfrm>
          <a:prstGeom prst="straightConnector1">
            <a:avLst/>
          </a:prstGeom>
          <a:ln w="34920">
            <a:solidFill>
              <a:srgbClr val="f9f5e1"/>
            </a:solidFill>
            <a:miter/>
            <a:tailEnd len="med" type="triangle" w="med"/>
          </a:ln>
        </p:spPr>
      </p:cxnSp>
      <p:cxnSp>
        <p:nvCxnSpPr>
          <p:cNvPr id="1989" name=""/>
          <p:cNvCxnSpPr>
            <a:stCxn id="1983" idx="12"/>
            <a:endCxn id="1984" idx="4"/>
          </p:cNvCxnSpPr>
          <p:nvPr/>
        </p:nvCxnSpPr>
        <p:spPr>
          <a:xfrm>
            <a:off x="1712880" y="3711600"/>
            <a:ext cx="775440" cy="864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cxnSp>
        <p:nvCxnSpPr>
          <p:cNvPr id="1990" name=""/>
          <p:cNvCxnSpPr>
            <a:stCxn id="1984" idx="5"/>
            <a:endCxn id="1968" idx="3"/>
          </p:cNvCxnSpPr>
          <p:nvPr/>
        </p:nvCxnSpPr>
        <p:spPr>
          <a:xfrm flipV="1">
            <a:off x="3706920" y="3712680"/>
            <a:ext cx="473760" cy="720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cxnSp>
        <p:nvCxnSpPr>
          <p:cNvPr id="1991" name=""/>
          <p:cNvCxnSpPr>
            <a:stCxn id="1968" idx="7"/>
            <a:endCxn id="1980" idx="4"/>
          </p:cNvCxnSpPr>
          <p:nvPr/>
        </p:nvCxnSpPr>
        <p:spPr>
          <a:xfrm flipV="1">
            <a:off x="4689000" y="2766240"/>
            <a:ext cx="910440" cy="78660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cxnSp>
        <p:nvCxnSpPr>
          <p:cNvPr id="1992" name=""/>
          <p:cNvCxnSpPr>
            <a:stCxn id="1967" idx="5"/>
            <a:endCxn id="1981" idx="4"/>
          </p:cNvCxnSpPr>
          <p:nvPr/>
        </p:nvCxnSpPr>
        <p:spPr>
          <a:xfrm>
            <a:off x="4689000" y="3841560"/>
            <a:ext cx="910440" cy="68940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cxnSp>
        <p:nvCxnSpPr>
          <p:cNvPr id="1993" name=""/>
          <p:cNvCxnSpPr>
            <a:stCxn id="1980" idx="5"/>
            <a:endCxn id="1959" idx="10"/>
          </p:cNvCxnSpPr>
          <p:nvPr/>
        </p:nvCxnSpPr>
        <p:spPr>
          <a:xfrm flipV="1">
            <a:off x="6818040" y="2755080"/>
            <a:ext cx="626040" cy="1188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cxnSp>
        <p:nvCxnSpPr>
          <p:cNvPr id="1994" name=""/>
          <p:cNvCxnSpPr>
            <a:stCxn id="1981" idx="5"/>
            <a:endCxn id="1960" idx="10"/>
          </p:cNvCxnSpPr>
          <p:nvPr/>
        </p:nvCxnSpPr>
        <p:spPr>
          <a:xfrm flipV="1">
            <a:off x="6818040" y="4520880"/>
            <a:ext cx="626040" cy="1008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cxnSp>
        <p:nvCxnSpPr>
          <p:cNvPr id="1995" name=""/>
          <p:cNvCxnSpPr>
            <a:stCxn id="1984" idx="6"/>
            <a:endCxn id="1984" idx="7"/>
          </p:cNvCxnSpPr>
          <p:nvPr/>
        </p:nvCxnSpPr>
        <p:spPr>
          <a:xfrm>
            <a:off x="3706560" y="3719160"/>
            <a:ext cx="1080" cy="108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cxnSp>
        <p:nvCxnSpPr>
          <p:cNvPr id="1996" name=""/>
          <p:cNvCxnSpPr>
            <a:stCxn id="1968" idx="6"/>
            <a:endCxn id="1959" idx="11"/>
          </p:cNvCxnSpPr>
          <p:nvPr/>
        </p:nvCxnSpPr>
        <p:spPr>
          <a:xfrm flipV="1">
            <a:off x="4795560" y="2909160"/>
            <a:ext cx="2592720" cy="724680"/>
          </a:xfrm>
          <a:prstGeom prst="curvedConnector5">
            <a:avLst>
              <a:gd name="adj1" fmla="val 48007"/>
              <a:gd name="adj2" fmla="val 50000"/>
              <a:gd name="adj3" fmla="val 48007"/>
            </a:avLst>
          </a:prstGeom>
          <a:ln w="4752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97" name=""/>
          <p:cNvCxnSpPr>
            <a:endCxn id="1966" idx="0"/>
          </p:cNvCxnSpPr>
          <p:nvPr/>
        </p:nvCxnSpPr>
        <p:spPr>
          <a:xfrm flipH="1" rot="16200000">
            <a:off x="3058920" y="2625120"/>
            <a:ext cx="1275480" cy="742320"/>
          </a:xfrm>
          <a:prstGeom prst="bentConnector2">
            <a:avLst/>
          </a:prstGeom>
          <a:ln w="47520">
            <a:solidFill>
              <a:srgbClr val="ffff00"/>
            </a:solidFill>
            <a:miter/>
          </a:ln>
        </p:spPr>
      </p:cxnSp>
      <p:sp>
        <p:nvSpPr>
          <p:cNvPr id="1998" name=""/>
          <p:cNvSpPr/>
          <p:nvPr/>
        </p:nvSpPr>
        <p:spPr>
          <a:xfrm>
            <a:off x="685440" y="429264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DNS Server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1999" name=""/>
          <p:cNvCxnSpPr>
            <a:stCxn id="1982" idx="12"/>
            <a:endCxn id="1984" idx="8"/>
          </p:cNvCxnSpPr>
          <p:nvPr/>
        </p:nvCxnSpPr>
        <p:spPr>
          <a:xfrm>
            <a:off x="3096720" y="2358720"/>
            <a:ext cx="1080" cy="99756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sp>
        <p:nvSpPr>
          <p:cNvPr id="2000" name=""/>
          <p:cNvSpPr/>
          <p:nvPr/>
        </p:nvSpPr>
        <p:spPr>
          <a:xfrm>
            <a:off x="6732720" y="1916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192.168.10.1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637920" y="5300640"/>
            <a:ext cx="565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IPv4 stack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Application asks the DNS for the IPv4 address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and connects to the IPv4 address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879000" y="6553080"/>
            <a:ext cx="52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9f5e1"/>
                </a:solidFill>
                <a:latin typeface="Arial"/>
              </a:rPr>
              <a:t>Concept is borrowed from Cisco training material “IPv6 Seminar”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6" dur="indefinite" restart="never" nodeType="tmRoot">
          <p:childTnLst>
            <p:seq>
              <p:cTn id="2057" dur="indefinite" nodeType="mainSeq">
                <p:childTnLst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0.25209 -0.42569 E">
                                      <p:cBhvr>
                                        <p:cTn id="2081" dur="2000" fill="hold"/>
                                        <p:tgtEl>
                                          <p:spTgt spid="19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st running IPv6 stac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computr2"/>
          <p:cNvSpPr/>
          <p:nvPr/>
        </p:nvSpPr>
        <p:spPr>
          <a:xfrm>
            <a:off x="7286760" y="2324160"/>
            <a:ext cx="792000" cy="801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05" name="computr2"/>
          <p:cNvSpPr/>
          <p:nvPr/>
        </p:nvSpPr>
        <p:spPr>
          <a:xfrm>
            <a:off x="7286760" y="4089240"/>
            <a:ext cx="792000" cy="801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006" name=""/>
          <p:cNvGrpSpPr/>
          <p:nvPr/>
        </p:nvGrpSpPr>
        <p:grpSpPr>
          <a:xfrm>
            <a:off x="4067280" y="3519360"/>
            <a:ext cx="743400" cy="371520"/>
            <a:chOff x="4067280" y="3519360"/>
            <a:chExt cx="743400" cy="371520"/>
          </a:xfrm>
        </p:grpSpPr>
        <p:grpSp>
          <p:nvGrpSpPr>
            <p:cNvPr id="2007" name=""/>
            <p:cNvGrpSpPr/>
            <p:nvPr/>
          </p:nvGrpSpPr>
          <p:grpSpPr>
            <a:xfrm>
              <a:off x="4083480" y="3533040"/>
              <a:ext cx="727200" cy="357840"/>
              <a:chOff x="4083480" y="3533040"/>
              <a:chExt cx="727200" cy="357840"/>
            </a:xfrm>
          </p:grpSpPr>
          <p:sp>
            <p:nvSpPr>
              <p:cNvPr id="2008" name=""/>
              <p:cNvSpPr/>
              <p:nvPr/>
            </p:nvSpPr>
            <p:spPr>
              <a:xfrm>
                <a:off x="4083480" y="3650040"/>
                <a:ext cx="727200" cy="130680"/>
              </a:xfrm>
              <a:custGeom>
                <a:avLst/>
                <a:gdLst/>
                <a:ahLst/>
                <a:rect l="l" t="t" r="r" b="b"/>
                <a:pathLst>
                  <a:path w="232" h="37">
                    <a:moveTo>
                      <a:pt x="0" y="0"/>
                    </a:moveTo>
                    <a:lnTo>
                      <a:pt x="231" y="0"/>
                    </a:lnTo>
                    <a:lnTo>
                      <a:pt x="231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4088880" y="366048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4088880" y="353304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2011" name=""/>
            <p:cNvSpPr/>
            <p:nvPr/>
          </p:nvSpPr>
          <p:spPr>
            <a:xfrm>
              <a:off x="4067280" y="3632760"/>
              <a:ext cx="731160" cy="127800"/>
            </a:xfrm>
            <a:custGeom>
              <a:avLst/>
              <a:gdLst/>
              <a:ahLst/>
              <a:rect l="l" t="t" r="r" b="b"/>
              <a:pathLst>
                <a:path w="233" h="36">
                  <a:moveTo>
                    <a:pt x="0" y="0"/>
                  </a:moveTo>
                  <a:lnTo>
                    <a:pt x="232" y="0"/>
                  </a:lnTo>
                  <a:lnTo>
                    <a:pt x="232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073400" y="3643200"/>
              <a:ext cx="721800" cy="231120"/>
            </a:xfrm>
            <a:prstGeom prst="ellipse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073400" y="3519360"/>
              <a:ext cx="721800" cy="22680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2014" name=""/>
            <p:cNvGrpSpPr/>
            <p:nvPr/>
          </p:nvGrpSpPr>
          <p:grpSpPr>
            <a:xfrm>
              <a:off x="4208760" y="3547440"/>
              <a:ext cx="456840" cy="169200"/>
              <a:chOff x="4208760" y="3547440"/>
              <a:chExt cx="456840" cy="169200"/>
            </a:xfrm>
          </p:grpSpPr>
          <p:grpSp>
            <p:nvGrpSpPr>
              <p:cNvPr id="2015" name=""/>
              <p:cNvGrpSpPr/>
              <p:nvPr/>
            </p:nvGrpSpPr>
            <p:grpSpPr>
              <a:xfrm>
                <a:off x="4208760" y="3547440"/>
                <a:ext cx="456840" cy="169200"/>
                <a:chOff x="4208760" y="3547440"/>
                <a:chExt cx="456840" cy="169200"/>
              </a:xfrm>
            </p:grpSpPr>
            <p:sp>
              <p:nvSpPr>
                <p:cNvPr id="2016" name=""/>
                <p:cNvSpPr/>
                <p:nvPr/>
              </p:nvSpPr>
              <p:spPr>
                <a:xfrm>
                  <a:off x="4208760" y="354744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4208760" y="354744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4449240" y="365688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4449240" y="365688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0" name=""/>
              <p:cNvGrpSpPr/>
              <p:nvPr/>
            </p:nvGrpSpPr>
            <p:grpSpPr>
              <a:xfrm>
                <a:off x="4224240" y="3547440"/>
                <a:ext cx="425520" cy="169200"/>
                <a:chOff x="4224240" y="3547440"/>
                <a:chExt cx="425520" cy="169200"/>
              </a:xfrm>
            </p:grpSpPr>
            <p:sp>
              <p:nvSpPr>
                <p:cNvPr id="2021" name=""/>
                <p:cNvSpPr/>
                <p:nvPr/>
              </p:nvSpPr>
              <p:spPr>
                <a:xfrm>
                  <a:off x="4433400" y="354744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4433400" y="354744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4224240" y="364248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4224240" y="364248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25" name="Cloud"/>
          <p:cNvSpPr/>
          <p:nvPr/>
        </p:nvSpPr>
        <p:spPr>
          <a:xfrm>
            <a:off x="5595840" y="2355840"/>
            <a:ext cx="1224000" cy="8208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25592"/>
                </a:solidFill>
                <a:latin typeface="Arial"/>
              </a:rPr>
              <a:t>IPv4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26" name="Cloud"/>
          <p:cNvSpPr/>
          <p:nvPr/>
        </p:nvSpPr>
        <p:spPr>
          <a:xfrm>
            <a:off x="5595840" y="4119480"/>
            <a:ext cx="1224000" cy="8208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25592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27" name="computr2"/>
          <p:cNvSpPr/>
          <p:nvPr/>
        </p:nvSpPr>
        <p:spPr>
          <a:xfrm>
            <a:off x="2700360" y="1557360"/>
            <a:ext cx="792000" cy="801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28" name="tower"/>
          <p:cNvSpPr/>
          <p:nvPr/>
        </p:nvSpPr>
        <p:spPr>
          <a:xfrm>
            <a:off x="1116000" y="3068640"/>
            <a:ext cx="596880" cy="1192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29" name="Cloud"/>
          <p:cNvSpPr/>
          <p:nvPr/>
        </p:nvSpPr>
        <p:spPr>
          <a:xfrm>
            <a:off x="2484360" y="3308400"/>
            <a:ext cx="1224000" cy="8208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900000" y="155736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www.apnic.net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= AAAA ?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031" name=""/>
          <p:cNvCxnSpPr>
            <a:stCxn id="2027" idx="10"/>
            <a:endCxn id="2028" idx="10"/>
          </p:cNvCxnSpPr>
          <p:nvPr/>
        </p:nvCxnSpPr>
        <p:spPr>
          <a:xfrm flipH="1">
            <a:off x="1712160" y="2142720"/>
            <a:ext cx="1089720" cy="926280"/>
          </a:xfrm>
          <a:prstGeom prst="straightConnector1">
            <a:avLst/>
          </a:prstGeom>
          <a:ln w="41400">
            <a:solidFill>
              <a:srgbClr val="f9f5e1"/>
            </a:solidFill>
            <a:miter/>
            <a:tailEnd len="med" type="triangle" w="med"/>
          </a:ln>
        </p:spPr>
      </p:cxnSp>
      <p:sp>
        <p:nvSpPr>
          <p:cNvPr id="2032" name=""/>
          <p:cNvSpPr/>
          <p:nvPr/>
        </p:nvSpPr>
        <p:spPr>
          <a:xfrm>
            <a:off x="900000" y="465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2001:0DB8::1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033" name=""/>
          <p:cNvCxnSpPr>
            <a:stCxn id="2028" idx="11"/>
            <a:endCxn id="2027" idx="11"/>
          </p:cNvCxnSpPr>
          <p:nvPr/>
        </p:nvCxnSpPr>
        <p:spPr>
          <a:xfrm flipV="1">
            <a:off x="1712520" y="2358360"/>
            <a:ext cx="1384920" cy="710280"/>
          </a:xfrm>
          <a:prstGeom prst="straightConnector1">
            <a:avLst/>
          </a:prstGeom>
          <a:ln w="34920">
            <a:solidFill>
              <a:srgbClr val="f9f5e1"/>
            </a:solidFill>
            <a:miter/>
            <a:tailEnd len="med" type="triangle" w="med"/>
          </a:ln>
        </p:spPr>
      </p:cxnSp>
      <p:cxnSp>
        <p:nvCxnSpPr>
          <p:cNvPr id="2034" name=""/>
          <p:cNvCxnSpPr>
            <a:stCxn id="2028" idx="12"/>
            <a:endCxn id="2029" idx="4"/>
          </p:cNvCxnSpPr>
          <p:nvPr/>
        </p:nvCxnSpPr>
        <p:spPr>
          <a:xfrm>
            <a:off x="1712880" y="3711600"/>
            <a:ext cx="775440" cy="864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cxnSp>
        <p:nvCxnSpPr>
          <p:cNvPr id="2035" name=""/>
          <p:cNvCxnSpPr>
            <a:stCxn id="2029" idx="5"/>
            <a:endCxn id="2013" idx="3"/>
          </p:cNvCxnSpPr>
          <p:nvPr/>
        </p:nvCxnSpPr>
        <p:spPr>
          <a:xfrm flipV="1">
            <a:off x="3706920" y="3712680"/>
            <a:ext cx="473760" cy="720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cxnSp>
        <p:nvCxnSpPr>
          <p:cNvPr id="2036" name=""/>
          <p:cNvCxnSpPr>
            <a:stCxn id="2013" idx="7"/>
            <a:endCxn id="2025" idx="4"/>
          </p:cNvCxnSpPr>
          <p:nvPr/>
        </p:nvCxnSpPr>
        <p:spPr>
          <a:xfrm flipV="1">
            <a:off x="4689000" y="2766240"/>
            <a:ext cx="910440" cy="78660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cxnSp>
        <p:nvCxnSpPr>
          <p:cNvPr id="2037" name=""/>
          <p:cNvCxnSpPr>
            <a:stCxn id="2012" idx="5"/>
            <a:endCxn id="2026" idx="4"/>
          </p:cNvCxnSpPr>
          <p:nvPr/>
        </p:nvCxnSpPr>
        <p:spPr>
          <a:xfrm>
            <a:off x="4689000" y="3841560"/>
            <a:ext cx="910440" cy="68940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cxnSp>
        <p:nvCxnSpPr>
          <p:cNvPr id="2038" name=""/>
          <p:cNvCxnSpPr>
            <a:stCxn id="2025" idx="5"/>
            <a:endCxn id="2004" idx="10"/>
          </p:cNvCxnSpPr>
          <p:nvPr/>
        </p:nvCxnSpPr>
        <p:spPr>
          <a:xfrm flipV="1">
            <a:off x="6818040" y="2755080"/>
            <a:ext cx="626040" cy="1188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cxnSp>
        <p:nvCxnSpPr>
          <p:cNvPr id="2039" name=""/>
          <p:cNvCxnSpPr>
            <a:stCxn id="2026" idx="5"/>
            <a:endCxn id="2005" idx="10"/>
          </p:cNvCxnSpPr>
          <p:nvPr/>
        </p:nvCxnSpPr>
        <p:spPr>
          <a:xfrm flipV="1">
            <a:off x="6818040" y="4520880"/>
            <a:ext cx="626040" cy="1008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cxnSp>
        <p:nvCxnSpPr>
          <p:cNvPr id="2040" name=""/>
          <p:cNvCxnSpPr>
            <a:stCxn id="2029" idx="6"/>
            <a:endCxn id="2029" idx="7"/>
          </p:cNvCxnSpPr>
          <p:nvPr/>
        </p:nvCxnSpPr>
        <p:spPr>
          <a:xfrm>
            <a:off x="3706560" y="3719160"/>
            <a:ext cx="1080" cy="108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cxnSp>
        <p:nvCxnSpPr>
          <p:cNvPr id="2041" name=""/>
          <p:cNvCxnSpPr>
            <a:endCxn id="2011" idx="0"/>
          </p:cNvCxnSpPr>
          <p:nvPr/>
        </p:nvCxnSpPr>
        <p:spPr>
          <a:xfrm flipH="1" rot="16200000">
            <a:off x="3058920" y="2625120"/>
            <a:ext cx="1275480" cy="742320"/>
          </a:xfrm>
          <a:prstGeom prst="bentConnector2">
            <a:avLst/>
          </a:prstGeom>
          <a:ln w="47520">
            <a:solidFill>
              <a:srgbClr val="ffff00"/>
            </a:solidFill>
            <a:miter/>
          </a:ln>
        </p:spPr>
      </p:cxnSp>
      <p:sp>
        <p:nvSpPr>
          <p:cNvPr id="2042" name=""/>
          <p:cNvSpPr/>
          <p:nvPr/>
        </p:nvSpPr>
        <p:spPr>
          <a:xfrm>
            <a:off x="685440" y="429264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DNS Server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043" name=""/>
          <p:cNvCxnSpPr>
            <a:stCxn id="2027" idx="12"/>
            <a:endCxn id="2029" idx="8"/>
          </p:cNvCxnSpPr>
          <p:nvPr/>
        </p:nvCxnSpPr>
        <p:spPr>
          <a:xfrm>
            <a:off x="3096720" y="2358720"/>
            <a:ext cx="1080" cy="99756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sp>
        <p:nvSpPr>
          <p:cNvPr id="2044" name=""/>
          <p:cNvSpPr/>
          <p:nvPr/>
        </p:nvSpPr>
        <p:spPr>
          <a:xfrm>
            <a:off x="6804000" y="501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2001:0DB8::1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637920" y="5300640"/>
            <a:ext cx="565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IPv6 stack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Application asks the DNS for the IPv6 address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and connects to the IPv6 address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879000" y="6553080"/>
            <a:ext cx="52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9f5e1"/>
                </a:solidFill>
                <a:latin typeface="Arial"/>
              </a:rPr>
              <a:t>Concept is borrowed from Cisco training material “IPv6 Seminar”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047" name=""/>
          <p:cNvCxnSpPr>
            <a:stCxn id="2012" idx="4"/>
            <a:endCxn id="2005" idx="11"/>
          </p:cNvCxnSpPr>
          <p:nvPr/>
        </p:nvCxnSpPr>
        <p:spPr>
          <a:xfrm flipH="1" rot="16200000">
            <a:off x="5724360" y="2585520"/>
            <a:ext cx="430920" cy="3008880"/>
          </a:xfrm>
          <a:prstGeom prst="curvedConnector2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0" dur="indefinite" restart="never" nodeType="tmRoot">
          <p:childTnLst>
            <p:seq>
              <p:cTn id="2091" dur="indefinite" nodeType="mainSeq">
                <p:childTnLst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0.25209 -0.42569 E">
                                      <p:cBhvr>
                                        <p:cTn id="2115" dur="2000" fill="hold"/>
                                        <p:tgtEl>
                                          <p:spTgt spid="2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st running dual stac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computr2"/>
          <p:cNvSpPr/>
          <p:nvPr/>
        </p:nvSpPr>
        <p:spPr>
          <a:xfrm>
            <a:off x="7286760" y="2324160"/>
            <a:ext cx="792000" cy="801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50" name="computr2"/>
          <p:cNvSpPr/>
          <p:nvPr/>
        </p:nvSpPr>
        <p:spPr>
          <a:xfrm>
            <a:off x="7286760" y="4089240"/>
            <a:ext cx="792000" cy="801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051" name=""/>
          <p:cNvGrpSpPr/>
          <p:nvPr/>
        </p:nvGrpSpPr>
        <p:grpSpPr>
          <a:xfrm>
            <a:off x="4067280" y="3519360"/>
            <a:ext cx="743400" cy="371520"/>
            <a:chOff x="4067280" y="3519360"/>
            <a:chExt cx="743400" cy="371520"/>
          </a:xfrm>
        </p:grpSpPr>
        <p:grpSp>
          <p:nvGrpSpPr>
            <p:cNvPr id="2052" name=""/>
            <p:cNvGrpSpPr/>
            <p:nvPr/>
          </p:nvGrpSpPr>
          <p:grpSpPr>
            <a:xfrm>
              <a:off x="4083480" y="3533040"/>
              <a:ext cx="727200" cy="357840"/>
              <a:chOff x="4083480" y="3533040"/>
              <a:chExt cx="727200" cy="357840"/>
            </a:xfrm>
          </p:grpSpPr>
          <p:sp>
            <p:nvSpPr>
              <p:cNvPr id="2053" name=""/>
              <p:cNvSpPr/>
              <p:nvPr/>
            </p:nvSpPr>
            <p:spPr>
              <a:xfrm>
                <a:off x="4083480" y="3650040"/>
                <a:ext cx="727200" cy="130680"/>
              </a:xfrm>
              <a:custGeom>
                <a:avLst/>
                <a:gdLst/>
                <a:ahLst/>
                <a:rect l="l" t="t" r="r" b="b"/>
                <a:pathLst>
                  <a:path w="232" h="37">
                    <a:moveTo>
                      <a:pt x="0" y="0"/>
                    </a:moveTo>
                    <a:lnTo>
                      <a:pt x="231" y="0"/>
                    </a:lnTo>
                    <a:lnTo>
                      <a:pt x="231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4088880" y="366048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4088880" y="353304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2056" name=""/>
            <p:cNvSpPr/>
            <p:nvPr/>
          </p:nvSpPr>
          <p:spPr>
            <a:xfrm>
              <a:off x="4067280" y="3632760"/>
              <a:ext cx="731160" cy="127800"/>
            </a:xfrm>
            <a:custGeom>
              <a:avLst/>
              <a:gdLst/>
              <a:ahLst/>
              <a:rect l="l" t="t" r="r" b="b"/>
              <a:pathLst>
                <a:path w="233" h="36">
                  <a:moveTo>
                    <a:pt x="0" y="0"/>
                  </a:moveTo>
                  <a:lnTo>
                    <a:pt x="232" y="0"/>
                  </a:lnTo>
                  <a:lnTo>
                    <a:pt x="232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4073400" y="3643200"/>
              <a:ext cx="721800" cy="231120"/>
            </a:xfrm>
            <a:prstGeom prst="ellipse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073400" y="3519360"/>
              <a:ext cx="721800" cy="22680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2059" name=""/>
            <p:cNvGrpSpPr/>
            <p:nvPr/>
          </p:nvGrpSpPr>
          <p:grpSpPr>
            <a:xfrm>
              <a:off x="4208760" y="3547440"/>
              <a:ext cx="456840" cy="169200"/>
              <a:chOff x="4208760" y="3547440"/>
              <a:chExt cx="456840" cy="169200"/>
            </a:xfrm>
          </p:grpSpPr>
          <p:grpSp>
            <p:nvGrpSpPr>
              <p:cNvPr id="2060" name=""/>
              <p:cNvGrpSpPr/>
              <p:nvPr/>
            </p:nvGrpSpPr>
            <p:grpSpPr>
              <a:xfrm>
                <a:off x="4208760" y="3547440"/>
                <a:ext cx="456840" cy="169200"/>
                <a:chOff x="4208760" y="3547440"/>
                <a:chExt cx="456840" cy="169200"/>
              </a:xfrm>
            </p:grpSpPr>
            <p:sp>
              <p:nvSpPr>
                <p:cNvPr id="2061" name=""/>
                <p:cNvSpPr/>
                <p:nvPr/>
              </p:nvSpPr>
              <p:spPr>
                <a:xfrm>
                  <a:off x="4208760" y="354744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4208760" y="354744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4449240" y="365688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4449240" y="365688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5" name=""/>
              <p:cNvGrpSpPr/>
              <p:nvPr/>
            </p:nvGrpSpPr>
            <p:grpSpPr>
              <a:xfrm>
                <a:off x="4224240" y="3547440"/>
                <a:ext cx="425520" cy="169200"/>
                <a:chOff x="4224240" y="3547440"/>
                <a:chExt cx="425520" cy="169200"/>
              </a:xfrm>
            </p:grpSpPr>
            <p:sp>
              <p:nvSpPr>
                <p:cNvPr id="2066" name=""/>
                <p:cNvSpPr/>
                <p:nvPr/>
              </p:nvSpPr>
              <p:spPr>
                <a:xfrm>
                  <a:off x="4433400" y="354744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4433400" y="354744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4224240" y="364248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4224240" y="364248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0" name="Cloud"/>
          <p:cNvSpPr/>
          <p:nvPr/>
        </p:nvSpPr>
        <p:spPr>
          <a:xfrm>
            <a:off x="5595840" y="2355840"/>
            <a:ext cx="1224000" cy="8208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25592"/>
                </a:solidFill>
                <a:latin typeface="Arial"/>
              </a:rPr>
              <a:t>IPv4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71" name="Cloud"/>
          <p:cNvSpPr/>
          <p:nvPr/>
        </p:nvSpPr>
        <p:spPr>
          <a:xfrm>
            <a:off x="5595840" y="4119480"/>
            <a:ext cx="1224000" cy="8208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25592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72" name="computr2"/>
          <p:cNvSpPr/>
          <p:nvPr/>
        </p:nvSpPr>
        <p:spPr>
          <a:xfrm>
            <a:off x="2700360" y="1557360"/>
            <a:ext cx="792000" cy="801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73" name="tower"/>
          <p:cNvSpPr/>
          <p:nvPr/>
        </p:nvSpPr>
        <p:spPr>
          <a:xfrm>
            <a:off x="1116000" y="3068640"/>
            <a:ext cx="596880" cy="1192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74" name="Cloud"/>
          <p:cNvSpPr/>
          <p:nvPr/>
        </p:nvSpPr>
        <p:spPr>
          <a:xfrm>
            <a:off x="2484360" y="3308400"/>
            <a:ext cx="1224000" cy="8208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900000" y="155736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www.apnic.net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= * ?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076" name=""/>
          <p:cNvCxnSpPr>
            <a:stCxn id="2072" idx="10"/>
            <a:endCxn id="2073" idx="10"/>
          </p:cNvCxnSpPr>
          <p:nvPr/>
        </p:nvCxnSpPr>
        <p:spPr>
          <a:xfrm flipH="1">
            <a:off x="1712160" y="2142720"/>
            <a:ext cx="1089720" cy="926280"/>
          </a:xfrm>
          <a:prstGeom prst="straightConnector1">
            <a:avLst/>
          </a:prstGeom>
          <a:ln w="41400">
            <a:solidFill>
              <a:srgbClr val="f9f5e1"/>
            </a:solidFill>
            <a:miter/>
            <a:tailEnd len="med" type="triangle" w="med"/>
          </a:ln>
        </p:spPr>
      </p:cxnSp>
      <p:sp>
        <p:nvSpPr>
          <p:cNvPr id="2077" name=""/>
          <p:cNvSpPr/>
          <p:nvPr/>
        </p:nvSpPr>
        <p:spPr>
          <a:xfrm>
            <a:off x="1077840" y="458136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2001:0DB8::1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192.168.10.1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078" name=""/>
          <p:cNvCxnSpPr>
            <a:stCxn id="2073" idx="11"/>
            <a:endCxn id="2072" idx="11"/>
          </p:cNvCxnSpPr>
          <p:nvPr/>
        </p:nvCxnSpPr>
        <p:spPr>
          <a:xfrm flipV="1">
            <a:off x="1712520" y="2358360"/>
            <a:ext cx="1384920" cy="710280"/>
          </a:xfrm>
          <a:prstGeom prst="straightConnector1">
            <a:avLst/>
          </a:prstGeom>
          <a:ln w="34920">
            <a:solidFill>
              <a:srgbClr val="f9f5e1"/>
            </a:solidFill>
            <a:miter/>
            <a:tailEnd len="med" type="triangle" w="med"/>
          </a:ln>
        </p:spPr>
      </p:cxnSp>
      <p:cxnSp>
        <p:nvCxnSpPr>
          <p:cNvPr id="2079" name=""/>
          <p:cNvCxnSpPr>
            <a:stCxn id="2073" idx="12"/>
            <a:endCxn id="2074" idx="4"/>
          </p:cNvCxnSpPr>
          <p:nvPr/>
        </p:nvCxnSpPr>
        <p:spPr>
          <a:xfrm>
            <a:off x="1712880" y="3711600"/>
            <a:ext cx="775440" cy="864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cxnSp>
        <p:nvCxnSpPr>
          <p:cNvPr id="2080" name=""/>
          <p:cNvCxnSpPr>
            <a:stCxn id="2074" idx="5"/>
            <a:endCxn id="2058" idx="3"/>
          </p:cNvCxnSpPr>
          <p:nvPr/>
        </p:nvCxnSpPr>
        <p:spPr>
          <a:xfrm flipV="1">
            <a:off x="3706920" y="3712680"/>
            <a:ext cx="473760" cy="720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cxnSp>
        <p:nvCxnSpPr>
          <p:cNvPr id="2081" name=""/>
          <p:cNvCxnSpPr>
            <a:stCxn id="2058" idx="7"/>
            <a:endCxn id="2070" idx="4"/>
          </p:cNvCxnSpPr>
          <p:nvPr/>
        </p:nvCxnSpPr>
        <p:spPr>
          <a:xfrm flipV="1">
            <a:off x="4689000" y="2766240"/>
            <a:ext cx="910440" cy="78660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cxnSp>
        <p:nvCxnSpPr>
          <p:cNvPr id="2082" name=""/>
          <p:cNvCxnSpPr>
            <a:stCxn id="2057" idx="5"/>
            <a:endCxn id="2071" idx="4"/>
          </p:cNvCxnSpPr>
          <p:nvPr/>
        </p:nvCxnSpPr>
        <p:spPr>
          <a:xfrm>
            <a:off x="4689000" y="3841560"/>
            <a:ext cx="910440" cy="68940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cxnSp>
        <p:nvCxnSpPr>
          <p:cNvPr id="2083" name=""/>
          <p:cNvCxnSpPr>
            <a:stCxn id="2070" idx="5"/>
            <a:endCxn id="2049" idx="10"/>
          </p:cNvCxnSpPr>
          <p:nvPr/>
        </p:nvCxnSpPr>
        <p:spPr>
          <a:xfrm flipV="1">
            <a:off x="6818040" y="2755080"/>
            <a:ext cx="626040" cy="1188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cxnSp>
        <p:nvCxnSpPr>
          <p:cNvPr id="2084" name=""/>
          <p:cNvCxnSpPr>
            <a:stCxn id="2071" idx="5"/>
            <a:endCxn id="2050" idx="10"/>
          </p:cNvCxnSpPr>
          <p:nvPr/>
        </p:nvCxnSpPr>
        <p:spPr>
          <a:xfrm flipV="1">
            <a:off x="6818040" y="4520880"/>
            <a:ext cx="626040" cy="1008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cxnSp>
        <p:nvCxnSpPr>
          <p:cNvPr id="2085" name=""/>
          <p:cNvCxnSpPr>
            <a:stCxn id="2074" idx="6"/>
            <a:endCxn id="2074" idx="7"/>
          </p:cNvCxnSpPr>
          <p:nvPr/>
        </p:nvCxnSpPr>
        <p:spPr>
          <a:xfrm>
            <a:off x="3706560" y="3719160"/>
            <a:ext cx="1080" cy="108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cxnSp>
        <p:nvCxnSpPr>
          <p:cNvPr id="2086" name=""/>
          <p:cNvCxnSpPr>
            <a:endCxn id="2056" idx="0"/>
          </p:cNvCxnSpPr>
          <p:nvPr/>
        </p:nvCxnSpPr>
        <p:spPr>
          <a:xfrm flipH="1" rot="16200000">
            <a:off x="3058920" y="2625120"/>
            <a:ext cx="1275480" cy="742320"/>
          </a:xfrm>
          <a:prstGeom prst="bentConnector2">
            <a:avLst/>
          </a:prstGeom>
          <a:ln w="47520">
            <a:solidFill>
              <a:srgbClr val="ffff00"/>
            </a:solidFill>
            <a:miter/>
          </a:ln>
        </p:spPr>
      </p:cxnSp>
      <p:sp>
        <p:nvSpPr>
          <p:cNvPr id="2087" name=""/>
          <p:cNvSpPr/>
          <p:nvPr/>
        </p:nvSpPr>
        <p:spPr>
          <a:xfrm>
            <a:off x="685440" y="429264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DNS Server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088" name=""/>
          <p:cNvCxnSpPr>
            <a:stCxn id="2072" idx="12"/>
            <a:endCxn id="2074" idx="8"/>
          </p:cNvCxnSpPr>
          <p:nvPr/>
        </p:nvCxnSpPr>
        <p:spPr>
          <a:xfrm>
            <a:off x="3096720" y="2358720"/>
            <a:ext cx="1080" cy="99756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sp>
        <p:nvSpPr>
          <p:cNvPr id="2089" name=""/>
          <p:cNvSpPr/>
          <p:nvPr/>
        </p:nvSpPr>
        <p:spPr>
          <a:xfrm>
            <a:off x="6804000" y="501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2001:0DB8::1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637920" y="5472000"/>
            <a:ext cx="622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Dual stack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Application asks the DNS for all types of addresses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choose one address and connect to it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879000" y="6553080"/>
            <a:ext cx="52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9f5e1"/>
                </a:solidFill>
                <a:latin typeface="Arial"/>
              </a:rPr>
              <a:t>Concept is borrowed from Cisco training material “IPv6 Seminar”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092" name=""/>
          <p:cNvCxnSpPr>
            <a:stCxn id="2057" idx="4"/>
            <a:endCxn id="2050" idx="11"/>
          </p:cNvCxnSpPr>
          <p:nvPr/>
        </p:nvCxnSpPr>
        <p:spPr>
          <a:xfrm flipH="1" rot="16200000">
            <a:off x="5724360" y="2585520"/>
            <a:ext cx="430920" cy="3008880"/>
          </a:xfrm>
          <a:prstGeom prst="curvedConnector2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4" dur="indefinite" restart="never" nodeType="tmRoot">
          <p:childTnLst>
            <p:seq>
              <p:cTn id="2125" dur="indefinite" nodeType="mainSeq">
                <p:childTnLst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0.25209 -0.42569 E">
                                      <p:cBhvr>
                                        <p:cTn id="2149" dur="2000" fill="hold"/>
                                        <p:tgtEl>
                                          <p:spTgt spid="2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unnell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Many techniques are available: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Manual configur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Manual tunne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Generic Packet Tunnelling (GRE Tunnelling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Semi-automat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Tunnel brok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Automatic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6to4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ISATAP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anual configur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2819520" y="2243160"/>
            <a:ext cx="743400" cy="371160"/>
            <a:chOff x="2819520" y="2243160"/>
            <a:chExt cx="743400" cy="371160"/>
          </a:xfrm>
        </p:grpSpPr>
        <p:grpSp>
          <p:nvGrpSpPr>
            <p:cNvPr id="2097" name=""/>
            <p:cNvGrpSpPr/>
            <p:nvPr/>
          </p:nvGrpSpPr>
          <p:grpSpPr>
            <a:xfrm>
              <a:off x="2835720" y="2256480"/>
              <a:ext cx="727200" cy="357840"/>
              <a:chOff x="2835720" y="2256480"/>
              <a:chExt cx="727200" cy="357840"/>
            </a:xfrm>
          </p:grpSpPr>
          <p:sp>
            <p:nvSpPr>
              <p:cNvPr id="2098" name=""/>
              <p:cNvSpPr/>
              <p:nvPr/>
            </p:nvSpPr>
            <p:spPr>
              <a:xfrm>
                <a:off x="2835720" y="2373480"/>
                <a:ext cx="727200" cy="130680"/>
              </a:xfrm>
              <a:custGeom>
                <a:avLst/>
                <a:gdLst/>
                <a:ahLst/>
                <a:rect l="l" t="t" r="r" b="b"/>
                <a:pathLst>
                  <a:path w="232" h="37">
                    <a:moveTo>
                      <a:pt x="0" y="0"/>
                    </a:moveTo>
                    <a:lnTo>
                      <a:pt x="231" y="0"/>
                    </a:lnTo>
                    <a:lnTo>
                      <a:pt x="231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841120" y="238392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841120" y="225648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2101" name=""/>
            <p:cNvSpPr/>
            <p:nvPr/>
          </p:nvSpPr>
          <p:spPr>
            <a:xfrm>
              <a:off x="2819520" y="2356560"/>
              <a:ext cx="731160" cy="127800"/>
            </a:xfrm>
            <a:custGeom>
              <a:avLst/>
              <a:gdLst/>
              <a:ahLst/>
              <a:rect l="l" t="t" r="r" b="b"/>
              <a:pathLst>
                <a:path w="233" h="36">
                  <a:moveTo>
                    <a:pt x="0" y="0"/>
                  </a:moveTo>
                  <a:lnTo>
                    <a:pt x="232" y="0"/>
                  </a:lnTo>
                  <a:lnTo>
                    <a:pt x="232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825640" y="2367000"/>
              <a:ext cx="721800" cy="230760"/>
            </a:xfrm>
            <a:prstGeom prst="ellipse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825640" y="2243160"/>
              <a:ext cx="721800" cy="22680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2104" name=""/>
            <p:cNvGrpSpPr/>
            <p:nvPr/>
          </p:nvGrpSpPr>
          <p:grpSpPr>
            <a:xfrm>
              <a:off x="2961000" y="2271240"/>
              <a:ext cx="456840" cy="168840"/>
              <a:chOff x="2961000" y="2271240"/>
              <a:chExt cx="456840" cy="168840"/>
            </a:xfrm>
          </p:grpSpPr>
          <p:grpSp>
            <p:nvGrpSpPr>
              <p:cNvPr id="2105" name=""/>
              <p:cNvGrpSpPr/>
              <p:nvPr/>
            </p:nvGrpSpPr>
            <p:grpSpPr>
              <a:xfrm>
                <a:off x="2961000" y="2271240"/>
                <a:ext cx="456840" cy="168840"/>
                <a:chOff x="2961000" y="2271240"/>
                <a:chExt cx="456840" cy="168840"/>
              </a:xfrm>
            </p:grpSpPr>
            <p:sp>
              <p:nvSpPr>
                <p:cNvPr id="2106" name=""/>
                <p:cNvSpPr/>
                <p:nvPr/>
              </p:nvSpPr>
              <p:spPr>
                <a:xfrm>
                  <a:off x="2961000" y="227124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961000" y="227124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3201480" y="238032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3201480" y="238032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0" name=""/>
              <p:cNvGrpSpPr/>
              <p:nvPr/>
            </p:nvGrpSpPr>
            <p:grpSpPr>
              <a:xfrm>
                <a:off x="2976480" y="2271240"/>
                <a:ext cx="425520" cy="168840"/>
                <a:chOff x="2976480" y="2271240"/>
                <a:chExt cx="425520" cy="168840"/>
              </a:xfrm>
            </p:grpSpPr>
            <p:sp>
              <p:nvSpPr>
                <p:cNvPr id="2111" name=""/>
                <p:cNvSpPr/>
                <p:nvPr/>
              </p:nvSpPr>
              <p:spPr>
                <a:xfrm>
                  <a:off x="3185640" y="227124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3185640" y="227124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976480" y="236592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976480" y="236592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15" name=""/>
          <p:cNvGrpSpPr/>
          <p:nvPr/>
        </p:nvGrpSpPr>
        <p:grpSpPr>
          <a:xfrm>
            <a:off x="5540400" y="2238480"/>
            <a:ext cx="743400" cy="371160"/>
            <a:chOff x="5540400" y="2238480"/>
            <a:chExt cx="743400" cy="371160"/>
          </a:xfrm>
        </p:grpSpPr>
        <p:grpSp>
          <p:nvGrpSpPr>
            <p:cNvPr id="2116" name=""/>
            <p:cNvGrpSpPr/>
            <p:nvPr/>
          </p:nvGrpSpPr>
          <p:grpSpPr>
            <a:xfrm>
              <a:off x="5556600" y="2251800"/>
              <a:ext cx="727200" cy="357840"/>
              <a:chOff x="5556600" y="2251800"/>
              <a:chExt cx="727200" cy="357840"/>
            </a:xfrm>
          </p:grpSpPr>
          <p:sp>
            <p:nvSpPr>
              <p:cNvPr id="2117" name=""/>
              <p:cNvSpPr/>
              <p:nvPr/>
            </p:nvSpPr>
            <p:spPr>
              <a:xfrm>
                <a:off x="5556600" y="2368800"/>
                <a:ext cx="727200" cy="130680"/>
              </a:xfrm>
              <a:custGeom>
                <a:avLst/>
                <a:gdLst/>
                <a:ahLst/>
                <a:rect l="l" t="t" r="r" b="b"/>
                <a:pathLst>
                  <a:path w="232" h="37">
                    <a:moveTo>
                      <a:pt x="0" y="0"/>
                    </a:moveTo>
                    <a:lnTo>
                      <a:pt x="231" y="0"/>
                    </a:lnTo>
                    <a:lnTo>
                      <a:pt x="231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562000" y="237924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562000" y="225180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2120" name=""/>
            <p:cNvSpPr/>
            <p:nvPr/>
          </p:nvSpPr>
          <p:spPr>
            <a:xfrm>
              <a:off x="5540400" y="2351880"/>
              <a:ext cx="731160" cy="127800"/>
            </a:xfrm>
            <a:custGeom>
              <a:avLst/>
              <a:gdLst/>
              <a:ahLst/>
              <a:rect l="l" t="t" r="r" b="b"/>
              <a:pathLst>
                <a:path w="233" h="36">
                  <a:moveTo>
                    <a:pt x="0" y="0"/>
                  </a:moveTo>
                  <a:lnTo>
                    <a:pt x="232" y="0"/>
                  </a:lnTo>
                  <a:lnTo>
                    <a:pt x="232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546520" y="2362320"/>
              <a:ext cx="721800" cy="230760"/>
            </a:xfrm>
            <a:prstGeom prst="ellipse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546520" y="2238480"/>
              <a:ext cx="721800" cy="22680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2123" name=""/>
            <p:cNvGrpSpPr/>
            <p:nvPr/>
          </p:nvGrpSpPr>
          <p:grpSpPr>
            <a:xfrm>
              <a:off x="5681880" y="2266560"/>
              <a:ext cx="456840" cy="168840"/>
              <a:chOff x="5681880" y="2266560"/>
              <a:chExt cx="456840" cy="168840"/>
            </a:xfrm>
          </p:grpSpPr>
          <p:grpSp>
            <p:nvGrpSpPr>
              <p:cNvPr id="2124" name=""/>
              <p:cNvGrpSpPr/>
              <p:nvPr/>
            </p:nvGrpSpPr>
            <p:grpSpPr>
              <a:xfrm>
                <a:off x="5681880" y="2266560"/>
                <a:ext cx="456840" cy="168840"/>
                <a:chOff x="5681880" y="2266560"/>
                <a:chExt cx="456840" cy="168840"/>
              </a:xfrm>
            </p:grpSpPr>
            <p:sp>
              <p:nvSpPr>
                <p:cNvPr id="2125" name=""/>
                <p:cNvSpPr/>
                <p:nvPr/>
              </p:nvSpPr>
              <p:spPr>
                <a:xfrm>
                  <a:off x="5681880" y="226656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5681880" y="226656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5922360" y="237564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5922360" y="237564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9" name=""/>
              <p:cNvGrpSpPr/>
              <p:nvPr/>
            </p:nvGrpSpPr>
            <p:grpSpPr>
              <a:xfrm>
                <a:off x="5697360" y="2266560"/>
                <a:ext cx="425520" cy="168840"/>
                <a:chOff x="5697360" y="2266560"/>
                <a:chExt cx="425520" cy="168840"/>
              </a:xfrm>
            </p:grpSpPr>
            <p:sp>
              <p:nvSpPr>
                <p:cNvPr id="2130" name=""/>
                <p:cNvSpPr/>
                <p:nvPr/>
              </p:nvSpPr>
              <p:spPr>
                <a:xfrm>
                  <a:off x="5906520" y="226656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5906520" y="226656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5697360" y="236124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5697360" y="236124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34" name="Cloud"/>
          <p:cNvSpPr/>
          <p:nvPr/>
        </p:nvSpPr>
        <p:spPr>
          <a:xfrm>
            <a:off x="6692760" y="2122560"/>
            <a:ext cx="920880" cy="6174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25592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35" name="Cloud"/>
          <p:cNvSpPr/>
          <p:nvPr/>
        </p:nvSpPr>
        <p:spPr>
          <a:xfrm>
            <a:off x="1403280" y="2046240"/>
            <a:ext cx="920880" cy="61776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25592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136" name=""/>
          <p:cNvCxnSpPr>
            <a:stCxn id="2102" idx="6"/>
            <a:endCxn id="2121" idx="2"/>
          </p:cNvCxnSpPr>
          <p:nvPr/>
        </p:nvCxnSpPr>
        <p:spPr>
          <a:xfrm flipV="1">
            <a:off x="3548160" y="2477520"/>
            <a:ext cx="1999440" cy="5400"/>
          </a:xfrm>
          <a:prstGeom prst="straightConnector1">
            <a:avLst/>
          </a:prstGeom>
          <a:ln w="41400">
            <a:solidFill>
              <a:srgbClr val="ffff99"/>
            </a:solidFill>
            <a:miter/>
          </a:ln>
        </p:spPr>
      </p:cxnSp>
      <p:cxnSp>
        <p:nvCxnSpPr>
          <p:cNvPr id="2137" name=""/>
          <p:cNvCxnSpPr>
            <a:stCxn id="2103" idx="6"/>
            <a:endCxn id="2120" idx="0"/>
          </p:cNvCxnSpPr>
          <p:nvPr/>
        </p:nvCxnSpPr>
        <p:spPr>
          <a:xfrm flipV="1">
            <a:off x="3548160" y="2351880"/>
            <a:ext cx="1992600" cy="5400"/>
          </a:xfrm>
          <a:prstGeom prst="straightConnector1">
            <a:avLst/>
          </a:prstGeom>
          <a:ln w="41400">
            <a:solidFill>
              <a:srgbClr val="ffff99"/>
            </a:solidFill>
            <a:miter/>
          </a:ln>
        </p:spPr>
      </p:cxnSp>
      <p:sp>
        <p:nvSpPr>
          <p:cNvPr id="2138" name="Cloud"/>
          <p:cNvSpPr/>
          <p:nvPr/>
        </p:nvSpPr>
        <p:spPr>
          <a:xfrm>
            <a:off x="4029120" y="2084400"/>
            <a:ext cx="936720" cy="6285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25592"/>
                </a:solidFill>
                <a:latin typeface="Arial"/>
              </a:rPr>
              <a:t>IPv4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139" name=""/>
          <p:cNvCxnSpPr>
            <a:stCxn id="2135" idx="4"/>
            <a:endCxn id="2103" idx="2"/>
          </p:cNvCxnSpPr>
          <p:nvPr/>
        </p:nvCxnSpPr>
        <p:spPr>
          <a:xfrm>
            <a:off x="2323800" y="2355840"/>
            <a:ext cx="501840" cy="216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cxnSp>
        <p:nvCxnSpPr>
          <p:cNvPr id="2140" name=""/>
          <p:cNvCxnSpPr/>
          <p:nvPr/>
        </p:nvCxnSpPr>
        <p:spPr>
          <a:xfrm>
            <a:off x="6162480" y="2374560"/>
            <a:ext cx="533880" cy="1080"/>
          </a:xfrm>
          <a:prstGeom prst="straightConnector1">
            <a:avLst/>
          </a:prstGeom>
          <a:ln w="34920">
            <a:solidFill>
              <a:srgbClr val="f9f5e1"/>
            </a:solidFill>
            <a:miter/>
          </a:ln>
        </p:spPr>
      </p:cxnSp>
      <p:sp>
        <p:nvSpPr>
          <p:cNvPr id="2141" name=""/>
          <p:cNvSpPr/>
          <p:nvPr/>
        </p:nvSpPr>
        <p:spPr>
          <a:xfrm>
            <a:off x="2658240" y="141300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Dual Stack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295600" y="1442880"/>
            <a:ext cx="127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Dual Stack 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2055600" y="2924280"/>
            <a:ext cx="241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IPv4: 192.168.10.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IPv6: 2001:0DB8:700::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4790880" y="2924280"/>
            <a:ext cx="241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IPv4: 192.168.50.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IPv6: 2001:0DB8:700::2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971280" y="4220640"/>
            <a:ext cx="74674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Manually configured tunnels require: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Dual stack end point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Explicit configuration with both Ipv4 and IPv6 addresses at each en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3879000" y="6553080"/>
            <a:ext cx="52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9f5e1"/>
                </a:solidFill>
                <a:latin typeface="Arial"/>
              </a:rPr>
              <a:t>Concept is borrowed from Cisco training material “IPv6 Seminar”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236000" y="549360"/>
            <a:ext cx="796680" cy="814320"/>
          </a:xfrm>
          <a:prstGeom prst="flowChartMultidocumen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RFC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2893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8" dur="indefinite" restart="never" nodeType="tmRoot">
          <p:childTnLst>
            <p:seq>
              <p:cTn id="2159" dur="indefinite" nodeType="mainSeq">
                <p:childTnLst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unnel brok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7812000" y="981000"/>
            <a:ext cx="797040" cy="814320"/>
          </a:xfrm>
          <a:prstGeom prst="flowChartMultidocumen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RFC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3053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50" name="computr2"/>
          <p:cNvSpPr/>
          <p:nvPr/>
        </p:nvSpPr>
        <p:spPr>
          <a:xfrm>
            <a:off x="1403280" y="3008160"/>
            <a:ext cx="792360" cy="801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51" name="computr2"/>
          <p:cNvSpPr/>
          <p:nvPr/>
        </p:nvSpPr>
        <p:spPr>
          <a:xfrm>
            <a:off x="5076720" y="1928880"/>
            <a:ext cx="792360" cy="801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152" name=""/>
          <p:cNvGrpSpPr/>
          <p:nvPr/>
        </p:nvGrpSpPr>
        <p:grpSpPr>
          <a:xfrm>
            <a:off x="5148360" y="3112920"/>
            <a:ext cx="743400" cy="515520"/>
            <a:chOff x="5148360" y="3112920"/>
            <a:chExt cx="743400" cy="515520"/>
          </a:xfrm>
        </p:grpSpPr>
        <p:grpSp>
          <p:nvGrpSpPr>
            <p:cNvPr id="2153" name=""/>
            <p:cNvGrpSpPr/>
            <p:nvPr/>
          </p:nvGrpSpPr>
          <p:grpSpPr>
            <a:xfrm>
              <a:off x="5164560" y="3131640"/>
              <a:ext cx="727200" cy="496800"/>
              <a:chOff x="5164560" y="3131640"/>
              <a:chExt cx="727200" cy="496800"/>
            </a:xfrm>
          </p:grpSpPr>
          <p:sp>
            <p:nvSpPr>
              <p:cNvPr id="2154" name=""/>
              <p:cNvSpPr/>
              <p:nvPr/>
            </p:nvSpPr>
            <p:spPr>
              <a:xfrm>
                <a:off x="5164560" y="3294360"/>
                <a:ext cx="727200" cy="181440"/>
              </a:xfrm>
              <a:custGeom>
                <a:avLst/>
                <a:gdLst/>
                <a:ahLst/>
                <a:rect l="l" t="t" r="r" b="b"/>
                <a:pathLst>
                  <a:path w="232" h="37">
                    <a:moveTo>
                      <a:pt x="0" y="0"/>
                    </a:moveTo>
                    <a:lnTo>
                      <a:pt x="231" y="0"/>
                    </a:lnTo>
                    <a:lnTo>
                      <a:pt x="231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5169960" y="3308760"/>
                <a:ext cx="717840" cy="319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169960" y="3131640"/>
                <a:ext cx="717840" cy="319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2157" name=""/>
            <p:cNvSpPr/>
            <p:nvPr/>
          </p:nvSpPr>
          <p:spPr>
            <a:xfrm>
              <a:off x="5148360" y="3270240"/>
              <a:ext cx="731160" cy="177480"/>
            </a:xfrm>
            <a:custGeom>
              <a:avLst/>
              <a:gdLst/>
              <a:ahLst/>
              <a:rect l="l" t="t" r="r" b="b"/>
              <a:pathLst>
                <a:path w="233" h="36">
                  <a:moveTo>
                    <a:pt x="0" y="0"/>
                  </a:moveTo>
                  <a:lnTo>
                    <a:pt x="232" y="0"/>
                  </a:lnTo>
                  <a:lnTo>
                    <a:pt x="232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154480" y="3284640"/>
              <a:ext cx="721800" cy="320400"/>
            </a:xfrm>
            <a:prstGeom prst="ellipse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154480" y="3112920"/>
              <a:ext cx="721800" cy="31464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2160" name=""/>
            <p:cNvGrpSpPr/>
            <p:nvPr/>
          </p:nvGrpSpPr>
          <p:grpSpPr>
            <a:xfrm>
              <a:off x="5289840" y="3151800"/>
              <a:ext cx="456840" cy="234360"/>
              <a:chOff x="5289840" y="3151800"/>
              <a:chExt cx="456840" cy="234360"/>
            </a:xfrm>
          </p:grpSpPr>
          <p:grpSp>
            <p:nvGrpSpPr>
              <p:cNvPr id="2161" name=""/>
              <p:cNvGrpSpPr/>
              <p:nvPr/>
            </p:nvGrpSpPr>
            <p:grpSpPr>
              <a:xfrm>
                <a:off x="5289840" y="3151800"/>
                <a:ext cx="456840" cy="234360"/>
                <a:chOff x="5289840" y="3151800"/>
                <a:chExt cx="456840" cy="234360"/>
              </a:xfrm>
            </p:grpSpPr>
            <p:sp>
              <p:nvSpPr>
                <p:cNvPr id="2162" name=""/>
                <p:cNvSpPr/>
                <p:nvPr/>
              </p:nvSpPr>
              <p:spPr>
                <a:xfrm>
                  <a:off x="5289840" y="3151800"/>
                  <a:ext cx="209160" cy="97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5289840" y="3151800"/>
                  <a:ext cx="209160" cy="97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5530320" y="3303360"/>
                  <a:ext cx="216360" cy="8280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5530320" y="3303360"/>
                  <a:ext cx="216360" cy="8280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6" name=""/>
              <p:cNvGrpSpPr/>
              <p:nvPr/>
            </p:nvGrpSpPr>
            <p:grpSpPr>
              <a:xfrm>
                <a:off x="5305320" y="3151800"/>
                <a:ext cx="425520" cy="234000"/>
                <a:chOff x="5305320" y="3151800"/>
                <a:chExt cx="425520" cy="234000"/>
              </a:xfrm>
            </p:grpSpPr>
            <p:sp>
              <p:nvSpPr>
                <p:cNvPr id="2167" name=""/>
                <p:cNvSpPr/>
                <p:nvPr/>
              </p:nvSpPr>
              <p:spPr>
                <a:xfrm>
                  <a:off x="5514480" y="3151800"/>
                  <a:ext cx="216360" cy="97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5514480" y="3151800"/>
                  <a:ext cx="216360" cy="97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5305320" y="3283200"/>
                  <a:ext cx="206280" cy="10260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5305320" y="3283200"/>
                  <a:ext cx="206280" cy="10260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71" name="Cloud"/>
          <p:cNvSpPr/>
          <p:nvPr/>
        </p:nvSpPr>
        <p:spPr>
          <a:xfrm>
            <a:off x="6588000" y="2228760"/>
            <a:ext cx="1656000" cy="16542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25592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265400" y="1649520"/>
            <a:ext cx="278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1. Register as a user of TB 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via a web form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4435200" y="1290600"/>
            <a:ext cx="229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2. Tunnel information 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response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174" name=""/>
          <p:cNvCxnSpPr>
            <a:stCxn id="2150" idx="10"/>
            <a:endCxn id="2151" idx="10"/>
          </p:cNvCxnSpPr>
          <p:nvPr/>
        </p:nvCxnSpPr>
        <p:spPr>
          <a:xfrm flipV="1">
            <a:off x="2037960" y="1928520"/>
            <a:ext cx="3196440" cy="1080000"/>
          </a:xfrm>
          <a:prstGeom prst="straightConnector1">
            <a:avLst/>
          </a:prstGeom>
          <a:ln w="34920">
            <a:solidFill>
              <a:srgbClr val="f9f5e1"/>
            </a:solidFill>
            <a:miter/>
            <a:tailEnd len="med" type="triangle" w="med"/>
          </a:ln>
        </p:spPr>
      </p:cxnSp>
      <p:cxnSp>
        <p:nvCxnSpPr>
          <p:cNvPr id="2175" name=""/>
          <p:cNvCxnSpPr>
            <a:stCxn id="2151" idx="11"/>
            <a:endCxn id="2150" idx="11"/>
          </p:cNvCxnSpPr>
          <p:nvPr/>
        </p:nvCxnSpPr>
        <p:spPr>
          <a:xfrm flipH="1">
            <a:off x="2037600" y="2144880"/>
            <a:ext cx="3196440" cy="1080000"/>
          </a:xfrm>
          <a:prstGeom prst="straightConnector1">
            <a:avLst/>
          </a:prstGeom>
          <a:ln w="34920">
            <a:solidFill>
              <a:srgbClr val="f9f5e1"/>
            </a:solidFill>
            <a:miter/>
            <a:tailEnd len="med" type="triangle" w="med"/>
          </a:ln>
        </p:spPr>
      </p:cxnSp>
      <p:sp>
        <p:nvSpPr>
          <p:cNvPr id="2176" name=""/>
          <p:cNvSpPr/>
          <p:nvPr/>
        </p:nvSpPr>
        <p:spPr>
          <a:xfrm>
            <a:off x="902880" y="2441520"/>
            <a:ext cx="119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Dual stack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node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911160" y="3882960"/>
            <a:ext cx="237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4. Configure tunnel 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Interface and establish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the tunnel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178" name=""/>
          <p:cNvCxnSpPr>
            <a:stCxn id="2150" idx="12"/>
          </p:cNvCxnSpPr>
          <p:nvPr/>
        </p:nvCxnSpPr>
        <p:spPr>
          <a:xfrm>
            <a:off x="2037960" y="3223800"/>
            <a:ext cx="3110760" cy="10440"/>
          </a:xfrm>
          <a:prstGeom prst="straightConnector1">
            <a:avLst/>
          </a:prstGeom>
          <a:ln w="41400">
            <a:solidFill>
              <a:srgbClr val="ffff99"/>
            </a:solidFill>
            <a:miter/>
          </a:ln>
        </p:spPr>
      </p:cxnSp>
      <p:cxnSp>
        <p:nvCxnSpPr>
          <p:cNvPr id="2179" name=""/>
          <p:cNvCxnSpPr>
            <a:endCxn id="2158" idx="2"/>
          </p:cNvCxnSpPr>
          <p:nvPr/>
        </p:nvCxnSpPr>
        <p:spPr>
          <a:xfrm>
            <a:off x="2038320" y="3402000"/>
            <a:ext cx="3116880" cy="45360"/>
          </a:xfrm>
          <a:prstGeom prst="straightConnector1">
            <a:avLst/>
          </a:prstGeom>
          <a:ln w="41400">
            <a:solidFill>
              <a:srgbClr val="ffff99"/>
            </a:solidFill>
            <a:miter/>
          </a:ln>
        </p:spPr>
      </p:cxnSp>
      <p:sp>
        <p:nvSpPr>
          <p:cNvPr id="2180" name="Cloud"/>
          <p:cNvSpPr/>
          <p:nvPr/>
        </p:nvSpPr>
        <p:spPr>
          <a:xfrm>
            <a:off x="2771640" y="2324160"/>
            <a:ext cx="1656000" cy="1565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25592"/>
                </a:solidFill>
                <a:latin typeface="Arial"/>
              </a:rPr>
              <a:t>IPv4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181" name=""/>
          <p:cNvCxnSpPr>
            <a:stCxn id="2159" idx="6"/>
            <a:endCxn id="2171" idx="4"/>
          </p:cNvCxnSpPr>
          <p:nvPr/>
        </p:nvCxnSpPr>
        <p:spPr>
          <a:xfrm flipV="1">
            <a:off x="5876640" y="3055320"/>
            <a:ext cx="716760" cy="216360"/>
          </a:xfrm>
          <a:prstGeom prst="straightConnector1">
            <a:avLst/>
          </a:prstGeom>
          <a:ln w="34920">
            <a:solidFill>
              <a:srgbClr val="f9f5e1"/>
            </a:solidFill>
            <a:miter/>
            <a:tailEnd len="med" type="triangle" w="med"/>
          </a:ln>
        </p:spPr>
      </p:cxnSp>
      <p:cxnSp>
        <p:nvCxnSpPr>
          <p:cNvPr id="2182" name=""/>
          <p:cNvCxnSpPr>
            <a:stCxn id="2151" idx="12"/>
            <a:endCxn id="2159" idx="0"/>
          </p:cNvCxnSpPr>
          <p:nvPr/>
        </p:nvCxnSpPr>
        <p:spPr>
          <a:xfrm>
            <a:off x="5473440" y="2730600"/>
            <a:ext cx="43560" cy="383040"/>
          </a:xfrm>
          <a:prstGeom prst="straightConnector1">
            <a:avLst/>
          </a:prstGeom>
          <a:ln w="34920">
            <a:solidFill>
              <a:srgbClr val="f9f5e1"/>
            </a:solidFill>
            <a:miter/>
            <a:tailEnd len="med" type="triangle" w="med"/>
          </a:ln>
        </p:spPr>
      </p:cxnSp>
      <p:sp>
        <p:nvSpPr>
          <p:cNvPr id="2183" name=""/>
          <p:cNvSpPr/>
          <p:nvPr/>
        </p:nvSpPr>
        <p:spPr>
          <a:xfrm>
            <a:off x="4508280" y="4314960"/>
            <a:ext cx="278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3. TB configures the tunnel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On the dual stack router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5222520" y="3666960"/>
            <a:ext cx="119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Dual stack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828360" y="31622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5729400" y="186696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Tunnel Broker (TB)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900000" y="5146560"/>
            <a:ext cx="74678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TB is an external system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Free TB services are availabl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8" dur="indefinite" restart="never" nodeType="tmRoot">
          <p:childTnLst>
            <p:seq>
              <p:cTn id="2169" dur="indefinite" nodeType="mainSeq">
                <p:childTnLst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omatic tunneling – 6to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46748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6 packet encapsulated in an IPv4 head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Destination routers will decapsulate the packets and send IPv6 packets to destination IPv6 hos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190" name="computr2"/>
          <p:cNvSpPr/>
          <p:nvPr/>
        </p:nvSpPr>
        <p:spPr>
          <a:xfrm>
            <a:off x="1187280" y="4013280"/>
            <a:ext cx="792360" cy="801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91" name="computr2"/>
          <p:cNvSpPr/>
          <p:nvPr/>
        </p:nvSpPr>
        <p:spPr>
          <a:xfrm>
            <a:off x="7812000" y="4013280"/>
            <a:ext cx="792360" cy="801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2910600" y="468648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Add 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4 Header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87840" y="370368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Encapsulation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35280" y="4479840"/>
            <a:ext cx="1296720" cy="0"/>
          </a:xfrm>
          <a:prstGeom prst="line">
            <a:avLst/>
          </a:prstGeom>
          <a:ln w="25560">
            <a:solidFill>
              <a:srgbClr val="f9f5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1835280" y="366696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6 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3851280" y="4518000"/>
            <a:ext cx="2016000" cy="0"/>
          </a:xfrm>
          <a:prstGeom prst="line">
            <a:avLst/>
          </a:prstGeom>
          <a:ln w="25560">
            <a:solidFill>
              <a:srgbClr val="f9f5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4284720" y="370692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4 network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588000" y="4518000"/>
            <a:ext cx="1368720" cy="0"/>
          </a:xfrm>
          <a:prstGeom prst="line">
            <a:avLst/>
          </a:prstGeom>
          <a:ln w="25560">
            <a:solidFill>
              <a:srgbClr val="f9f5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659640" y="36482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6 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5651640" y="3652920"/>
            <a:ext cx="139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Decapsulation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5478480" y="4734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Eliminate 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4 Header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1042920" y="329400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6 Host X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667640" y="322092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6 Host Y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193920" y="329400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6 to 4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 </a:t>
            </a: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router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205" name=""/>
          <p:cNvGrpSpPr/>
          <p:nvPr/>
        </p:nvGrpSpPr>
        <p:grpSpPr>
          <a:xfrm>
            <a:off x="3146400" y="4316400"/>
            <a:ext cx="743400" cy="371160"/>
            <a:chOff x="3146400" y="4316400"/>
            <a:chExt cx="743400" cy="371160"/>
          </a:xfrm>
        </p:grpSpPr>
        <p:grpSp>
          <p:nvGrpSpPr>
            <p:cNvPr id="2206" name=""/>
            <p:cNvGrpSpPr/>
            <p:nvPr/>
          </p:nvGrpSpPr>
          <p:grpSpPr>
            <a:xfrm>
              <a:off x="3162600" y="4329720"/>
              <a:ext cx="727200" cy="357840"/>
              <a:chOff x="3162600" y="4329720"/>
              <a:chExt cx="727200" cy="357840"/>
            </a:xfrm>
          </p:grpSpPr>
          <p:sp>
            <p:nvSpPr>
              <p:cNvPr id="2207" name=""/>
              <p:cNvSpPr/>
              <p:nvPr/>
            </p:nvSpPr>
            <p:spPr>
              <a:xfrm>
                <a:off x="3162600" y="4446720"/>
                <a:ext cx="727200" cy="130680"/>
              </a:xfrm>
              <a:custGeom>
                <a:avLst/>
                <a:gdLst/>
                <a:ahLst/>
                <a:rect l="l" t="t" r="r" b="b"/>
                <a:pathLst>
                  <a:path w="232" h="37">
                    <a:moveTo>
                      <a:pt x="0" y="0"/>
                    </a:moveTo>
                    <a:lnTo>
                      <a:pt x="231" y="0"/>
                    </a:lnTo>
                    <a:lnTo>
                      <a:pt x="231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3168000" y="445716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3168000" y="432972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2210" name=""/>
            <p:cNvSpPr/>
            <p:nvPr/>
          </p:nvSpPr>
          <p:spPr>
            <a:xfrm>
              <a:off x="3146400" y="4429800"/>
              <a:ext cx="731160" cy="127800"/>
            </a:xfrm>
            <a:custGeom>
              <a:avLst/>
              <a:gdLst/>
              <a:ahLst/>
              <a:rect l="l" t="t" r="r" b="b"/>
              <a:pathLst>
                <a:path w="233" h="36">
                  <a:moveTo>
                    <a:pt x="0" y="0"/>
                  </a:moveTo>
                  <a:lnTo>
                    <a:pt x="232" y="0"/>
                  </a:lnTo>
                  <a:lnTo>
                    <a:pt x="232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152520" y="4440240"/>
              <a:ext cx="721800" cy="230760"/>
            </a:xfrm>
            <a:prstGeom prst="ellipse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152520" y="4316400"/>
              <a:ext cx="721800" cy="22680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2213" name=""/>
            <p:cNvGrpSpPr/>
            <p:nvPr/>
          </p:nvGrpSpPr>
          <p:grpSpPr>
            <a:xfrm>
              <a:off x="3287880" y="4344480"/>
              <a:ext cx="456840" cy="168840"/>
              <a:chOff x="3287880" y="4344480"/>
              <a:chExt cx="456840" cy="168840"/>
            </a:xfrm>
          </p:grpSpPr>
          <p:grpSp>
            <p:nvGrpSpPr>
              <p:cNvPr id="2214" name=""/>
              <p:cNvGrpSpPr/>
              <p:nvPr/>
            </p:nvGrpSpPr>
            <p:grpSpPr>
              <a:xfrm>
                <a:off x="3287880" y="4344480"/>
                <a:ext cx="456840" cy="168840"/>
                <a:chOff x="3287880" y="4344480"/>
                <a:chExt cx="456840" cy="168840"/>
              </a:xfrm>
            </p:grpSpPr>
            <p:sp>
              <p:nvSpPr>
                <p:cNvPr id="2215" name=""/>
                <p:cNvSpPr/>
                <p:nvPr/>
              </p:nvSpPr>
              <p:spPr>
                <a:xfrm>
                  <a:off x="3287880" y="434448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3287880" y="434448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3528360" y="445356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3528360" y="445356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9" name=""/>
              <p:cNvGrpSpPr/>
              <p:nvPr/>
            </p:nvGrpSpPr>
            <p:grpSpPr>
              <a:xfrm>
                <a:off x="3303360" y="4344480"/>
                <a:ext cx="425520" cy="168840"/>
                <a:chOff x="3303360" y="4344480"/>
                <a:chExt cx="425520" cy="168840"/>
              </a:xfrm>
            </p:grpSpPr>
            <p:sp>
              <p:nvSpPr>
                <p:cNvPr id="2220" name=""/>
                <p:cNvSpPr/>
                <p:nvPr/>
              </p:nvSpPr>
              <p:spPr>
                <a:xfrm>
                  <a:off x="3512520" y="434448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3512520" y="434448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3303360" y="443916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3303360" y="443916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24" name=""/>
          <p:cNvGrpSpPr/>
          <p:nvPr/>
        </p:nvGrpSpPr>
        <p:grpSpPr>
          <a:xfrm>
            <a:off x="5867280" y="4330800"/>
            <a:ext cx="743400" cy="371160"/>
            <a:chOff x="5867280" y="4330800"/>
            <a:chExt cx="743400" cy="371160"/>
          </a:xfrm>
        </p:grpSpPr>
        <p:grpSp>
          <p:nvGrpSpPr>
            <p:cNvPr id="2225" name=""/>
            <p:cNvGrpSpPr/>
            <p:nvPr/>
          </p:nvGrpSpPr>
          <p:grpSpPr>
            <a:xfrm>
              <a:off x="5883480" y="4344120"/>
              <a:ext cx="727200" cy="357840"/>
              <a:chOff x="5883480" y="4344120"/>
              <a:chExt cx="727200" cy="357840"/>
            </a:xfrm>
          </p:grpSpPr>
          <p:sp>
            <p:nvSpPr>
              <p:cNvPr id="2226" name=""/>
              <p:cNvSpPr/>
              <p:nvPr/>
            </p:nvSpPr>
            <p:spPr>
              <a:xfrm>
                <a:off x="5883480" y="4461120"/>
                <a:ext cx="727200" cy="130680"/>
              </a:xfrm>
              <a:custGeom>
                <a:avLst/>
                <a:gdLst/>
                <a:ahLst/>
                <a:rect l="l" t="t" r="r" b="b"/>
                <a:pathLst>
                  <a:path w="232" h="37">
                    <a:moveTo>
                      <a:pt x="0" y="0"/>
                    </a:moveTo>
                    <a:lnTo>
                      <a:pt x="231" y="0"/>
                    </a:lnTo>
                    <a:lnTo>
                      <a:pt x="231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5888880" y="447156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888880" y="434412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2229" name=""/>
            <p:cNvSpPr/>
            <p:nvPr/>
          </p:nvSpPr>
          <p:spPr>
            <a:xfrm>
              <a:off x="5867280" y="4444200"/>
              <a:ext cx="731160" cy="127800"/>
            </a:xfrm>
            <a:custGeom>
              <a:avLst/>
              <a:gdLst/>
              <a:ahLst/>
              <a:rect l="l" t="t" r="r" b="b"/>
              <a:pathLst>
                <a:path w="233" h="36">
                  <a:moveTo>
                    <a:pt x="0" y="0"/>
                  </a:moveTo>
                  <a:lnTo>
                    <a:pt x="232" y="0"/>
                  </a:lnTo>
                  <a:lnTo>
                    <a:pt x="232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873400" y="4454640"/>
              <a:ext cx="721800" cy="230760"/>
            </a:xfrm>
            <a:prstGeom prst="ellipse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873400" y="4330800"/>
              <a:ext cx="721800" cy="22680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2232" name=""/>
            <p:cNvGrpSpPr/>
            <p:nvPr/>
          </p:nvGrpSpPr>
          <p:grpSpPr>
            <a:xfrm>
              <a:off x="6008760" y="4358880"/>
              <a:ext cx="456840" cy="168840"/>
              <a:chOff x="6008760" y="4358880"/>
              <a:chExt cx="456840" cy="168840"/>
            </a:xfrm>
          </p:grpSpPr>
          <p:grpSp>
            <p:nvGrpSpPr>
              <p:cNvPr id="2233" name=""/>
              <p:cNvGrpSpPr/>
              <p:nvPr/>
            </p:nvGrpSpPr>
            <p:grpSpPr>
              <a:xfrm>
                <a:off x="6008760" y="4358880"/>
                <a:ext cx="456840" cy="168840"/>
                <a:chOff x="6008760" y="4358880"/>
                <a:chExt cx="456840" cy="168840"/>
              </a:xfrm>
            </p:grpSpPr>
            <p:sp>
              <p:nvSpPr>
                <p:cNvPr id="2234" name=""/>
                <p:cNvSpPr/>
                <p:nvPr/>
              </p:nvSpPr>
              <p:spPr>
                <a:xfrm>
                  <a:off x="6008760" y="435888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6008760" y="435888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6249240" y="446796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6249240" y="446796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8" name=""/>
              <p:cNvGrpSpPr/>
              <p:nvPr/>
            </p:nvGrpSpPr>
            <p:grpSpPr>
              <a:xfrm>
                <a:off x="6024240" y="4358880"/>
                <a:ext cx="425520" cy="168840"/>
                <a:chOff x="6024240" y="4358880"/>
                <a:chExt cx="425520" cy="168840"/>
              </a:xfrm>
            </p:grpSpPr>
            <p:sp>
              <p:nvSpPr>
                <p:cNvPr id="2239" name=""/>
                <p:cNvSpPr/>
                <p:nvPr/>
              </p:nvSpPr>
              <p:spPr>
                <a:xfrm>
                  <a:off x="6233400" y="435888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6233400" y="435888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6024240" y="445356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6024240" y="445356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43" name=""/>
          <p:cNvSpPr/>
          <p:nvPr/>
        </p:nvSpPr>
        <p:spPr>
          <a:xfrm>
            <a:off x="1631880" y="5549760"/>
            <a:ext cx="711360" cy="435240"/>
          </a:xfrm>
          <a:prstGeom prst="rect">
            <a:avLst/>
          </a:prstGeom>
          <a:solidFill>
            <a:srgbClr val="cc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3333cc"/>
                </a:solidFill>
                <a:latin typeface="Arial"/>
              </a:rPr>
              <a:t>IPv6 data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905040" y="5549760"/>
            <a:ext cx="711000" cy="435240"/>
          </a:xfrm>
          <a:prstGeom prst="rect">
            <a:avLst/>
          </a:prstGeom>
          <a:solidFill>
            <a:srgbClr val="cc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3333cc"/>
                </a:solidFill>
                <a:latin typeface="Arial"/>
              </a:rPr>
              <a:t>IPv6 header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2459160" y="5549760"/>
            <a:ext cx="711000" cy="4352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3333cc"/>
                </a:solidFill>
                <a:latin typeface="Arial"/>
              </a:rPr>
              <a:t>IPv4 header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4756320" y="5549760"/>
            <a:ext cx="711000" cy="4352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3333cc"/>
                </a:solidFill>
                <a:latin typeface="Arial"/>
              </a:rPr>
              <a:t>IPv4 header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6207120" y="5549760"/>
            <a:ext cx="711360" cy="435240"/>
          </a:xfrm>
          <a:prstGeom prst="rect">
            <a:avLst/>
          </a:prstGeom>
          <a:solidFill>
            <a:srgbClr val="cc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3333cc"/>
                </a:solidFill>
                <a:latin typeface="Arial"/>
              </a:rPr>
              <a:t>IPv6 data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5479920" y="5549760"/>
            <a:ext cx="711360" cy="435240"/>
          </a:xfrm>
          <a:prstGeom prst="rect">
            <a:avLst/>
          </a:prstGeom>
          <a:solidFill>
            <a:srgbClr val="cc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3333cc"/>
                </a:solidFill>
                <a:latin typeface="Arial"/>
              </a:rPr>
              <a:t>IPv6 header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3908520" y="5549760"/>
            <a:ext cx="711000" cy="435240"/>
          </a:xfrm>
          <a:prstGeom prst="rect">
            <a:avLst/>
          </a:prstGeom>
          <a:solidFill>
            <a:srgbClr val="cc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3333cc"/>
                </a:solidFill>
                <a:latin typeface="Arial"/>
              </a:rPr>
              <a:t>IPv6 data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181320" y="5549760"/>
            <a:ext cx="711360" cy="435240"/>
          </a:xfrm>
          <a:prstGeom prst="rect">
            <a:avLst/>
          </a:prstGeom>
          <a:solidFill>
            <a:srgbClr val="cc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3333cc"/>
                </a:solidFill>
                <a:latin typeface="Arial"/>
              </a:rPr>
              <a:t>IPv6 header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51" name="Cloud"/>
          <p:cNvSpPr/>
          <p:nvPr/>
        </p:nvSpPr>
        <p:spPr>
          <a:xfrm>
            <a:off x="4356000" y="4229280"/>
            <a:ext cx="936720" cy="6285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25592"/>
                </a:solidFill>
                <a:latin typeface="Arial"/>
              </a:rPr>
              <a:t>IPv4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52" name="Cloud"/>
          <p:cNvSpPr/>
          <p:nvPr/>
        </p:nvSpPr>
        <p:spPr>
          <a:xfrm>
            <a:off x="6732720" y="4229280"/>
            <a:ext cx="920520" cy="6174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25592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53" name="Cloud"/>
          <p:cNvSpPr/>
          <p:nvPr/>
        </p:nvSpPr>
        <p:spPr>
          <a:xfrm>
            <a:off x="1941480" y="4191120"/>
            <a:ext cx="920880" cy="6174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25592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5941800" y="32749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6 to 4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 </a:t>
            </a: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router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6" dur="indefinite" restart="never" nodeType="tmRoot">
          <p:childTnLst>
            <p:seq>
              <p:cTn id="2207" dur="indefinite" nodeType="mainSeq">
                <p:childTnLst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17" dur="2000" fill="hold"/>
                                        <p:tgtEl>
                                          <p:spTgt spid="2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19" dur="2000" fill="hold"/>
                                        <p:tgtEl>
                                          <p:spTgt spid="2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37" dur="2000" fill="hold"/>
                                        <p:tgtEl>
                                          <p:spTgt spid="2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39" dur="2000" fill="hold"/>
                                        <p:tgtEl>
                                          <p:spTgt spid="2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41" dur="2000" fill="hold"/>
                                        <p:tgtEl>
                                          <p:spTgt spid="2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0185 L 0.23906 0.00185 E">
                                      <p:cBhvr>
                                        <p:cTn id="2263" dur="2000" fill="hold"/>
                                        <p:tgtEl>
                                          <p:spTgt spid="2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0185 L 0.24861 0.00185 E">
                                      <p:cBhvr>
                                        <p:cTn id="2265" dur="2000" fill="hold"/>
                                        <p:tgtEl>
                                          <p:spTgt spid="2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omatic tunneling – 6to4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computr2"/>
          <p:cNvSpPr/>
          <p:nvPr/>
        </p:nvSpPr>
        <p:spPr>
          <a:xfrm>
            <a:off x="1054080" y="2146320"/>
            <a:ext cx="792360" cy="801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57" name="computr2"/>
          <p:cNvSpPr/>
          <p:nvPr/>
        </p:nvSpPr>
        <p:spPr>
          <a:xfrm>
            <a:off x="7678800" y="2146320"/>
            <a:ext cx="792000" cy="801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2777400" y="281952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Add 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4 Header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2654280" y="183672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Encapsulation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701720" y="2612880"/>
            <a:ext cx="1297080" cy="0"/>
          </a:xfrm>
          <a:prstGeom prst="line">
            <a:avLst/>
          </a:prstGeom>
          <a:ln w="25560">
            <a:solidFill>
              <a:srgbClr val="f9f5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701720" y="180036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6 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4151160" y="183996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4 network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454800" y="2651040"/>
            <a:ext cx="1368360" cy="0"/>
          </a:xfrm>
          <a:prstGeom prst="line">
            <a:avLst/>
          </a:prstGeom>
          <a:ln w="25560">
            <a:solidFill>
              <a:srgbClr val="f9f5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6526080" y="178128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6 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5518080" y="1785960"/>
            <a:ext cx="13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Decapsulation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45280" y="2867040"/>
            <a:ext cx="158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Eliminate 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4 Header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1073160" y="139536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6 Host X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7534440" y="135396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6 Host Y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060720" y="142704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6 to 4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 </a:t>
            </a: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router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3013200" y="2449440"/>
            <a:ext cx="743400" cy="371160"/>
            <a:chOff x="3013200" y="2449440"/>
            <a:chExt cx="743400" cy="371160"/>
          </a:xfrm>
        </p:grpSpPr>
        <p:grpSp>
          <p:nvGrpSpPr>
            <p:cNvPr id="2271" name=""/>
            <p:cNvGrpSpPr/>
            <p:nvPr/>
          </p:nvGrpSpPr>
          <p:grpSpPr>
            <a:xfrm>
              <a:off x="3029400" y="2462760"/>
              <a:ext cx="727200" cy="357840"/>
              <a:chOff x="3029400" y="2462760"/>
              <a:chExt cx="727200" cy="357840"/>
            </a:xfrm>
          </p:grpSpPr>
          <p:sp>
            <p:nvSpPr>
              <p:cNvPr id="2272" name=""/>
              <p:cNvSpPr/>
              <p:nvPr/>
            </p:nvSpPr>
            <p:spPr>
              <a:xfrm>
                <a:off x="3029400" y="2579760"/>
                <a:ext cx="727200" cy="130680"/>
              </a:xfrm>
              <a:custGeom>
                <a:avLst/>
                <a:gdLst/>
                <a:ahLst/>
                <a:rect l="l" t="t" r="r" b="b"/>
                <a:pathLst>
                  <a:path w="232" h="37">
                    <a:moveTo>
                      <a:pt x="0" y="0"/>
                    </a:moveTo>
                    <a:lnTo>
                      <a:pt x="231" y="0"/>
                    </a:lnTo>
                    <a:lnTo>
                      <a:pt x="231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3034800" y="259020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3034800" y="246276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2275" name=""/>
            <p:cNvSpPr/>
            <p:nvPr/>
          </p:nvSpPr>
          <p:spPr>
            <a:xfrm>
              <a:off x="3013200" y="2562840"/>
              <a:ext cx="731160" cy="127800"/>
            </a:xfrm>
            <a:custGeom>
              <a:avLst/>
              <a:gdLst/>
              <a:ahLst/>
              <a:rect l="l" t="t" r="r" b="b"/>
              <a:pathLst>
                <a:path w="233" h="36">
                  <a:moveTo>
                    <a:pt x="0" y="0"/>
                  </a:moveTo>
                  <a:lnTo>
                    <a:pt x="232" y="0"/>
                  </a:lnTo>
                  <a:lnTo>
                    <a:pt x="232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019320" y="2573280"/>
              <a:ext cx="721800" cy="230760"/>
            </a:xfrm>
            <a:prstGeom prst="ellipse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019320" y="2449440"/>
              <a:ext cx="721800" cy="22680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2278" name=""/>
            <p:cNvGrpSpPr/>
            <p:nvPr/>
          </p:nvGrpSpPr>
          <p:grpSpPr>
            <a:xfrm>
              <a:off x="3154680" y="2477520"/>
              <a:ext cx="456840" cy="168840"/>
              <a:chOff x="3154680" y="2477520"/>
              <a:chExt cx="456840" cy="168840"/>
            </a:xfrm>
          </p:grpSpPr>
          <p:grpSp>
            <p:nvGrpSpPr>
              <p:cNvPr id="2279" name=""/>
              <p:cNvGrpSpPr/>
              <p:nvPr/>
            </p:nvGrpSpPr>
            <p:grpSpPr>
              <a:xfrm>
                <a:off x="3154680" y="2477520"/>
                <a:ext cx="456840" cy="168840"/>
                <a:chOff x="3154680" y="2477520"/>
                <a:chExt cx="456840" cy="168840"/>
              </a:xfrm>
            </p:grpSpPr>
            <p:sp>
              <p:nvSpPr>
                <p:cNvPr id="2280" name=""/>
                <p:cNvSpPr/>
                <p:nvPr/>
              </p:nvSpPr>
              <p:spPr>
                <a:xfrm>
                  <a:off x="3154680" y="247752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3154680" y="247752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3395160" y="258660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3395160" y="258660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4" name=""/>
              <p:cNvGrpSpPr/>
              <p:nvPr/>
            </p:nvGrpSpPr>
            <p:grpSpPr>
              <a:xfrm>
                <a:off x="3170160" y="2477520"/>
                <a:ext cx="425520" cy="168840"/>
                <a:chOff x="3170160" y="2477520"/>
                <a:chExt cx="425520" cy="168840"/>
              </a:xfrm>
            </p:grpSpPr>
            <p:sp>
              <p:nvSpPr>
                <p:cNvPr id="2285" name=""/>
                <p:cNvSpPr/>
                <p:nvPr/>
              </p:nvSpPr>
              <p:spPr>
                <a:xfrm>
                  <a:off x="3379320" y="247752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3379320" y="247752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3170160" y="257220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3170160" y="257220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89" name=""/>
          <p:cNvGrpSpPr/>
          <p:nvPr/>
        </p:nvGrpSpPr>
        <p:grpSpPr>
          <a:xfrm>
            <a:off x="5734080" y="2463840"/>
            <a:ext cx="743400" cy="371160"/>
            <a:chOff x="5734080" y="2463840"/>
            <a:chExt cx="743400" cy="371160"/>
          </a:xfrm>
        </p:grpSpPr>
        <p:grpSp>
          <p:nvGrpSpPr>
            <p:cNvPr id="2290" name=""/>
            <p:cNvGrpSpPr/>
            <p:nvPr/>
          </p:nvGrpSpPr>
          <p:grpSpPr>
            <a:xfrm>
              <a:off x="5750280" y="2477160"/>
              <a:ext cx="727200" cy="357840"/>
              <a:chOff x="5750280" y="2477160"/>
              <a:chExt cx="727200" cy="357840"/>
            </a:xfrm>
          </p:grpSpPr>
          <p:sp>
            <p:nvSpPr>
              <p:cNvPr id="2291" name=""/>
              <p:cNvSpPr/>
              <p:nvPr/>
            </p:nvSpPr>
            <p:spPr>
              <a:xfrm>
                <a:off x="5750280" y="2594160"/>
                <a:ext cx="727200" cy="130680"/>
              </a:xfrm>
              <a:custGeom>
                <a:avLst/>
                <a:gdLst/>
                <a:ahLst/>
                <a:rect l="l" t="t" r="r" b="b"/>
                <a:pathLst>
                  <a:path w="232" h="37">
                    <a:moveTo>
                      <a:pt x="0" y="0"/>
                    </a:moveTo>
                    <a:lnTo>
                      <a:pt x="231" y="0"/>
                    </a:lnTo>
                    <a:lnTo>
                      <a:pt x="231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5755680" y="260460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5755680" y="247716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2294" name=""/>
            <p:cNvSpPr/>
            <p:nvPr/>
          </p:nvSpPr>
          <p:spPr>
            <a:xfrm>
              <a:off x="5734080" y="2577240"/>
              <a:ext cx="731160" cy="127800"/>
            </a:xfrm>
            <a:custGeom>
              <a:avLst/>
              <a:gdLst/>
              <a:ahLst/>
              <a:rect l="l" t="t" r="r" b="b"/>
              <a:pathLst>
                <a:path w="233" h="36">
                  <a:moveTo>
                    <a:pt x="0" y="0"/>
                  </a:moveTo>
                  <a:lnTo>
                    <a:pt x="232" y="0"/>
                  </a:lnTo>
                  <a:lnTo>
                    <a:pt x="232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740200" y="2587680"/>
              <a:ext cx="721800" cy="230760"/>
            </a:xfrm>
            <a:prstGeom prst="ellipse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740200" y="2463840"/>
              <a:ext cx="721800" cy="22680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2297" name=""/>
            <p:cNvGrpSpPr/>
            <p:nvPr/>
          </p:nvGrpSpPr>
          <p:grpSpPr>
            <a:xfrm>
              <a:off x="5875560" y="2491920"/>
              <a:ext cx="456840" cy="168840"/>
              <a:chOff x="5875560" y="2491920"/>
              <a:chExt cx="456840" cy="168840"/>
            </a:xfrm>
          </p:grpSpPr>
          <p:grpSp>
            <p:nvGrpSpPr>
              <p:cNvPr id="2298" name=""/>
              <p:cNvGrpSpPr/>
              <p:nvPr/>
            </p:nvGrpSpPr>
            <p:grpSpPr>
              <a:xfrm>
                <a:off x="5875560" y="2491920"/>
                <a:ext cx="456840" cy="168840"/>
                <a:chOff x="5875560" y="2491920"/>
                <a:chExt cx="456840" cy="168840"/>
              </a:xfrm>
            </p:grpSpPr>
            <p:sp>
              <p:nvSpPr>
                <p:cNvPr id="2299" name=""/>
                <p:cNvSpPr/>
                <p:nvPr/>
              </p:nvSpPr>
              <p:spPr>
                <a:xfrm>
                  <a:off x="5875560" y="249192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5875560" y="249192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6116040" y="260100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6116040" y="260100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3" name=""/>
              <p:cNvGrpSpPr/>
              <p:nvPr/>
            </p:nvGrpSpPr>
            <p:grpSpPr>
              <a:xfrm>
                <a:off x="5891040" y="2491920"/>
                <a:ext cx="425520" cy="168840"/>
                <a:chOff x="5891040" y="2491920"/>
                <a:chExt cx="425520" cy="168840"/>
              </a:xfrm>
            </p:grpSpPr>
            <p:sp>
              <p:nvSpPr>
                <p:cNvPr id="2304" name=""/>
                <p:cNvSpPr/>
                <p:nvPr/>
              </p:nvSpPr>
              <p:spPr>
                <a:xfrm>
                  <a:off x="6100200" y="249192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6100200" y="249192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5891040" y="258660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5891040" y="258660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08" name="Cloud"/>
          <p:cNvSpPr/>
          <p:nvPr/>
        </p:nvSpPr>
        <p:spPr>
          <a:xfrm>
            <a:off x="6599160" y="2362320"/>
            <a:ext cx="920880" cy="6174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25592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09" name="Cloud"/>
          <p:cNvSpPr/>
          <p:nvPr/>
        </p:nvSpPr>
        <p:spPr>
          <a:xfrm>
            <a:off x="1808280" y="2324160"/>
            <a:ext cx="920520" cy="6174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25592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5808600" y="140796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6 to 4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 </a:t>
            </a: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router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3007800" y="3633840"/>
            <a:ext cx="1364760" cy="337320"/>
          </a:xfrm>
          <a:prstGeom prst="rect">
            <a:avLst/>
          </a:prstGeom>
          <a:noFill/>
          <a:ln w="3492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192.168.10.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4879440" y="3633840"/>
            <a:ext cx="1364760" cy="337320"/>
          </a:xfrm>
          <a:prstGeom prst="rect">
            <a:avLst/>
          </a:prstGeom>
          <a:noFill/>
          <a:ln w="3492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192.168.50.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313" name=""/>
          <p:cNvCxnSpPr>
            <a:stCxn id="2311" idx="3"/>
            <a:endCxn id="2273" idx="6"/>
          </p:cNvCxnSpPr>
          <p:nvPr/>
        </p:nvCxnSpPr>
        <p:spPr>
          <a:xfrm flipH="1" flipV="1">
            <a:off x="3753720" y="2707560"/>
            <a:ext cx="656280" cy="1112040"/>
          </a:xfrm>
          <a:prstGeom prst="straightConnector1">
            <a:avLst/>
          </a:prstGeom>
          <a:ln w="34920">
            <a:solidFill>
              <a:srgbClr val="f9f5e1"/>
            </a:solidFill>
            <a:miter/>
            <a:tailEnd len="med" type="triangle" w="med"/>
          </a:ln>
        </p:spPr>
      </p:cxnSp>
      <p:cxnSp>
        <p:nvCxnSpPr>
          <p:cNvPr id="2314" name=""/>
          <p:cNvCxnSpPr>
            <a:stCxn id="2312" idx="1"/>
          </p:cNvCxnSpPr>
          <p:nvPr/>
        </p:nvCxnSpPr>
        <p:spPr>
          <a:xfrm flipV="1">
            <a:off x="4841640" y="2781360"/>
            <a:ext cx="883080" cy="1038600"/>
          </a:xfrm>
          <a:prstGeom prst="straightConnector1">
            <a:avLst/>
          </a:prstGeom>
          <a:ln w="34920">
            <a:solidFill>
              <a:srgbClr val="f9f5e1"/>
            </a:solidFill>
            <a:miter/>
            <a:tailEnd len="med" type="triangle" w="med"/>
          </a:ln>
        </p:spPr>
      </p:cxnSp>
      <p:cxnSp>
        <p:nvCxnSpPr>
          <p:cNvPr id="2315" name=""/>
          <p:cNvCxnSpPr>
            <a:stCxn id="2274" idx="6"/>
            <a:endCxn id="2294" idx="0"/>
          </p:cNvCxnSpPr>
          <p:nvPr/>
        </p:nvCxnSpPr>
        <p:spPr>
          <a:xfrm flipV="1">
            <a:off x="3754080" y="2577240"/>
            <a:ext cx="1980360" cy="2520"/>
          </a:xfrm>
          <a:prstGeom prst="straightConnector1">
            <a:avLst/>
          </a:prstGeom>
          <a:ln w="41400">
            <a:solidFill>
              <a:srgbClr val="ffff99"/>
            </a:solidFill>
            <a:miter/>
          </a:ln>
        </p:spPr>
      </p:cxnSp>
      <p:cxnSp>
        <p:nvCxnSpPr>
          <p:cNvPr id="2316" name=""/>
          <p:cNvCxnSpPr>
            <a:stCxn id="2276" idx="6"/>
          </p:cNvCxnSpPr>
          <p:nvPr/>
        </p:nvCxnSpPr>
        <p:spPr>
          <a:xfrm>
            <a:off x="3741480" y="2688840"/>
            <a:ext cx="1983240" cy="19800"/>
          </a:xfrm>
          <a:prstGeom prst="straightConnector1">
            <a:avLst/>
          </a:prstGeom>
          <a:ln w="41400">
            <a:solidFill>
              <a:srgbClr val="ffff99"/>
            </a:solidFill>
            <a:miter/>
          </a:ln>
        </p:spPr>
      </p:cxnSp>
      <p:sp>
        <p:nvSpPr>
          <p:cNvPr id="2317" name="Cloud"/>
          <p:cNvSpPr/>
          <p:nvPr/>
        </p:nvSpPr>
        <p:spPr>
          <a:xfrm>
            <a:off x="4222800" y="2362320"/>
            <a:ext cx="936720" cy="6285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25592"/>
                </a:solidFill>
                <a:latin typeface="Arial"/>
              </a:rPr>
              <a:t>IPv4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852120" y="4210200"/>
            <a:ext cx="3823200" cy="337320"/>
          </a:xfrm>
          <a:prstGeom prst="rect">
            <a:avLst/>
          </a:prstGeom>
          <a:noFill/>
          <a:ln w="3492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Network prefix = 2002:C0A8:0A01::/48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884480" y="4210200"/>
            <a:ext cx="3789720" cy="337320"/>
          </a:xfrm>
          <a:prstGeom prst="rect">
            <a:avLst/>
          </a:prstGeom>
          <a:noFill/>
          <a:ln w="3492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Network prefix = 2002:C0A8:3201::/48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858960" y="5157720"/>
            <a:ext cx="1081080" cy="432000"/>
          </a:xfrm>
          <a:prstGeom prst="rect">
            <a:avLst/>
          </a:prstGeom>
          <a:solidFill>
            <a:srgbClr val="ccffcc"/>
          </a:solidFill>
          <a:ln w="3492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25592"/>
                </a:solidFill>
                <a:latin typeface="Arial"/>
              </a:rPr>
              <a:t>2002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1940040" y="5157720"/>
            <a:ext cx="2158920" cy="432000"/>
          </a:xfrm>
          <a:prstGeom prst="rect">
            <a:avLst/>
          </a:prstGeom>
          <a:solidFill>
            <a:srgbClr val="ffff99"/>
          </a:solidFill>
          <a:ln w="3492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25592"/>
                </a:solidFill>
                <a:latin typeface="Arial"/>
              </a:rPr>
              <a:t>Public IPv4 address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1725840" y="5721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/16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100400" y="5157720"/>
            <a:ext cx="1081080" cy="432000"/>
          </a:xfrm>
          <a:prstGeom prst="rect">
            <a:avLst/>
          </a:prstGeom>
          <a:solidFill>
            <a:srgbClr val="ffcc99"/>
          </a:solidFill>
          <a:ln w="3492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325592"/>
                </a:solidFill>
                <a:latin typeface="Arial"/>
              </a:rPr>
              <a:t>Subnet 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325592"/>
                </a:solidFill>
                <a:latin typeface="Arial"/>
              </a:rPr>
              <a:t>assignment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742200" y="5721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/48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966200" y="5721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/64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180040" y="5157720"/>
            <a:ext cx="3713040" cy="432000"/>
          </a:xfrm>
          <a:prstGeom prst="rect">
            <a:avLst/>
          </a:prstGeom>
          <a:solidFill>
            <a:srgbClr val="ccffff"/>
          </a:solidFill>
          <a:ln w="3492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25592"/>
                </a:solidFill>
                <a:latin typeface="Arial"/>
              </a:rPr>
              <a:t>Interface ID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327" name=""/>
          <p:cNvCxnSpPr>
            <a:stCxn id="2318" idx="0"/>
            <a:endCxn id="2309" idx="4"/>
          </p:cNvCxnSpPr>
          <p:nvPr/>
        </p:nvCxnSpPr>
        <p:spPr>
          <a:xfrm flipH="1" flipV="1">
            <a:off x="2268000" y="2940840"/>
            <a:ext cx="496080" cy="1251720"/>
          </a:xfrm>
          <a:prstGeom prst="straightConnector1">
            <a:avLst/>
          </a:prstGeom>
          <a:ln w="34920">
            <a:solidFill>
              <a:srgbClr val="f9f5e1"/>
            </a:solidFill>
            <a:miter/>
            <a:tailEnd len="med" type="triangle" w="med"/>
          </a:ln>
        </p:spPr>
      </p:cxnSp>
      <p:cxnSp>
        <p:nvCxnSpPr>
          <p:cNvPr id="2328" name=""/>
          <p:cNvCxnSpPr>
            <a:stCxn id="2319" idx="0"/>
            <a:endCxn id="2308" idx="4"/>
          </p:cNvCxnSpPr>
          <p:nvPr/>
        </p:nvCxnSpPr>
        <p:spPr>
          <a:xfrm flipV="1">
            <a:off x="6780240" y="2979000"/>
            <a:ext cx="280080" cy="1213560"/>
          </a:xfrm>
          <a:prstGeom prst="straightConnector1">
            <a:avLst/>
          </a:prstGeom>
          <a:ln w="34920">
            <a:solidFill>
              <a:srgbClr val="f9f5e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6" dur="indefinite" restart="never" nodeType="tmRoot">
          <p:childTnLst>
            <p:seq>
              <p:cTn id="2267" dur="indefinite" nodeType="mainSeq">
                <p:childTnLst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omatic tunneling – 6to4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7812000" y="692280"/>
            <a:ext cx="797040" cy="814320"/>
          </a:xfrm>
          <a:prstGeom prst="flowChartMultidocumen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RFC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3056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7158240" y="3351240"/>
            <a:ext cx="198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2002:C0A8:3201::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1959120" y="3843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061800" y="336708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192.168.10.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4861800" y="335592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192.168.50.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335" name=""/>
          <p:cNvCxnSpPr>
            <a:stCxn id="2334" idx="0"/>
          </p:cNvCxnSpPr>
          <p:nvPr/>
        </p:nvCxnSpPr>
        <p:spPr>
          <a:xfrm flipV="1">
            <a:off x="5545080" y="3079080"/>
            <a:ext cx="180000" cy="276840"/>
          </a:xfrm>
          <a:prstGeom prst="straightConnector1">
            <a:avLst/>
          </a:prstGeom>
          <a:ln w="34920">
            <a:solidFill>
              <a:srgbClr val="f9f5e1"/>
            </a:solidFill>
            <a:miter/>
            <a:tailEnd len="med" type="triangle" w="med"/>
          </a:ln>
        </p:spPr>
      </p:cxnSp>
      <p:sp>
        <p:nvSpPr>
          <p:cNvPr id="2336" name=""/>
          <p:cNvSpPr/>
          <p:nvPr/>
        </p:nvSpPr>
        <p:spPr>
          <a:xfrm>
            <a:off x="1692360" y="4230720"/>
            <a:ext cx="711000" cy="434880"/>
          </a:xfrm>
          <a:prstGeom prst="rect">
            <a:avLst/>
          </a:prstGeom>
          <a:solidFill>
            <a:srgbClr val="cc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3333cc"/>
                </a:solidFill>
                <a:latin typeface="Arial"/>
              </a:rPr>
              <a:t>IPv6 data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965160" y="4230720"/>
            <a:ext cx="711360" cy="434880"/>
          </a:xfrm>
          <a:prstGeom prst="rect">
            <a:avLst/>
          </a:prstGeom>
          <a:solidFill>
            <a:srgbClr val="cc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3333cc"/>
                </a:solidFill>
                <a:latin typeface="Arial"/>
              </a:rPr>
              <a:t>IPv6 header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830160" y="4951440"/>
            <a:ext cx="227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S=2002:C0A8:0A01::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D=2002:C0A8:3201::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39" name="computr2"/>
          <p:cNvSpPr/>
          <p:nvPr/>
        </p:nvSpPr>
        <p:spPr>
          <a:xfrm>
            <a:off x="1054080" y="2440080"/>
            <a:ext cx="792360" cy="801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40" name="computr2"/>
          <p:cNvSpPr/>
          <p:nvPr/>
        </p:nvSpPr>
        <p:spPr>
          <a:xfrm>
            <a:off x="7678800" y="2440080"/>
            <a:ext cx="792000" cy="801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2654280" y="216864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Encapsulation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701720" y="2944800"/>
            <a:ext cx="1297080" cy="0"/>
          </a:xfrm>
          <a:prstGeom prst="line">
            <a:avLst/>
          </a:prstGeom>
          <a:ln w="25560">
            <a:solidFill>
              <a:srgbClr val="f9f5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1701720" y="213192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6 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4151160" y="217188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4 network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6454800" y="2982960"/>
            <a:ext cx="1368360" cy="0"/>
          </a:xfrm>
          <a:prstGeom prst="line">
            <a:avLst/>
          </a:prstGeom>
          <a:ln w="25560">
            <a:solidFill>
              <a:srgbClr val="f9f5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6526080" y="211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6 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518080" y="2117880"/>
            <a:ext cx="13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Decapsulation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1073160" y="172728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6 Host X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7534440" y="168588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6 Host Y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3060720" y="175896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6 to 4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 </a:t>
            </a: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router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351" name=""/>
          <p:cNvGrpSpPr/>
          <p:nvPr/>
        </p:nvGrpSpPr>
        <p:grpSpPr>
          <a:xfrm>
            <a:off x="3013200" y="2781360"/>
            <a:ext cx="743400" cy="371160"/>
            <a:chOff x="3013200" y="2781360"/>
            <a:chExt cx="743400" cy="371160"/>
          </a:xfrm>
        </p:grpSpPr>
        <p:grpSp>
          <p:nvGrpSpPr>
            <p:cNvPr id="2352" name=""/>
            <p:cNvGrpSpPr/>
            <p:nvPr/>
          </p:nvGrpSpPr>
          <p:grpSpPr>
            <a:xfrm>
              <a:off x="3029400" y="2794680"/>
              <a:ext cx="727200" cy="357840"/>
              <a:chOff x="3029400" y="2794680"/>
              <a:chExt cx="727200" cy="357840"/>
            </a:xfrm>
          </p:grpSpPr>
          <p:sp>
            <p:nvSpPr>
              <p:cNvPr id="2353" name=""/>
              <p:cNvSpPr/>
              <p:nvPr/>
            </p:nvSpPr>
            <p:spPr>
              <a:xfrm>
                <a:off x="3029400" y="2911680"/>
                <a:ext cx="727200" cy="130680"/>
              </a:xfrm>
              <a:custGeom>
                <a:avLst/>
                <a:gdLst/>
                <a:ahLst/>
                <a:rect l="l" t="t" r="r" b="b"/>
                <a:pathLst>
                  <a:path w="232" h="37">
                    <a:moveTo>
                      <a:pt x="0" y="0"/>
                    </a:moveTo>
                    <a:lnTo>
                      <a:pt x="231" y="0"/>
                    </a:lnTo>
                    <a:lnTo>
                      <a:pt x="231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034800" y="292212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034800" y="279468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2356" name=""/>
            <p:cNvSpPr/>
            <p:nvPr/>
          </p:nvSpPr>
          <p:spPr>
            <a:xfrm>
              <a:off x="3013200" y="2894760"/>
              <a:ext cx="731160" cy="127800"/>
            </a:xfrm>
            <a:custGeom>
              <a:avLst/>
              <a:gdLst/>
              <a:ahLst/>
              <a:rect l="l" t="t" r="r" b="b"/>
              <a:pathLst>
                <a:path w="233" h="36">
                  <a:moveTo>
                    <a:pt x="0" y="0"/>
                  </a:moveTo>
                  <a:lnTo>
                    <a:pt x="232" y="0"/>
                  </a:lnTo>
                  <a:lnTo>
                    <a:pt x="232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19320" y="2905200"/>
              <a:ext cx="721800" cy="230760"/>
            </a:xfrm>
            <a:prstGeom prst="ellipse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3019320" y="2781360"/>
              <a:ext cx="721800" cy="22680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2359" name=""/>
            <p:cNvGrpSpPr/>
            <p:nvPr/>
          </p:nvGrpSpPr>
          <p:grpSpPr>
            <a:xfrm>
              <a:off x="3154680" y="2809440"/>
              <a:ext cx="456840" cy="168840"/>
              <a:chOff x="3154680" y="2809440"/>
              <a:chExt cx="456840" cy="168840"/>
            </a:xfrm>
          </p:grpSpPr>
          <p:grpSp>
            <p:nvGrpSpPr>
              <p:cNvPr id="2360" name=""/>
              <p:cNvGrpSpPr/>
              <p:nvPr/>
            </p:nvGrpSpPr>
            <p:grpSpPr>
              <a:xfrm>
                <a:off x="3154680" y="2809440"/>
                <a:ext cx="456840" cy="168840"/>
                <a:chOff x="3154680" y="2809440"/>
                <a:chExt cx="456840" cy="168840"/>
              </a:xfrm>
            </p:grpSpPr>
            <p:sp>
              <p:nvSpPr>
                <p:cNvPr id="2361" name=""/>
                <p:cNvSpPr/>
                <p:nvPr/>
              </p:nvSpPr>
              <p:spPr>
                <a:xfrm>
                  <a:off x="3154680" y="280944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3154680" y="280944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3395160" y="291852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3395160" y="291852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5" name=""/>
              <p:cNvGrpSpPr/>
              <p:nvPr/>
            </p:nvGrpSpPr>
            <p:grpSpPr>
              <a:xfrm>
                <a:off x="3170160" y="2809440"/>
                <a:ext cx="425520" cy="168840"/>
                <a:chOff x="3170160" y="2809440"/>
                <a:chExt cx="425520" cy="168840"/>
              </a:xfrm>
            </p:grpSpPr>
            <p:sp>
              <p:nvSpPr>
                <p:cNvPr id="2366" name=""/>
                <p:cNvSpPr/>
                <p:nvPr/>
              </p:nvSpPr>
              <p:spPr>
                <a:xfrm>
                  <a:off x="3379320" y="280944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3379320" y="280944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3170160" y="290412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3170160" y="290412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70" name=""/>
          <p:cNvGrpSpPr/>
          <p:nvPr/>
        </p:nvGrpSpPr>
        <p:grpSpPr>
          <a:xfrm>
            <a:off x="5734080" y="2795760"/>
            <a:ext cx="743400" cy="371160"/>
            <a:chOff x="5734080" y="2795760"/>
            <a:chExt cx="743400" cy="371160"/>
          </a:xfrm>
        </p:grpSpPr>
        <p:grpSp>
          <p:nvGrpSpPr>
            <p:cNvPr id="2371" name=""/>
            <p:cNvGrpSpPr/>
            <p:nvPr/>
          </p:nvGrpSpPr>
          <p:grpSpPr>
            <a:xfrm>
              <a:off x="5750280" y="2809080"/>
              <a:ext cx="727200" cy="357840"/>
              <a:chOff x="5750280" y="2809080"/>
              <a:chExt cx="727200" cy="357840"/>
            </a:xfrm>
          </p:grpSpPr>
          <p:sp>
            <p:nvSpPr>
              <p:cNvPr id="2372" name=""/>
              <p:cNvSpPr/>
              <p:nvPr/>
            </p:nvSpPr>
            <p:spPr>
              <a:xfrm>
                <a:off x="5750280" y="2926080"/>
                <a:ext cx="727200" cy="130680"/>
              </a:xfrm>
              <a:custGeom>
                <a:avLst/>
                <a:gdLst/>
                <a:ahLst/>
                <a:rect l="l" t="t" r="r" b="b"/>
                <a:pathLst>
                  <a:path w="232" h="37">
                    <a:moveTo>
                      <a:pt x="0" y="0"/>
                    </a:moveTo>
                    <a:lnTo>
                      <a:pt x="231" y="0"/>
                    </a:lnTo>
                    <a:lnTo>
                      <a:pt x="231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5755680" y="293652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5755680" y="2809080"/>
                <a:ext cx="717840" cy="23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2375" name=""/>
            <p:cNvSpPr/>
            <p:nvPr/>
          </p:nvSpPr>
          <p:spPr>
            <a:xfrm>
              <a:off x="5734080" y="2909160"/>
              <a:ext cx="731160" cy="127800"/>
            </a:xfrm>
            <a:custGeom>
              <a:avLst/>
              <a:gdLst/>
              <a:ahLst/>
              <a:rect l="l" t="t" r="r" b="b"/>
              <a:pathLst>
                <a:path w="233" h="36">
                  <a:moveTo>
                    <a:pt x="0" y="0"/>
                  </a:moveTo>
                  <a:lnTo>
                    <a:pt x="232" y="0"/>
                  </a:lnTo>
                  <a:lnTo>
                    <a:pt x="232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740200" y="2919600"/>
              <a:ext cx="721800" cy="230760"/>
            </a:xfrm>
            <a:prstGeom prst="ellipse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740200" y="2795760"/>
              <a:ext cx="721800" cy="22680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2378" name=""/>
            <p:cNvGrpSpPr/>
            <p:nvPr/>
          </p:nvGrpSpPr>
          <p:grpSpPr>
            <a:xfrm>
              <a:off x="5875560" y="2823840"/>
              <a:ext cx="456840" cy="168840"/>
              <a:chOff x="5875560" y="2823840"/>
              <a:chExt cx="456840" cy="168840"/>
            </a:xfrm>
          </p:grpSpPr>
          <p:grpSp>
            <p:nvGrpSpPr>
              <p:cNvPr id="2379" name=""/>
              <p:cNvGrpSpPr/>
              <p:nvPr/>
            </p:nvGrpSpPr>
            <p:grpSpPr>
              <a:xfrm>
                <a:off x="5875560" y="2823840"/>
                <a:ext cx="456840" cy="168840"/>
                <a:chOff x="5875560" y="2823840"/>
                <a:chExt cx="456840" cy="168840"/>
              </a:xfrm>
            </p:grpSpPr>
            <p:sp>
              <p:nvSpPr>
                <p:cNvPr id="2380" name=""/>
                <p:cNvSpPr/>
                <p:nvPr/>
              </p:nvSpPr>
              <p:spPr>
                <a:xfrm>
                  <a:off x="5875560" y="282384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5875560" y="2823840"/>
                  <a:ext cx="209160" cy="702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6116040" y="293292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6116040" y="2932920"/>
                  <a:ext cx="216360" cy="597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4" name=""/>
              <p:cNvGrpSpPr/>
              <p:nvPr/>
            </p:nvGrpSpPr>
            <p:grpSpPr>
              <a:xfrm>
                <a:off x="5891040" y="2823840"/>
                <a:ext cx="425520" cy="168840"/>
                <a:chOff x="5891040" y="2823840"/>
                <a:chExt cx="425520" cy="168840"/>
              </a:xfrm>
            </p:grpSpPr>
            <p:sp>
              <p:nvSpPr>
                <p:cNvPr id="2385" name=""/>
                <p:cNvSpPr/>
                <p:nvPr/>
              </p:nvSpPr>
              <p:spPr>
                <a:xfrm>
                  <a:off x="6100200" y="282384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6100200" y="2823840"/>
                  <a:ext cx="216360" cy="702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5891040" y="291852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5891040" y="2918520"/>
                  <a:ext cx="206280" cy="7416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89" name="Cloud"/>
          <p:cNvSpPr/>
          <p:nvPr/>
        </p:nvSpPr>
        <p:spPr>
          <a:xfrm>
            <a:off x="6599160" y="2655720"/>
            <a:ext cx="920880" cy="61776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25592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90" name="Cloud"/>
          <p:cNvSpPr/>
          <p:nvPr/>
        </p:nvSpPr>
        <p:spPr>
          <a:xfrm>
            <a:off x="1808280" y="2655720"/>
            <a:ext cx="920520" cy="61776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25592"/>
                </a:solidFill>
                <a:latin typeface="Arial"/>
              </a:rPr>
              <a:t>IPv6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5808600" y="173988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6 to 4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 </a:t>
            </a:r>
            <a:r>
              <a:rPr b="1" lang="en-US" sz="1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router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392" name=""/>
          <p:cNvCxnSpPr>
            <a:stCxn id="2355" idx="6"/>
            <a:endCxn id="2375" idx="0"/>
          </p:cNvCxnSpPr>
          <p:nvPr/>
        </p:nvCxnSpPr>
        <p:spPr>
          <a:xfrm flipV="1">
            <a:off x="3754080" y="2909520"/>
            <a:ext cx="1980360" cy="2160"/>
          </a:xfrm>
          <a:prstGeom prst="straightConnector1">
            <a:avLst/>
          </a:prstGeom>
          <a:ln w="41400">
            <a:solidFill>
              <a:srgbClr val="ffff99"/>
            </a:solidFill>
            <a:miter/>
          </a:ln>
        </p:spPr>
      </p:cxnSp>
      <p:cxnSp>
        <p:nvCxnSpPr>
          <p:cNvPr id="2393" name=""/>
          <p:cNvCxnSpPr>
            <a:stCxn id="2357" idx="6"/>
          </p:cNvCxnSpPr>
          <p:nvPr/>
        </p:nvCxnSpPr>
        <p:spPr>
          <a:xfrm>
            <a:off x="3741480" y="3020760"/>
            <a:ext cx="1983240" cy="19800"/>
          </a:xfrm>
          <a:prstGeom prst="straightConnector1">
            <a:avLst/>
          </a:prstGeom>
          <a:ln w="41400">
            <a:solidFill>
              <a:srgbClr val="ffff99"/>
            </a:solidFill>
            <a:miter/>
          </a:ln>
        </p:spPr>
      </p:cxnSp>
      <p:sp>
        <p:nvSpPr>
          <p:cNvPr id="2394" name="Cloud"/>
          <p:cNvSpPr/>
          <p:nvPr/>
        </p:nvSpPr>
        <p:spPr>
          <a:xfrm>
            <a:off x="4222800" y="2655720"/>
            <a:ext cx="936720" cy="6289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25592"/>
                </a:solidFill>
                <a:latin typeface="Arial"/>
              </a:rPr>
              <a:t>IPv4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395" name=""/>
          <p:cNvCxnSpPr>
            <a:stCxn id="2333" idx="0"/>
            <a:endCxn id="2354" idx="5"/>
          </p:cNvCxnSpPr>
          <p:nvPr/>
        </p:nvCxnSpPr>
        <p:spPr>
          <a:xfrm flipH="1" flipV="1">
            <a:off x="3648960" y="3120480"/>
            <a:ext cx="96120" cy="246600"/>
          </a:xfrm>
          <a:prstGeom prst="straightConnector1">
            <a:avLst/>
          </a:prstGeom>
          <a:ln w="34920">
            <a:solidFill>
              <a:srgbClr val="f9f5e1"/>
            </a:solidFill>
            <a:miter/>
            <a:tailEnd len="med" type="triangle" w="med"/>
          </a:ln>
        </p:spPr>
      </p:cxnSp>
      <p:sp>
        <p:nvSpPr>
          <p:cNvPr id="2396" name=""/>
          <p:cNvSpPr/>
          <p:nvPr/>
        </p:nvSpPr>
        <p:spPr>
          <a:xfrm>
            <a:off x="3699000" y="4235400"/>
            <a:ext cx="711000" cy="4348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3333cc"/>
                </a:solidFill>
                <a:latin typeface="Arial"/>
              </a:rPr>
              <a:t>IPv4 header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5148360" y="4235400"/>
            <a:ext cx="711000" cy="434880"/>
          </a:xfrm>
          <a:prstGeom prst="rect">
            <a:avLst/>
          </a:prstGeom>
          <a:solidFill>
            <a:srgbClr val="cc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3333cc"/>
                </a:solidFill>
                <a:latin typeface="Arial"/>
              </a:rPr>
              <a:t>IPv6 data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4421160" y="4235400"/>
            <a:ext cx="711360" cy="434880"/>
          </a:xfrm>
          <a:prstGeom prst="rect">
            <a:avLst/>
          </a:prstGeom>
          <a:solidFill>
            <a:srgbClr val="cc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3333cc"/>
                </a:solidFill>
                <a:latin typeface="Arial"/>
              </a:rPr>
              <a:t>IPv6 header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639960" y="4951440"/>
            <a:ext cx="2686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S (v4)=192.168.10.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D (v4)=192.168.50.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S (v6)=2002:C0A8:0A01::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D (v6)=2002:C0A8:3201::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7451640" y="4230720"/>
            <a:ext cx="711360" cy="434880"/>
          </a:xfrm>
          <a:prstGeom prst="rect">
            <a:avLst/>
          </a:prstGeom>
          <a:solidFill>
            <a:srgbClr val="cc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3333cc"/>
                </a:solidFill>
                <a:latin typeface="Arial"/>
              </a:rPr>
              <a:t>IPv6 data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724800" y="4230720"/>
            <a:ext cx="711000" cy="434880"/>
          </a:xfrm>
          <a:prstGeom prst="rect">
            <a:avLst/>
          </a:prstGeom>
          <a:solidFill>
            <a:srgbClr val="cc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3333cc"/>
                </a:solidFill>
                <a:latin typeface="Arial"/>
              </a:rPr>
              <a:t>IPv6 header</a:t>
            </a: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589440" y="4951440"/>
            <a:ext cx="227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S=2002:C0A8:0A01::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D=2002:C0A8:3201::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403" name=""/>
          <p:cNvCxnSpPr>
            <a:stCxn id="2336" idx="0"/>
            <a:endCxn id="2390" idx="4"/>
          </p:cNvCxnSpPr>
          <p:nvPr/>
        </p:nvCxnSpPr>
        <p:spPr>
          <a:xfrm flipV="1">
            <a:off x="2048040" y="3272760"/>
            <a:ext cx="221040" cy="957960"/>
          </a:xfrm>
          <a:prstGeom prst="straightConnector1">
            <a:avLst/>
          </a:prstGeom>
          <a:ln w="34920">
            <a:solidFill>
              <a:srgbClr val="f9f5e1"/>
            </a:solidFill>
            <a:miter/>
            <a:tailEnd len="med" type="triangle" w="med"/>
          </a:ln>
        </p:spPr>
      </p:cxnSp>
      <p:sp>
        <p:nvSpPr>
          <p:cNvPr id="2404" name=""/>
          <p:cNvSpPr/>
          <p:nvPr/>
        </p:nvSpPr>
        <p:spPr>
          <a:xfrm>
            <a:off x="614520" y="336708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9f5e1"/>
                </a:solidFill>
                <a:latin typeface="Arial"/>
              </a:rPr>
              <a:t>2002:C0A8:0A01::1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405" name=""/>
          <p:cNvCxnSpPr>
            <a:stCxn id="2398" idx="0"/>
            <a:endCxn id="2394" idx="4"/>
          </p:cNvCxnSpPr>
          <p:nvPr/>
        </p:nvCxnSpPr>
        <p:spPr>
          <a:xfrm flipH="1" flipV="1">
            <a:off x="4690800" y="3283920"/>
            <a:ext cx="86400" cy="951480"/>
          </a:xfrm>
          <a:prstGeom prst="straightConnector1">
            <a:avLst/>
          </a:prstGeom>
          <a:ln w="34920">
            <a:solidFill>
              <a:srgbClr val="f9f5e1"/>
            </a:solidFill>
            <a:miter/>
            <a:tailEnd len="med" type="triangle" w="med"/>
          </a:ln>
        </p:spPr>
      </p:cxnSp>
      <p:cxnSp>
        <p:nvCxnSpPr>
          <p:cNvPr id="2406" name=""/>
          <p:cNvCxnSpPr>
            <a:stCxn id="2401" idx="0"/>
            <a:endCxn id="2389" idx="4"/>
          </p:cNvCxnSpPr>
          <p:nvPr/>
        </p:nvCxnSpPr>
        <p:spPr>
          <a:xfrm flipH="1" flipV="1">
            <a:off x="7059240" y="3272760"/>
            <a:ext cx="20880" cy="957960"/>
          </a:xfrm>
          <a:prstGeom prst="straightConnector1">
            <a:avLst/>
          </a:prstGeom>
          <a:ln w="34920">
            <a:solidFill>
              <a:srgbClr val="f9f5e1"/>
            </a:solidFill>
            <a:miter/>
            <a:tailEnd len="med" type="triangle" w="med"/>
          </a:ln>
        </p:spPr>
      </p:cxnSp>
      <p:sp>
        <p:nvSpPr>
          <p:cNvPr id="2407" name=""/>
          <p:cNvSpPr/>
          <p:nvPr/>
        </p:nvSpPr>
        <p:spPr>
          <a:xfrm>
            <a:off x="3879000" y="6553080"/>
            <a:ext cx="52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9f5e1"/>
                </a:solidFill>
                <a:latin typeface="Arial"/>
              </a:rPr>
              <a:t>Concept is borrowed from Cisco training material “IPv6 Seminar”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4" dur="indefinite" restart="never" nodeType="tmRoot">
          <p:childTnLst>
            <p:seq>
              <p:cTn id="2305" dur="indefinite" nodeType="mainSeq">
                <p:childTnLst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address policy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a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fficient address usag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void wasteful practic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ggreg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Hierarchical distribu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ggregation of routing informa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Limiting n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umber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 of routing entries advertised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inimise overhea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ssociated with obtaining address spac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gistration, Uniqueness, Fairness &amp; consistenc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Same as IPv4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 of APNIC poli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efinition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nvironment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llocation &amp; Assignment Polici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4000" y="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ies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dressing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uctu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1143000" y="2209680"/>
            <a:ext cx="7315200" cy="762120"/>
          </a:xfrm>
          <a:prstGeom prst="rect">
            <a:avLst/>
          </a:prstGeom>
          <a:solidFill>
            <a:srgbClr val="f9f5e1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143000" y="2971800"/>
            <a:ext cx="0" cy="1523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3809880" y="2971800"/>
            <a:ext cx="0" cy="2209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2895480" y="2971800"/>
            <a:ext cx="0" cy="1523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4724280" y="2971800"/>
            <a:ext cx="0" cy="3124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068840" y="1674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8308440" y="16765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27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1143000" y="3733920"/>
            <a:ext cx="1963800" cy="1513440"/>
            <a:chOff x="1143000" y="3733920"/>
            <a:chExt cx="1963800" cy="1513440"/>
          </a:xfrm>
        </p:grpSpPr>
        <p:sp>
          <p:nvSpPr>
            <p:cNvPr id="2419" name=""/>
            <p:cNvSpPr/>
            <p:nvPr/>
          </p:nvSpPr>
          <p:spPr>
            <a:xfrm>
              <a:off x="2516040" y="4543560"/>
              <a:ext cx="590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R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/32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143000" y="4114800"/>
              <a:ext cx="1752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1678680" y="37339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2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422" name=""/>
          <p:cNvSpPr/>
          <p:nvPr/>
        </p:nvSpPr>
        <p:spPr>
          <a:xfrm>
            <a:off x="8458200" y="2971800"/>
            <a:ext cx="0" cy="3124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3965040" y="15238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28 bits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424" name=""/>
          <p:cNvGrpSpPr/>
          <p:nvPr/>
        </p:nvGrpSpPr>
        <p:grpSpPr>
          <a:xfrm>
            <a:off x="2895480" y="3733920"/>
            <a:ext cx="1769400" cy="2090160"/>
            <a:chOff x="2895480" y="3733920"/>
            <a:chExt cx="1769400" cy="2090160"/>
          </a:xfrm>
        </p:grpSpPr>
        <p:sp>
          <p:nvSpPr>
            <p:cNvPr id="2425" name=""/>
            <p:cNvSpPr/>
            <p:nvPr/>
          </p:nvSpPr>
          <p:spPr>
            <a:xfrm>
              <a:off x="3354840" y="5181480"/>
              <a:ext cx="13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ustomer 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te /48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895480" y="4114800"/>
              <a:ext cx="9144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050280" y="37339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6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428" name=""/>
          <p:cNvGrpSpPr/>
          <p:nvPr/>
        </p:nvGrpSpPr>
        <p:grpSpPr>
          <a:xfrm>
            <a:off x="3809880" y="3733920"/>
            <a:ext cx="2024280" cy="2803320"/>
            <a:chOff x="3809880" y="3733920"/>
            <a:chExt cx="2024280" cy="2803320"/>
          </a:xfrm>
        </p:grpSpPr>
        <p:sp>
          <p:nvSpPr>
            <p:cNvPr id="2429" name=""/>
            <p:cNvSpPr/>
            <p:nvPr/>
          </p:nvSpPr>
          <p:spPr>
            <a:xfrm>
              <a:off x="4496760" y="6168960"/>
              <a:ext cx="133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net /64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809880" y="4114800"/>
              <a:ext cx="9144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4041000" y="37339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6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432" name=""/>
          <p:cNvSpPr/>
          <p:nvPr/>
        </p:nvSpPr>
        <p:spPr>
          <a:xfrm>
            <a:off x="1143000" y="2209680"/>
            <a:ext cx="7315200" cy="762120"/>
          </a:xfrm>
          <a:prstGeom prst="rect">
            <a:avLst/>
          </a:prstGeom>
          <a:solidFill>
            <a:srgbClr val="00ff00"/>
          </a:solidFill>
          <a:ln w="3168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2895480" y="2209680"/>
            <a:ext cx="5562720" cy="762120"/>
          </a:xfrm>
          <a:prstGeom prst="rect">
            <a:avLst/>
          </a:prstGeom>
          <a:solidFill>
            <a:srgbClr val="99cc00"/>
          </a:solidFill>
          <a:ln w="3168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3809880" y="2209680"/>
            <a:ext cx="4648320" cy="762120"/>
          </a:xfrm>
          <a:prstGeom prst="rect">
            <a:avLst/>
          </a:prstGeom>
          <a:solidFill>
            <a:srgbClr val="00cc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4724280" y="2209680"/>
            <a:ext cx="3733920" cy="762120"/>
          </a:xfrm>
          <a:prstGeom prst="rect">
            <a:avLst/>
          </a:prstGeom>
          <a:solidFill>
            <a:srgbClr val="0080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436" name=""/>
          <p:cNvGrpSpPr/>
          <p:nvPr/>
        </p:nvGrpSpPr>
        <p:grpSpPr>
          <a:xfrm>
            <a:off x="4724280" y="3733920"/>
            <a:ext cx="4321440" cy="2730240"/>
            <a:chOff x="4724280" y="3733920"/>
            <a:chExt cx="4321440" cy="2730240"/>
          </a:xfrm>
        </p:grpSpPr>
        <p:sp>
          <p:nvSpPr>
            <p:cNvPr id="2437" name=""/>
            <p:cNvSpPr/>
            <p:nvPr/>
          </p:nvSpPr>
          <p:spPr>
            <a:xfrm>
              <a:off x="4724280" y="4114800"/>
              <a:ext cx="37339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327000" y="37339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64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7623000" y="609588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vice /128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38" dur="indefinite" restart="never" nodeType="tmRoot">
          <p:childTnLst>
            <p:seq>
              <p:cTn id="2339" dur="indefinite" nodeType="mainSeq">
                <p:childTnLst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4" dur="5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9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4" dur="500"/>
                                        <p:tgtEl>
                                          <p:spTgt spid="2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9" dur="500"/>
                                        <p:tgtEl>
                                          <p:spTgt spid="2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itial 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o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nitial allocation criteria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P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lan to connect 200 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e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d 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s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tes within 2 yea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D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efault allocation 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(“slow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 start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nitial allocation size is /32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Provides 16 bits of site address spac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Larger initial allocations can be made if justified according to: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IPv6 network infrastructure plan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Existing IPv4 infrastructure and customer bas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1519200" y="3851280"/>
            <a:ext cx="6840720" cy="403200"/>
          </a:xfrm>
          <a:prstGeom prst="rect">
            <a:avLst/>
          </a:prstGeom>
          <a:solidFill>
            <a:srgbClr val="008000"/>
          </a:solidFill>
          <a:ln w="1260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7134840" y="392256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128 bits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444" name=""/>
          <p:cNvGrpSpPr/>
          <p:nvPr/>
        </p:nvGrpSpPr>
        <p:grpSpPr>
          <a:xfrm>
            <a:off x="1519200" y="3851280"/>
            <a:ext cx="1944720" cy="586800"/>
            <a:chOff x="1519200" y="3851280"/>
            <a:chExt cx="1944720" cy="586800"/>
          </a:xfrm>
        </p:grpSpPr>
        <p:sp>
          <p:nvSpPr>
            <p:cNvPr id="2445" name=""/>
            <p:cNvSpPr/>
            <p:nvPr/>
          </p:nvSpPr>
          <p:spPr>
            <a:xfrm>
              <a:off x="1519200" y="3851280"/>
              <a:ext cx="1944720" cy="403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9f5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670120" y="3917880"/>
              <a:ext cx="70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32 bits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1519200" y="3851280"/>
            <a:ext cx="2879640" cy="403200"/>
            <a:chOff x="1519200" y="3851280"/>
            <a:chExt cx="2879640" cy="403200"/>
          </a:xfrm>
        </p:grpSpPr>
        <p:sp>
          <p:nvSpPr>
            <p:cNvPr id="2448" name=""/>
            <p:cNvSpPr/>
            <p:nvPr/>
          </p:nvSpPr>
          <p:spPr>
            <a:xfrm>
              <a:off x="1519200" y="3851280"/>
              <a:ext cx="2879640" cy="4032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f9f5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607200" y="3917520"/>
              <a:ext cx="70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48 bits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450" name=""/>
          <p:cNvGrpSpPr/>
          <p:nvPr/>
        </p:nvGrpSpPr>
        <p:grpSpPr>
          <a:xfrm>
            <a:off x="1519200" y="3851280"/>
            <a:ext cx="2879640" cy="591480"/>
            <a:chOff x="1519200" y="3851280"/>
            <a:chExt cx="2879640" cy="591480"/>
          </a:xfrm>
        </p:grpSpPr>
        <p:grpSp>
          <p:nvGrpSpPr>
            <p:cNvPr id="2451" name=""/>
            <p:cNvGrpSpPr/>
            <p:nvPr/>
          </p:nvGrpSpPr>
          <p:grpSpPr>
            <a:xfrm>
              <a:off x="1519200" y="3851280"/>
              <a:ext cx="2879640" cy="403200"/>
              <a:chOff x="1519200" y="3851280"/>
              <a:chExt cx="2879640" cy="403200"/>
            </a:xfrm>
          </p:grpSpPr>
          <p:sp>
            <p:nvSpPr>
              <p:cNvPr id="2452" name=""/>
              <p:cNvSpPr/>
              <p:nvPr/>
            </p:nvSpPr>
            <p:spPr>
              <a:xfrm>
                <a:off x="1519200" y="3851280"/>
                <a:ext cx="2879640" cy="40320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f9f5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3607200" y="3917520"/>
                <a:ext cx="70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25592"/>
                    </a:solidFill>
                    <a:latin typeface="Arial"/>
                    <a:ea typeface="ＭＳ Ｐゴシック"/>
                  </a:rPr>
                  <a:t>48 bits</a:t>
                </a:r>
                <a:endParaRPr b="0" lang="en-US" sz="1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grpSp>
          <p:nvGrpSpPr>
            <p:cNvPr id="2454" name=""/>
            <p:cNvGrpSpPr/>
            <p:nvPr/>
          </p:nvGrpSpPr>
          <p:grpSpPr>
            <a:xfrm>
              <a:off x="1519200" y="3851280"/>
              <a:ext cx="1944720" cy="591480"/>
              <a:chOff x="1519200" y="3851280"/>
              <a:chExt cx="1944720" cy="591480"/>
            </a:xfrm>
          </p:grpSpPr>
          <p:sp>
            <p:nvSpPr>
              <p:cNvPr id="2455" name=""/>
              <p:cNvSpPr/>
              <p:nvPr/>
            </p:nvSpPr>
            <p:spPr>
              <a:xfrm>
                <a:off x="1519200" y="3851280"/>
                <a:ext cx="1944720" cy="4032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9f5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2743200" y="3922560"/>
                <a:ext cx="706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25592"/>
                    </a:solidFill>
                    <a:latin typeface="Arial"/>
                    <a:ea typeface="ＭＳ Ｐゴシック"/>
                  </a:rPr>
                  <a:t>32 bits</a:t>
                </a:r>
                <a:endParaRPr b="0" lang="en-US" sz="1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360" dur="indefinite" restart="never" nodeType="tmRoot">
          <p:childTnLst>
            <p:seq>
              <p:cTn id="2361" dur="indefinite" nodeType="mainSeq">
                <p:childTnLst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6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9" dur="500"/>
                                        <p:tgtEl>
                                          <p:spTgt spid="2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4" dur="500"/>
                                        <p:tgtEl>
                                          <p:spTgt spid="2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9" dur="500"/>
                                        <p:tgtEl>
                                          <p:spTgt spid="2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4" dur="500"/>
                                        <p:tgtEl>
                                          <p:spTgt spid="2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xample of a plan for 200 x /4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46748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9f5e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APNIC guidelines for IPv6 allocation and assignment request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9f5e1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Published on 2 July 2004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9f5e1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2"/>
              </a:rPr>
              <a:t>http://www.apnic.net/docs/policy/ipv6-guidelines.html</a:t>
            </a: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988920" y="4438800"/>
            <a:ext cx="7467840" cy="1917720"/>
          </a:xfrm>
          <a:prstGeom prst="rect">
            <a:avLst/>
          </a:prstGeom>
          <a:noFill/>
          <a:ln w="2556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/44 sub-allocation to ISP:</a:t>
            </a: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	</a:t>
            </a: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	</a:t>
            </a: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    16  /48s</a:t>
            </a:r>
            <a:endParaRPr b="0" lang="en-US" sz="2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Assignments to POPs:</a:t>
            </a: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	</a:t>
            </a: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	</a:t>
            </a: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    </a:t>
            </a: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	</a:t>
            </a: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    20  /48s</a:t>
            </a:r>
            <a:endParaRPr b="0" lang="en-US" sz="2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Assignments to end sites:  </a:t>
            </a: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	</a:t>
            </a: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	</a:t>
            </a: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  170  /48s</a:t>
            </a:r>
            <a:endParaRPr b="0" lang="en-US" sz="2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Total number of /48s:</a:t>
            </a: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	</a:t>
            </a: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	</a:t>
            </a: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  </a:t>
            </a: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	</a:t>
            </a: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   206 /48s</a:t>
            </a:r>
            <a:endParaRPr b="0" lang="en-US" sz="28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b-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oc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li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LIR to ISP allocation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Policy determined by LIR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DB registration</a:t>
            </a:r>
            <a:r>
              <a:rPr b="1" lang="en-AU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All /48 and shorter prefix allocations and assignments must be registered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sign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efault assignment /48 for all 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e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nd 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s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t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POP also defined as end sit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Providing 16 bits of space for subnets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Other assignment siz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/64 only one subnet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/128 only one device connecting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Larger assignments - Multiple /48s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Should be reviewed by RIR/NIR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Follow second opinion procedur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615564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592"/>
                </a:solidFill>
                <a:latin typeface="Arial"/>
                <a:ea typeface="ＭＳ Ｐゴシック"/>
              </a:rPr>
              <a:t>48 bits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1547640" y="2935440"/>
            <a:ext cx="6840720" cy="403200"/>
            <a:chOff x="1547640" y="2935440"/>
            <a:chExt cx="6840720" cy="403200"/>
          </a:xfrm>
        </p:grpSpPr>
        <p:sp>
          <p:nvSpPr>
            <p:cNvPr id="2466" name=""/>
            <p:cNvSpPr/>
            <p:nvPr/>
          </p:nvSpPr>
          <p:spPr>
            <a:xfrm>
              <a:off x="1547640" y="2935440"/>
              <a:ext cx="6840720" cy="4032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9f5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7452360" y="3006720"/>
              <a:ext cx="80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9f5e1"/>
                  </a:solidFill>
                  <a:latin typeface="Arial"/>
                  <a:ea typeface="ＭＳ Ｐゴシック"/>
                </a:rPr>
                <a:t>128 bits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1547640" y="2935440"/>
            <a:ext cx="3529080" cy="403200"/>
            <a:chOff x="1547640" y="2935440"/>
            <a:chExt cx="3529080" cy="403200"/>
          </a:xfrm>
        </p:grpSpPr>
        <p:sp>
          <p:nvSpPr>
            <p:cNvPr id="2469" name=""/>
            <p:cNvSpPr/>
            <p:nvPr/>
          </p:nvSpPr>
          <p:spPr>
            <a:xfrm>
              <a:off x="1547640" y="2935440"/>
              <a:ext cx="3529080" cy="4032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f9f5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284000" y="3006720"/>
              <a:ext cx="70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64 bits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1547640" y="2935440"/>
            <a:ext cx="3529080" cy="403200"/>
            <a:chOff x="1547640" y="2935440"/>
            <a:chExt cx="3529080" cy="403200"/>
          </a:xfrm>
        </p:grpSpPr>
        <p:grpSp>
          <p:nvGrpSpPr>
            <p:cNvPr id="2472" name=""/>
            <p:cNvGrpSpPr/>
            <p:nvPr/>
          </p:nvGrpSpPr>
          <p:grpSpPr>
            <a:xfrm>
              <a:off x="1547640" y="2935440"/>
              <a:ext cx="3529080" cy="403200"/>
              <a:chOff x="1547640" y="2935440"/>
              <a:chExt cx="3529080" cy="403200"/>
            </a:xfrm>
          </p:grpSpPr>
          <p:sp>
            <p:nvSpPr>
              <p:cNvPr id="2473" name=""/>
              <p:cNvSpPr/>
              <p:nvPr/>
            </p:nvSpPr>
            <p:spPr>
              <a:xfrm>
                <a:off x="1547640" y="2935440"/>
                <a:ext cx="3529080" cy="40320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f9f5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4284000" y="3006720"/>
                <a:ext cx="70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25592"/>
                    </a:solidFill>
                    <a:latin typeface="Arial"/>
                    <a:ea typeface="ＭＳ Ｐゴシック"/>
                  </a:rPr>
                  <a:t>64 bits</a:t>
                </a:r>
                <a:endParaRPr b="0" lang="en-US" sz="1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2475" name=""/>
            <p:cNvSpPr/>
            <p:nvPr/>
          </p:nvSpPr>
          <p:spPr>
            <a:xfrm>
              <a:off x="1547640" y="2935440"/>
              <a:ext cx="2448000" cy="4032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f9f5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3275640" y="3008520"/>
              <a:ext cx="70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48 bits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85" dur="indefinite" restart="never" nodeType="tmRoot">
          <p:childTnLst>
            <p:seq>
              <p:cTn id="2386" dur="indefinite" nodeType="mainSeq">
                <p:childTnLst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1" dur="500"/>
                                        <p:tgtEl>
                                          <p:spTgt spid="2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6" dur="500"/>
                                        <p:tgtEl>
                                          <p:spTgt spid="2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1" dur="500"/>
                                        <p:tgtEl>
                                          <p:spTgt spid="2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s an end sit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nd Site defined as an end user of an ISP where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 the ISP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signs address space to the end user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P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ovides Internet transit service to the end user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vertises an aggregate prefix route that contains the end user's assignment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tilisa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Utilisation determined from end site assignment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LIR responsible for registration of all /48 assignment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ntermediate allocation hierarchy not consider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Utilisation of IPv6 address space is measured differently from IPv4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lis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ubsequent allocation may be requested when IPv6 utilisation requirement is me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lis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quir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Pv6 utilisation measured according to HD-Ratio (RFC 3194):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Pv6 utilisation requirement is HD=0.80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Measured according to assignments only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E.g. ISP has assigned 10000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 (/48s)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 addresses of /32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  <p:grpSp>
        <p:nvGrpSpPr>
          <p:cNvPr id="2485" name=""/>
          <p:cNvGrpSpPr/>
          <p:nvPr/>
        </p:nvGrpSpPr>
        <p:grpSpPr>
          <a:xfrm>
            <a:off x="1403280" y="2635200"/>
            <a:ext cx="6913800" cy="792360"/>
            <a:chOff x="1403280" y="2635200"/>
            <a:chExt cx="6913800" cy="792360"/>
          </a:xfrm>
        </p:grpSpPr>
        <p:sp>
          <p:nvSpPr>
            <p:cNvPr id="2486" name=""/>
            <p:cNvSpPr/>
            <p:nvPr/>
          </p:nvSpPr>
          <p:spPr>
            <a:xfrm>
              <a:off x="1403280" y="2635200"/>
              <a:ext cx="6913800" cy="7923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477440" y="2732040"/>
              <a:ext cx="284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Utilisation</a:t>
              </a:r>
              <a:r>
                <a:rPr b="1" lang="en-US" sz="32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18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HD</a:t>
              </a:r>
              <a:r>
                <a:rPr b="0" lang="en-US" sz="32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 = </a:t>
              </a:r>
              <a:endParaRPr b="0" lang="en-US" sz="32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488" name=""/>
          <p:cNvGrpSpPr/>
          <p:nvPr/>
        </p:nvGrpSpPr>
        <p:grpSpPr>
          <a:xfrm>
            <a:off x="4350960" y="2637000"/>
            <a:ext cx="3539520" cy="832320"/>
            <a:chOff x="4350960" y="2637000"/>
            <a:chExt cx="3539520" cy="832320"/>
          </a:xfrm>
        </p:grpSpPr>
        <p:sp>
          <p:nvSpPr>
            <p:cNvPr id="2489" name=""/>
            <p:cNvSpPr/>
            <p:nvPr/>
          </p:nvSpPr>
          <p:spPr>
            <a:xfrm>
              <a:off x="4350960" y="2637000"/>
              <a:ext cx="353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log (Assigned address space)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4419360" y="3042000"/>
              <a:ext cx="3419640" cy="0"/>
            </a:xfrm>
            <a:prstGeom prst="line">
              <a:avLst/>
            </a:prstGeom>
            <a:ln w="255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364640" y="3070440"/>
              <a:ext cx="352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log (Available address space)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492" name=""/>
          <p:cNvSpPr/>
          <p:nvPr/>
        </p:nvSpPr>
        <p:spPr>
          <a:xfrm>
            <a:off x="1403280" y="5813280"/>
            <a:ext cx="691380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493" name=""/>
          <p:cNvGrpSpPr/>
          <p:nvPr/>
        </p:nvGrpSpPr>
        <p:grpSpPr>
          <a:xfrm>
            <a:off x="1398240" y="5784840"/>
            <a:ext cx="3539520" cy="832320"/>
            <a:chOff x="1398240" y="5784840"/>
            <a:chExt cx="3539520" cy="832320"/>
          </a:xfrm>
        </p:grpSpPr>
        <p:sp>
          <p:nvSpPr>
            <p:cNvPr id="2494" name=""/>
            <p:cNvSpPr/>
            <p:nvPr/>
          </p:nvSpPr>
          <p:spPr>
            <a:xfrm>
              <a:off x="1398240" y="5784840"/>
              <a:ext cx="353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log (Assigned address space)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466640" y="6189840"/>
              <a:ext cx="3419640" cy="0"/>
            </a:xfrm>
            <a:prstGeom prst="line">
              <a:avLst/>
            </a:prstGeom>
            <a:ln w="255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411920" y="6218280"/>
              <a:ext cx="352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log (Available address space)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497" name=""/>
          <p:cNvSpPr/>
          <p:nvPr/>
        </p:nvSpPr>
        <p:spPr>
          <a:xfrm>
            <a:off x="4977000" y="58644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5592"/>
                </a:solidFill>
                <a:latin typeface="Arial"/>
                <a:ea typeface="ＭＳ Ｐゴシック"/>
              </a:rPr>
              <a:t>=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498" name=""/>
          <p:cNvGrpSpPr/>
          <p:nvPr/>
        </p:nvGrpSpPr>
        <p:grpSpPr>
          <a:xfrm>
            <a:off x="5364000" y="5784840"/>
            <a:ext cx="1576080" cy="438120"/>
            <a:chOff x="5364000" y="5784840"/>
            <a:chExt cx="1576080" cy="438120"/>
          </a:xfrm>
        </p:grpSpPr>
        <p:sp>
          <p:nvSpPr>
            <p:cNvPr id="2499" name=""/>
            <p:cNvSpPr/>
            <p:nvPr/>
          </p:nvSpPr>
          <p:spPr>
            <a:xfrm>
              <a:off x="5400000" y="5784840"/>
              <a:ext cx="154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25592"/>
                  </a:solidFill>
                  <a:latin typeface="Arial"/>
                  <a:ea typeface="ＭＳ Ｐゴシック"/>
                </a:rPr>
                <a:t>log (10,000)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364000" y="6222960"/>
              <a:ext cx="1548000" cy="0"/>
            </a:xfrm>
            <a:prstGeom prst="line">
              <a:avLst/>
            </a:prstGeom>
            <a:ln w="255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501" name=""/>
          <p:cNvSpPr/>
          <p:nvPr/>
        </p:nvSpPr>
        <p:spPr>
          <a:xfrm>
            <a:off x="5406480" y="62182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5592"/>
                </a:solidFill>
                <a:latin typeface="Arial"/>
                <a:ea typeface="ＭＳ Ｐゴシック"/>
              </a:rPr>
              <a:t>log (65,536)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6950160" y="58500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5592"/>
                </a:solidFill>
                <a:latin typeface="Arial"/>
                <a:ea typeface="ＭＳ Ｐゴシック"/>
              </a:rPr>
              <a:t>=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7265880" y="590724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5592"/>
                </a:solidFill>
                <a:latin typeface="Arial"/>
                <a:ea typeface="ＭＳ Ｐゴシック"/>
              </a:rPr>
              <a:t>0.83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p:timing>
    <p:tnLst>
      <p:par>
        <p:cTn id="2402" dur="indefinite" restart="never" nodeType="tmRoot">
          <p:childTnLst>
            <p:seq>
              <p:cTn id="2403" dur="indefinite" nodeType="mainSeq">
                <p:childTnLst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8" dur="5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3" dur="500"/>
                                        <p:tgtEl>
                                          <p:spTgt spid="2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8" dur="500"/>
                                        <p:tgtEl>
                                          <p:spTgt spid="2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1" dur="500"/>
                                        <p:tgtEl>
                                          <p:spTgt spid="2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6" dur="500"/>
                                        <p:tgtEl>
                                          <p:spTgt spid="2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1" dur="5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6" dur="500"/>
                                        <p:tgtEl>
                                          <p:spTgt spid="2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9" dur="500"/>
                                        <p:tgtEl>
                                          <p:spTgt spid="2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lisati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quire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684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HD Ratio utilisation requirement of 0.80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graphicFrame>
        <p:nvGraphicFramePr>
          <p:cNvPr id="2506" name=""/>
          <p:cNvGraphicFramePr/>
          <p:nvPr/>
        </p:nvGraphicFramePr>
        <p:xfrm>
          <a:off x="826920" y="1700280"/>
          <a:ext cx="7777440" cy="3981240"/>
        </p:xfrm>
        <a:graphic>
          <a:graphicData uri="http://schemas.openxmlformats.org/drawingml/2006/table">
            <a:tbl>
              <a:tblPr/>
              <a:tblGrid>
                <a:gridCol w="835200"/>
                <a:gridCol w="1595520"/>
                <a:gridCol w="2292120"/>
                <a:gridCol w="1614600"/>
                <a:gridCol w="1440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IPv6 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136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Site Address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Bits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136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Total site address in /48s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136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Threshold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(HD ratio 0.8)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136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Utilisation %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13680">
                      <a:solidFill>
                        <a:srgbClr val="f9f5e1"/>
                      </a:solidFill>
                    </a:lnR>
                    <a:lnT w="136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42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6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64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28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136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36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12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4096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776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136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35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8192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1351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136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206"/>
                          </a:solidFill>
                          <a:latin typeface="Arial"/>
                          <a:ea typeface="ＭＳ Ｐゴシック"/>
                        </a:rPr>
                        <a:t>32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206"/>
                          </a:solidFill>
                          <a:latin typeface="Arial"/>
                          <a:ea typeface="ＭＳ Ｐゴシック"/>
                        </a:rPr>
                        <a:t>16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206"/>
                          </a:solidFill>
                          <a:latin typeface="Arial"/>
                          <a:ea typeface="ＭＳ Ｐゴシック"/>
                        </a:rPr>
                        <a:t>65536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206"/>
                          </a:solidFill>
                          <a:latin typeface="Arial"/>
                          <a:ea typeface="ＭＳ Ｐゴシック"/>
                        </a:rPr>
                        <a:t>7132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136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29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19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524288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37641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136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24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24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16777216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602249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136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16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32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4294967296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50859008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136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8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40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1099511627776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4294967296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136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2880">
                      <a:solidFill>
                        <a:srgbClr val="f9f5e1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3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136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45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136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35184372088832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136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f5e1"/>
                          </a:solidFill>
                          <a:latin typeface="Arial"/>
                          <a:ea typeface="ＭＳ Ｐゴシック"/>
                        </a:rPr>
                        <a:t>68719476736</a:t>
                      </a:r>
                      <a:endParaRPr b="0" lang="en-US" sz="18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28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13680">
                      <a:solidFill>
                        <a:srgbClr val="f9f5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9f5e1"/>
                      </a:solidFill>
                    </a:lnL>
                    <a:lnR w="13680">
                      <a:solidFill>
                        <a:srgbClr val="f9f5e1"/>
                      </a:solidFill>
                    </a:lnR>
                    <a:lnT w="2880">
                      <a:solidFill>
                        <a:srgbClr val="f9f5e1"/>
                      </a:solidFill>
                    </a:lnT>
                    <a:lnB w="13680">
                      <a:solidFill>
                        <a:srgbClr val="f9f5e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7" name=""/>
          <p:cNvSpPr/>
          <p:nvPr/>
        </p:nvSpPr>
        <p:spPr>
          <a:xfrm>
            <a:off x="7597080" y="347184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206"/>
                </a:solidFill>
                <a:latin typeface="Arial"/>
                <a:ea typeface="ＭＳ Ｐゴシック"/>
              </a:rPr>
              <a:t>10.9%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508" name=""/>
          <p:cNvGrpSpPr/>
          <p:nvPr/>
        </p:nvGrpSpPr>
        <p:grpSpPr>
          <a:xfrm>
            <a:off x="7625520" y="2378160"/>
            <a:ext cx="915840" cy="3292560"/>
            <a:chOff x="7625520" y="2378160"/>
            <a:chExt cx="915840" cy="3292560"/>
          </a:xfrm>
        </p:grpSpPr>
        <p:grpSp>
          <p:nvGrpSpPr>
            <p:cNvPr id="2509" name=""/>
            <p:cNvGrpSpPr/>
            <p:nvPr/>
          </p:nvGrpSpPr>
          <p:grpSpPr>
            <a:xfrm>
              <a:off x="7625520" y="2378160"/>
              <a:ext cx="915840" cy="2932200"/>
              <a:chOff x="7625520" y="2378160"/>
              <a:chExt cx="915840" cy="2932200"/>
            </a:xfrm>
          </p:grpSpPr>
          <p:sp>
            <p:nvSpPr>
              <p:cNvPr id="2510" name=""/>
              <p:cNvSpPr/>
              <p:nvPr/>
            </p:nvSpPr>
            <p:spPr>
              <a:xfrm>
                <a:off x="7639920" y="237816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9f5e1"/>
                    </a:solidFill>
                    <a:latin typeface="Arial"/>
                    <a:ea typeface="ＭＳ Ｐゴシック"/>
                  </a:rPr>
                  <a:t>43.5%</a:t>
                </a:r>
                <a:endParaRPr b="0" lang="en-US" sz="20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626960" y="276696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9f5e1"/>
                    </a:solidFill>
                    <a:latin typeface="Arial"/>
                    <a:ea typeface="ＭＳ Ｐゴシック"/>
                  </a:rPr>
                  <a:t>18.9%</a:t>
                </a:r>
                <a:endParaRPr b="0" lang="en-US" sz="20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625520" y="309708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9f5e1"/>
                    </a:solidFill>
                    <a:latin typeface="Arial"/>
                    <a:ea typeface="ＭＳ Ｐゴシック"/>
                  </a:rPr>
                  <a:t>16.5%</a:t>
                </a:r>
                <a:endParaRPr b="0" lang="en-US" sz="20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738560" y="3860640"/>
                <a:ext cx="759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9f5e1"/>
                    </a:solidFill>
                    <a:latin typeface="Arial"/>
                    <a:ea typeface="ＭＳ Ｐゴシック"/>
                  </a:rPr>
                  <a:t>7.2%</a:t>
                </a:r>
                <a:endParaRPr b="0" lang="en-US" sz="20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741440" y="4221000"/>
                <a:ext cx="759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9f5e1"/>
                    </a:solidFill>
                    <a:latin typeface="Arial"/>
                    <a:ea typeface="ＭＳ Ｐゴシック"/>
                  </a:rPr>
                  <a:t>3.6%</a:t>
                </a:r>
                <a:endParaRPr b="0" lang="en-US" sz="20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755840" y="4581360"/>
                <a:ext cx="759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9f5e1"/>
                    </a:solidFill>
                    <a:latin typeface="Arial"/>
                    <a:ea typeface="ＭＳ Ｐゴシック"/>
                  </a:rPr>
                  <a:t>1.2%</a:t>
                </a:r>
                <a:endParaRPr b="0" lang="en-US" sz="20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727400" y="4911480"/>
                <a:ext cx="759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9f5e1"/>
                    </a:solidFill>
                    <a:latin typeface="Arial"/>
                    <a:ea typeface="ＭＳ Ｐゴシック"/>
                  </a:rPr>
                  <a:t>0.4%</a:t>
                </a:r>
                <a:endParaRPr b="0" lang="en-US" sz="20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2517" name=""/>
            <p:cNvSpPr/>
            <p:nvPr/>
          </p:nvSpPr>
          <p:spPr>
            <a:xfrm>
              <a:off x="7725600" y="5271840"/>
              <a:ext cx="75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9f5e1"/>
                  </a:solidFill>
                  <a:latin typeface="Arial"/>
                  <a:ea typeface="ＭＳ Ｐゴシック"/>
                </a:rPr>
                <a:t>0.2%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518" name=""/>
          <p:cNvSpPr/>
          <p:nvPr/>
        </p:nvSpPr>
        <p:spPr>
          <a:xfrm>
            <a:off x="826920" y="5805360"/>
            <a:ext cx="76852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RFC 3194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“</a:t>
            </a:r>
            <a:r>
              <a:rPr b="0" lang="en-AU" sz="1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n a hierarchical address plan, as the size of the allocation increases, the density of assignments will decrease.”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0" dur="indefinite" restart="never" nodeType="tmRoot">
          <p:childTnLst>
            <p:seq>
              <p:cTn id="2441" dur="indefinite" nodeType="mainSeq">
                <p:childTnLst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6" dur="5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1" dur="500"/>
                                        <p:tgtEl>
                                          <p:spTgt spid="2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6" dur="500"/>
                                        <p:tgtEl>
                                          <p:spTgt spid="2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1" dur="500"/>
                                        <p:tgtEl>
                                          <p:spTgt spid="2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500"/>
                                        <p:tgtEl>
                                          <p:spTgt spid="2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7518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f5e1"/>
                </a:solidFill>
                <a:latin typeface="Arial"/>
              </a:rPr>
              <a:t>Presenters</a:t>
            </a:r>
            <a:endParaRPr b="0" lang="en-US" sz="4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John H’ng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raining Manager &lt;jhng@apnic.net&gt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on Tra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ember Service Manager &lt;son@apnic.net&gt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iwa Fujii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raining Officer &lt;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miwa@apnic.net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&lt;training@apnic.net&gt;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5080" y="766440"/>
            <a:ext cx="7848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ocation and Assign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95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Alloca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9f5e1"/>
                </a:solidFill>
                <a:latin typeface="Arial"/>
              </a:rPr>
              <a:t>A block of address space held by an IR (or downstream ISP) for subsequent allocation or assignment”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ot yet used to address any network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Assignmen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9f5e1"/>
                </a:solidFill>
                <a:latin typeface="Arial"/>
              </a:rPr>
              <a:t>A block of address space used to address an operational network”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ay be provided to LIR customers, or used for an LIR’s infrastructure (‘self-assignment’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44000" y="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bsequent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o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Must meet </a:t>
            </a:r>
            <a:r>
              <a:rPr b="0" lang="en-AU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HD = 0.8 </a:t>
            </a: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utilisation requirement of previous alloc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(7132 /48s assignments in a /32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Other 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criteria to be me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orrect registrations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 (all /48s registered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orrect assignment practices etc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ubsequent allocation results in a doubling of the address space allocated to i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esulting in total IPv6 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p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efix is 1 bit short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Or sufficient for 2 years requiremen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condi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9f5e1"/>
                </a:solidFill>
                <a:latin typeface="Arial"/>
              </a:rPr>
              <a:t>License model of allocation</a:t>
            </a:r>
            <a:endParaRPr b="0" lang="en-US" sz="27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9f5e1"/>
                </a:solidFill>
                <a:latin typeface="Arial"/>
              </a:rPr>
              <a:t>Allocations are not considered permanent, but always subject to review and reclamation</a:t>
            </a:r>
            <a:endParaRPr b="0" lang="en-US" sz="27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9f5e1"/>
                </a:solidFill>
                <a:latin typeface="Arial"/>
              </a:rPr>
              <a:t>Existing /35 Allocations </a:t>
            </a:r>
            <a:endParaRPr b="0" lang="en-US" sz="27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9f5e1"/>
                </a:solidFill>
                <a:latin typeface="Arial"/>
              </a:rPr>
              <a:t>A number of /35s have been assigned under interim IPv6 policy</a:t>
            </a:r>
            <a:endParaRPr b="0" lang="en-US" sz="27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9f5e1"/>
                </a:solidFill>
                <a:latin typeface="Arial"/>
              </a:rPr>
              <a:t>Holders of /35s eligible to request /32</a:t>
            </a:r>
            <a:endParaRPr b="0" lang="en-US" sz="27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XP IPv6 assignment poli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Criteria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emonstrate ‘open peering policy’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3 or more peers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Portable assignment size: /48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</a:t>
            </a: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ll other needs should be met through normal process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/64 holders can “upgrade” to /48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hrough NIRs/ APNIC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eed to return /64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8532720" y="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Pv6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allocations to closed networ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1044360" y="1266840"/>
            <a:ext cx="7723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APNIC-17 consensu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627120" indent="-17640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No alternative for large but private connected network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627120" indent="-17640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Current APNIC practice as directed by EC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627120" indent="-17640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Requestors must meet criteria for initial alloca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271440" indent="-27144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Referenc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627120" indent="-176400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apnic.net/docs/policy/proposals/prop-015-v001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71440" indent="-27144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Statu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627120" indent="-17640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Consensus APNIC17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627120" indent="-17640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Endorsed by EC and implemente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627120" indent="-17640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Request to co-ordinate with other region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allocations to IPv4 networ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990720" y="1200240"/>
            <a:ext cx="7742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PNIC-17 consensu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627120" indent="-17640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Explicitly documents how to make IPv6 allocations based on IPv4 address holding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627120" indent="-17640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Use of HD ratio in determining size of IPv6 alloca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627120" indent="-17640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Update sections 4.4 and 5.1.2 in policy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ferenc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982800" indent="-17640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apnic.net/docs/policy/proposals/prop-016-v002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Statu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627120" indent="-17640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Consensus APNIC17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627120" indent="-17640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Endorsed by EC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627120" indent="-17640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To be implemented August 2004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627120" indent="-17640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Request to co-ordinate with other region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allocation to v4 networks: examp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1" name=""/>
          <p:cNvGraphicFramePr/>
          <p:nvPr/>
        </p:nvGraphicFramePr>
        <p:xfrm>
          <a:off x="1066680" y="1467000"/>
          <a:ext cx="7543800" cy="478764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9f5e1"/>
                          </a:solidFill>
                          <a:latin typeface="Arial"/>
                        </a:rPr>
                        <a:t>IPv4 application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6ae00"/>
                      </a:solidFill>
                    </a:lnL>
                    <a:lnR w="18720">
                      <a:solidFill>
                        <a:srgbClr val="c6ae00"/>
                      </a:solidFill>
                    </a:lnR>
                    <a:lnT w="18720">
                      <a:solidFill>
                        <a:srgbClr val="c6ae00"/>
                      </a:solidFill>
                    </a:lnT>
                    <a:lnB w="18720">
                      <a:solidFill>
                        <a:srgbClr val="c6ae00"/>
                      </a:solidFill>
                    </a:lnB>
                    <a:solidFill>
                      <a:srgbClr val="32559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9f5e1"/>
                          </a:solidFill>
                          <a:latin typeface="Arial"/>
                        </a:rPr>
                        <a:t>IPv6 requirement (/48s)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6ae00"/>
                      </a:solidFill>
                    </a:lnL>
                    <a:lnR w="18720">
                      <a:solidFill>
                        <a:srgbClr val="c6ae00"/>
                      </a:solidFill>
                    </a:lnR>
                    <a:lnT w="18720">
                      <a:solidFill>
                        <a:srgbClr val="c6ae00"/>
                      </a:solidFill>
                    </a:lnT>
                    <a:lnB w="18720">
                      <a:solidFill>
                        <a:srgbClr val="c6ae00"/>
                      </a:solidFill>
                    </a:lnB>
                    <a:solidFill>
                      <a:srgbClr val="325592"/>
                    </a:solidFill>
                  </a:tcPr>
                </a:tc>
              </a:tr>
              <a:tr h="106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</a:rPr>
                        <a:t>Customer network (any size*)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6ae00"/>
                      </a:solidFill>
                    </a:lnL>
                    <a:lnR w="18720">
                      <a:solidFill>
                        <a:srgbClr val="c6ae00"/>
                      </a:solidFill>
                    </a:lnR>
                    <a:lnT w="18720">
                      <a:solidFill>
                        <a:srgbClr val="c6ae00"/>
                      </a:solidFill>
                    </a:lnT>
                    <a:lnB w="5760">
                      <a:solidFill>
                        <a:srgbClr val="c6ae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</a:rPr>
                        <a:t>One /48 per network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6ae00"/>
                      </a:solidFill>
                    </a:lnL>
                    <a:lnR w="18720">
                      <a:solidFill>
                        <a:srgbClr val="c6ae00"/>
                      </a:solidFill>
                    </a:lnR>
                    <a:lnT w="18720">
                      <a:solidFill>
                        <a:srgbClr val="c6ae00"/>
                      </a:solidFill>
                    </a:lnT>
                    <a:lnB w="5760">
                      <a:solidFill>
                        <a:srgbClr val="c6ae00"/>
                      </a:solidFill>
                    </a:lnB>
                    <a:noFill/>
                  </a:tcPr>
                </a:tc>
              </a:tr>
              <a:tr h="106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</a:rPr>
                        <a:t>Dial up customer requiring subnets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6ae00"/>
                      </a:solidFill>
                    </a:lnL>
                    <a:lnR w="18720">
                      <a:solidFill>
                        <a:srgbClr val="c6ae00"/>
                      </a:solidFill>
                    </a:lnR>
                    <a:lnT w="5760">
                      <a:solidFill>
                        <a:srgbClr val="c6ae00"/>
                      </a:solidFill>
                    </a:lnT>
                    <a:lnB w="5760">
                      <a:solidFill>
                        <a:srgbClr val="c6ae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</a:rPr>
                        <a:t>One /48 per customer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6ae00"/>
                      </a:solidFill>
                    </a:lnL>
                    <a:lnR w="18720">
                      <a:solidFill>
                        <a:srgbClr val="c6ae00"/>
                      </a:solidFill>
                    </a:lnR>
                    <a:lnT w="5760">
                      <a:solidFill>
                        <a:srgbClr val="c6ae00"/>
                      </a:solidFill>
                    </a:lnT>
                    <a:lnB w="5760">
                      <a:solidFill>
                        <a:srgbClr val="c6ae00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</a:rPr>
                        <a:t>ISP POP (any size)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6ae00"/>
                      </a:solidFill>
                    </a:lnL>
                    <a:lnR w="18720">
                      <a:solidFill>
                        <a:srgbClr val="c6ae00"/>
                      </a:solidFill>
                    </a:lnR>
                    <a:lnT w="5760">
                      <a:solidFill>
                        <a:srgbClr val="c6ae00"/>
                      </a:solidFill>
                    </a:lnT>
                    <a:lnB w="5760">
                      <a:solidFill>
                        <a:srgbClr val="c6ae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</a:rPr>
                        <a:t>One /48 per POP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6ae00"/>
                      </a:solidFill>
                    </a:lnL>
                    <a:lnR w="18720">
                      <a:solidFill>
                        <a:srgbClr val="c6ae00"/>
                      </a:solidFill>
                    </a:lnR>
                    <a:lnT w="5760">
                      <a:solidFill>
                        <a:srgbClr val="c6ae00"/>
                      </a:solidFill>
                    </a:lnT>
                    <a:lnB w="5760">
                      <a:solidFill>
                        <a:srgbClr val="c6ae00"/>
                      </a:solidFill>
                    </a:lnB>
                    <a:noFill/>
                  </a:tcPr>
                </a:tc>
              </a:tr>
              <a:tr h="106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</a:rPr>
                        <a:t>Individual device requiring /32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6ae00"/>
                      </a:solidFill>
                    </a:lnL>
                    <a:lnR w="18720">
                      <a:solidFill>
                        <a:srgbClr val="c6ae00"/>
                      </a:solidFill>
                    </a:lnR>
                    <a:lnT w="5760">
                      <a:solidFill>
                        <a:srgbClr val="c6ae00"/>
                      </a:solidFill>
                    </a:lnT>
                    <a:lnB w="18720">
                      <a:solidFill>
                        <a:srgbClr val="c6ae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</a:rPr>
                        <a:t>(*) According to RFC 3177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6ae00"/>
                      </a:solidFill>
                    </a:lnL>
                    <a:lnR w="18720">
                      <a:solidFill>
                        <a:srgbClr val="c6ae00"/>
                      </a:solidFill>
                    </a:lnR>
                    <a:lnT w="5760">
                      <a:solidFill>
                        <a:srgbClr val="c6ae00"/>
                      </a:solidFill>
                    </a:lnT>
                    <a:lnB w="18720">
                      <a:solidFill>
                        <a:srgbClr val="c6ae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Pv6 Global Allo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Proposal: Follow up to ripe-261. Requesting larger IPv6 allocations from IANA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627120" indent="-17640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Request for a /12 from IANA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627120" indent="-17640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Sufficient address space at least a 36 month peri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Referenc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627120" indent="-17640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apnic.net/docs/policy/discussions/prop-005-v002.tx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627120" indent="-17640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Statu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982800" indent="-1764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Under discuss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PNIC 18 upd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To abolish redundant charges in IPv6 allocation for NIR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per address fee” should be charged only for newly allocated ranges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To change APNIC-081”APNIC Fee Schedule: Membership Tiers, Fees, and Descriptions”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Consensus at APNIC 18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Current status: Starting 8 weeks comment perio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2"/>
              </a:rPr>
              <a:t>IPv6 deployment current experi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7" name="" descr=""/>
          <p:cNvPicPr/>
          <p:nvPr/>
        </p:nvPicPr>
        <p:blipFill>
          <a:blip r:embed="rId3"/>
          <a:stretch/>
        </p:blipFill>
        <p:spPr>
          <a:xfrm>
            <a:off x="3132000" y="5084640"/>
            <a:ext cx="787680" cy="1105200"/>
          </a:xfrm>
          <a:prstGeom prst="rect">
            <a:avLst/>
          </a:prstGeom>
          <a:ln w="0">
            <a:noFill/>
          </a:ln>
        </p:spPr>
      </p:pic>
      <p:pic>
        <p:nvPicPr>
          <p:cNvPr id="2538" name="" descr=""/>
          <p:cNvPicPr/>
          <p:nvPr/>
        </p:nvPicPr>
        <p:blipFill>
          <a:blip r:embed="rId4"/>
          <a:stretch/>
        </p:blipFill>
        <p:spPr>
          <a:xfrm>
            <a:off x="1332000" y="508644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2539" name="" descr=""/>
          <p:cNvPicPr/>
          <p:nvPr/>
        </p:nvPicPr>
        <p:blipFill>
          <a:blip r:embed="rId5"/>
          <a:stretch/>
        </p:blipFill>
        <p:spPr>
          <a:xfrm>
            <a:off x="4643280" y="5300640"/>
            <a:ext cx="712800" cy="717480"/>
          </a:xfrm>
          <a:prstGeom prst="rect">
            <a:avLst/>
          </a:prstGeom>
          <a:ln w="0">
            <a:noFill/>
          </a:ln>
        </p:spPr>
      </p:pic>
      <p:sp>
        <p:nvSpPr>
          <p:cNvPr id="2540" name=""/>
          <p:cNvSpPr/>
          <p:nvPr/>
        </p:nvSpPr>
        <p:spPr>
          <a:xfrm flipH="1">
            <a:off x="755640" y="1341360"/>
            <a:ext cx="2664000" cy="1366920"/>
          </a:xfrm>
          <a:prstGeom prst="line">
            <a:avLst/>
          </a:prstGeom>
          <a:ln w="1260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 flipH="1" flipV="1">
            <a:off x="3412080" y="1353240"/>
            <a:ext cx="2676600" cy="1341360"/>
          </a:xfrm>
          <a:prstGeom prst="line">
            <a:avLst/>
          </a:prstGeom>
          <a:ln w="1260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1042920" y="2565360"/>
            <a:ext cx="0" cy="3888000"/>
          </a:xfrm>
          <a:prstGeom prst="line">
            <a:avLst/>
          </a:prstGeom>
          <a:ln w="1260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5796000" y="2565360"/>
            <a:ext cx="0" cy="3888000"/>
          </a:xfrm>
          <a:prstGeom prst="line">
            <a:avLst/>
          </a:prstGeom>
          <a:ln w="1260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042920" y="6453360"/>
            <a:ext cx="4753080" cy="0"/>
          </a:xfrm>
          <a:prstGeom prst="line">
            <a:avLst/>
          </a:prstGeom>
          <a:ln w="1260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2545" name="" descr=""/>
          <p:cNvPicPr/>
          <p:nvPr/>
        </p:nvPicPr>
        <p:blipFill>
          <a:blip r:embed="rId6"/>
          <a:stretch/>
        </p:blipFill>
        <p:spPr>
          <a:xfrm>
            <a:off x="4643280" y="4149720"/>
            <a:ext cx="1073160" cy="378000"/>
          </a:xfrm>
          <a:prstGeom prst="rect">
            <a:avLst/>
          </a:prstGeom>
          <a:ln w="0">
            <a:noFill/>
          </a:ln>
        </p:spPr>
      </p:pic>
      <p:pic>
        <p:nvPicPr>
          <p:cNvPr id="2546" name="" descr=""/>
          <p:cNvPicPr/>
          <p:nvPr/>
        </p:nvPicPr>
        <p:blipFill>
          <a:blip r:embed="rId7"/>
          <a:stretch/>
        </p:blipFill>
        <p:spPr>
          <a:xfrm>
            <a:off x="7164360" y="2205000"/>
            <a:ext cx="544680" cy="942840"/>
          </a:xfrm>
          <a:prstGeom prst="rect">
            <a:avLst/>
          </a:prstGeom>
          <a:ln w="0">
            <a:noFill/>
          </a:ln>
        </p:spPr>
      </p:pic>
      <p:pic>
        <p:nvPicPr>
          <p:cNvPr id="2547" name="" descr=""/>
          <p:cNvPicPr/>
          <p:nvPr/>
        </p:nvPicPr>
        <p:blipFill>
          <a:blip r:embed="rId8"/>
          <a:stretch/>
        </p:blipFill>
        <p:spPr>
          <a:xfrm>
            <a:off x="8240760" y="2349360"/>
            <a:ext cx="903240" cy="1097280"/>
          </a:xfrm>
          <a:prstGeom prst="rect">
            <a:avLst/>
          </a:prstGeom>
          <a:ln w="0">
            <a:noFill/>
          </a:ln>
        </p:spPr>
      </p:pic>
      <p:grpSp>
        <p:nvGrpSpPr>
          <p:cNvPr id="2548" name=""/>
          <p:cNvGrpSpPr/>
          <p:nvPr/>
        </p:nvGrpSpPr>
        <p:grpSpPr>
          <a:xfrm>
            <a:off x="3203640" y="3428640"/>
            <a:ext cx="504720" cy="505080"/>
            <a:chOff x="3203640" y="3428640"/>
            <a:chExt cx="504720" cy="505080"/>
          </a:xfrm>
        </p:grpSpPr>
        <p:sp>
          <p:nvSpPr>
            <p:cNvPr id="2549" name=""/>
            <p:cNvSpPr/>
            <p:nvPr/>
          </p:nvSpPr>
          <p:spPr>
            <a:xfrm>
              <a:off x="3203640" y="3573360"/>
              <a:ext cx="504720" cy="360360"/>
            </a:xfrm>
            <a:custGeom>
              <a:avLst/>
              <a:gdLst>
                <a:gd name="textAreaLeft" fmla="*/ 110880 w 504720"/>
                <a:gd name="textAreaRight" fmla="*/ 393840 w 504720"/>
                <a:gd name="textAreaTop" fmla="*/ 79200 h 360360"/>
                <a:gd name="textAreaBottom" fmla="*/ 2811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 flipH="1" flipV="1">
              <a:off x="3276360" y="3428640"/>
              <a:ext cx="71280" cy="14436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 flipV="1">
              <a:off x="3549600" y="3430440"/>
              <a:ext cx="70920" cy="14472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pic>
        <p:nvPicPr>
          <p:cNvPr id="2552" name="" descr=""/>
          <p:cNvPicPr/>
          <p:nvPr/>
        </p:nvPicPr>
        <p:blipFill>
          <a:blip r:embed="rId9"/>
          <a:stretch/>
        </p:blipFill>
        <p:spPr>
          <a:xfrm>
            <a:off x="1116000" y="3357720"/>
            <a:ext cx="1368360" cy="566640"/>
          </a:xfrm>
          <a:prstGeom prst="rect">
            <a:avLst/>
          </a:prstGeom>
          <a:ln w="0">
            <a:noFill/>
          </a:ln>
        </p:spPr>
      </p:pic>
      <p:sp>
        <p:nvSpPr>
          <p:cNvPr id="2553" name="Cloud"/>
          <p:cNvSpPr/>
          <p:nvPr/>
        </p:nvSpPr>
        <p:spPr>
          <a:xfrm>
            <a:off x="7020000" y="3716280"/>
            <a:ext cx="1584360" cy="1028880"/>
          </a:xfrm>
          <a:prstGeom prst="pie">
            <a:avLst/>
          </a:prstGeom>
          <a:noFill/>
          <a:ln w="34920">
            <a:solidFill>
              <a:srgbClr val="f9f5e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956880" y="6165720"/>
            <a:ext cx="513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6-washing machine   IPv6-refrigerator   IPv6-microwave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1174680" y="400536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Mobile viewer             Access point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56" name="laptop"/>
          <p:cNvSpPr/>
          <p:nvPr/>
        </p:nvSpPr>
        <p:spPr>
          <a:xfrm>
            <a:off x="1908000" y="2276640"/>
            <a:ext cx="863640" cy="85716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1549800" y="25653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PC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7236000" y="400536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IPv6 network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2559" name="" descr=""/>
          <p:cNvPicPr/>
          <p:nvPr/>
        </p:nvPicPr>
        <p:blipFill>
          <a:blip r:embed="rId10"/>
          <a:stretch/>
        </p:blipFill>
        <p:spPr>
          <a:xfrm>
            <a:off x="2268360" y="4581360"/>
            <a:ext cx="863640" cy="389160"/>
          </a:xfrm>
          <a:prstGeom prst="rect">
            <a:avLst/>
          </a:prstGeom>
          <a:ln w="0">
            <a:noFill/>
          </a:ln>
        </p:spPr>
      </p:pic>
      <p:sp>
        <p:nvSpPr>
          <p:cNvPr id="2560" name=""/>
          <p:cNvSpPr/>
          <p:nvPr/>
        </p:nvSpPr>
        <p:spPr>
          <a:xfrm>
            <a:off x="4644000" y="299736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Home hub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561" name=""/>
          <p:cNvCxnSpPr>
            <a:stCxn id="2538" idx="3"/>
            <a:endCxn id="2559" idx="2"/>
          </p:cNvCxnSpPr>
          <p:nvPr/>
        </p:nvCxnSpPr>
        <p:spPr>
          <a:xfrm flipV="1">
            <a:off x="2246040" y="4970520"/>
            <a:ext cx="454680" cy="665640"/>
          </a:xfrm>
          <a:prstGeom prst="bentConnector2">
            <a:avLst/>
          </a:prstGeom>
          <a:ln w="25560">
            <a:solidFill>
              <a:srgbClr val="f9f5e1"/>
            </a:solidFill>
            <a:miter/>
          </a:ln>
        </p:spPr>
      </p:cxnSp>
      <p:cxnSp>
        <p:nvCxnSpPr>
          <p:cNvPr id="2562" name=""/>
          <p:cNvCxnSpPr>
            <a:stCxn id="2559" idx="0"/>
            <a:endCxn id="2549" idx="2"/>
          </p:cNvCxnSpPr>
          <p:nvPr/>
        </p:nvCxnSpPr>
        <p:spPr>
          <a:xfrm flipH="1" flipV="1" rot="5400000">
            <a:off x="2570040" y="3884040"/>
            <a:ext cx="827640" cy="567360"/>
          </a:xfrm>
          <a:prstGeom prst="bentConnector2">
            <a:avLst/>
          </a:prstGeom>
          <a:ln w="25560">
            <a:solidFill>
              <a:srgbClr val="f9f5e1"/>
            </a:solidFill>
            <a:miter/>
          </a:ln>
        </p:spPr>
      </p:cxnSp>
      <p:grpSp>
        <p:nvGrpSpPr>
          <p:cNvPr id="2563" name=""/>
          <p:cNvGrpSpPr/>
          <p:nvPr/>
        </p:nvGrpSpPr>
        <p:grpSpPr>
          <a:xfrm>
            <a:off x="2211120" y="3521160"/>
            <a:ext cx="1122840" cy="105480"/>
            <a:chOff x="2211120" y="3521160"/>
            <a:chExt cx="1122840" cy="105480"/>
          </a:xfrm>
        </p:grpSpPr>
        <p:sp>
          <p:nvSpPr>
            <p:cNvPr id="2564" name=""/>
            <p:cNvSpPr/>
            <p:nvPr/>
          </p:nvSpPr>
          <p:spPr>
            <a:xfrm flipV="1">
              <a:off x="2211120" y="3521160"/>
              <a:ext cx="712800" cy="9360"/>
            </a:xfrm>
            <a:prstGeom prst="line">
              <a:avLst/>
            </a:prstGeom>
            <a:ln w="22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>
              <a:off x="2619720" y="3521160"/>
              <a:ext cx="303840" cy="105480"/>
            </a:xfrm>
            <a:prstGeom prst="line">
              <a:avLst/>
            </a:prstGeom>
            <a:ln w="22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 flipV="1">
              <a:off x="2621160" y="3616200"/>
              <a:ext cx="712800" cy="9360"/>
            </a:xfrm>
            <a:prstGeom prst="line">
              <a:avLst/>
            </a:prstGeom>
            <a:ln w="22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567" name=""/>
          <p:cNvGrpSpPr/>
          <p:nvPr/>
        </p:nvGrpSpPr>
        <p:grpSpPr>
          <a:xfrm>
            <a:off x="7458840" y="2898360"/>
            <a:ext cx="133920" cy="857520"/>
            <a:chOff x="7458840" y="2898360"/>
            <a:chExt cx="133920" cy="857520"/>
          </a:xfrm>
        </p:grpSpPr>
        <p:sp>
          <p:nvSpPr>
            <p:cNvPr id="2568" name=""/>
            <p:cNvSpPr/>
            <p:nvPr/>
          </p:nvSpPr>
          <p:spPr>
            <a:xfrm>
              <a:off x="7460280" y="2898360"/>
              <a:ext cx="132480" cy="5364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H="1" flipV="1">
              <a:off x="7458840" y="3218760"/>
              <a:ext cx="133920" cy="2160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459560" y="3219480"/>
              <a:ext cx="132480" cy="5364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8074440" y="3090240"/>
            <a:ext cx="309240" cy="619560"/>
            <a:chOff x="8074440" y="3090240"/>
            <a:chExt cx="309240" cy="619560"/>
          </a:xfrm>
        </p:grpSpPr>
        <p:sp>
          <p:nvSpPr>
            <p:cNvPr id="2572" name=""/>
            <p:cNvSpPr/>
            <p:nvPr/>
          </p:nvSpPr>
          <p:spPr>
            <a:xfrm flipH="1">
              <a:off x="8222040" y="3090240"/>
              <a:ext cx="161640" cy="41292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V="1">
              <a:off x="8222400" y="3296160"/>
              <a:ext cx="13680" cy="2070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 flipH="1">
              <a:off x="8074440" y="3296880"/>
              <a:ext cx="161640" cy="41292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pic>
        <p:nvPicPr>
          <p:cNvPr id="2575" name="" descr=""/>
          <p:cNvPicPr/>
          <p:nvPr/>
        </p:nvPicPr>
        <p:blipFill>
          <a:blip r:embed="rId11"/>
          <a:stretch/>
        </p:blipFill>
        <p:spPr>
          <a:xfrm>
            <a:off x="3780000" y="2997360"/>
            <a:ext cx="863280" cy="388800"/>
          </a:xfrm>
          <a:prstGeom prst="rect">
            <a:avLst/>
          </a:prstGeom>
          <a:ln w="0">
            <a:noFill/>
          </a:ln>
        </p:spPr>
      </p:pic>
      <p:sp>
        <p:nvSpPr>
          <p:cNvPr id="2576" name=""/>
          <p:cNvSpPr/>
          <p:nvPr/>
        </p:nvSpPr>
        <p:spPr>
          <a:xfrm>
            <a:off x="1404000" y="486900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Home hub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577" name=""/>
          <p:cNvCxnSpPr>
            <a:stCxn id="2559" idx="3"/>
          </p:cNvCxnSpPr>
          <p:nvPr/>
        </p:nvCxnSpPr>
        <p:spPr>
          <a:xfrm flipV="1">
            <a:off x="3132000" y="4365360"/>
            <a:ext cx="1512000" cy="411840"/>
          </a:xfrm>
          <a:prstGeom prst="bentConnector3">
            <a:avLst>
              <a:gd name="adj1" fmla="val 49988"/>
            </a:avLst>
          </a:prstGeom>
          <a:ln w="25560">
            <a:solidFill>
              <a:srgbClr val="f9f5e1"/>
            </a:solidFill>
            <a:miter/>
          </a:ln>
        </p:spPr>
      </p:cxnSp>
      <p:cxnSp>
        <p:nvCxnSpPr>
          <p:cNvPr id="2578" name=""/>
          <p:cNvCxnSpPr>
            <a:stCxn id="2549" idx="0"/>
            <a:endCxn id="2575" idx="2"/>
          </p:cNvCxnSpPr>
          <p:nvPr/>
        </p:nvCxnSpPr>
        <p:spPr>
          <a:xfrm flipV="1">
            <a:off x="3645000" y="3385440"/>
            <a:ext cx="567360" cy="369000"/>
          </a:xfrm>
          <a:prstGeom prst="bentConnector2">
            <a:avLst/>
          </a:prstGeom>
          <a:ln w="25560">
            <a:solidFill>
              <a:srgbClr val="f9f5e1"/>
            </a:solidFill>
            <a:miter/>
          </a:ln>
        </p:spPr>
      </p:cxnSp>
      <p:cxnSp>
        <p:nvCxnSpPr>
          <p:cNvPr id="2579" name=""/>
          <p:cNvCxnSpPr>
            <a:stCxn id="2556" idx="8"/>
          </p:cNvCxnSpPr>
          <p:nvPr/>
        </p:nvCxnSpPr>
        <p:spPr>
          <a:xfrm>
            <a:off x="2641320" y="2560680"/>
            <a:ext cx="1067400" cy="653040"/>
          </a:xfrm>
          <a:prstGeom prst="bentConnector3">
            <a:avLst>
              <a:gd name="adj1" fmla="val 56072"/>
            </a:avLst>
          </a:prstGeom>
          <a:ln w="25560">
            <a:solidFill>
              <a:srgbClr val="f9f5e1"/>
            </a:solidFill>
            <a:miter/>
          </a:ln>
        </p:spPr>
      </p:cxnSp>
      <p:cxnSp>
        <p:nvCxnSpPr>
          <p:cNvPr id="2580" name=""/>
          <p:cNvCxnSpPr/>
          <p:nvPr/>
        </p:nvCxnSpPr>
        <p:spPr>
          <a:xfrm rot="10800000">
            <a:off x="2842560" y="4998960"/>
            <a:ext cx="289440" cy="626040"/>
          </a:xfrm>
          <a:prstGeom prst="bentConnector2">
            <a:avLst/>
          </a:prstGeom>
          <a:ln w="25560">
            <a:solidFill>
              <a:srgbClr val="f9f5e1"/>
            </a:solidFill>
            <a:miter/>
          </a:ln>
        </p:spPr>
      </p:cxnSp>
      <p:cxnSp>
        <p:nvCxnSpPr>
          <p:cNvPr id="2581" name=""/>
          <p:cNvCxnSpPr>
            <a:stCxn id="2539" idx="1"/>
          </p:cNvCxnSpPr>
          <p:nvPr/>
        </p:nvCxnSpPr>
        <p:spPr>
          <a:xfrm rot="10800000">
            <a:off x="3707640" y="4939560"/>
            <a:ext cx="935640" cy="720000"/>
          </a:xfrm>
          <a:prstGeom prst="bentConnector3">
            <a:avLst>
              <a:gd name="adj1" fmla="val 49884"/>
            </a:avLst>
          </a:prstGeom>
          <a:ln w="25560">
            <a:solidFill>
              <a:srgbClr val="f9f5e1"/>
            </a:solidFill>
            <a:miter/>
          </a:ln>
        </p:spPr>
      </p:cxnSp>
      <p:sp>
        <p:nvSpPr>
          <p:cNvPr id="2582" name=""/>
          <p:cNvSpPr/>
          <p:nvPr/>
        </p:nvSpPr>
        <p:spPr>
          <a:xfrm>
            <a:off x="2930400" y="4941720"/>
            <a:ext cx="792360" cy="0"/>
          </a:xfrm>
          <a:prstGeom prst="line">
            <a:avLst/>
          </a:prstGeom>
          <a:ln w="2556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4572000" y="458136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Home router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5651640" y="4365720"/>
            <a:ext cx="1368360" cy="0"/>
          </a:xfrm>
          <a:prstGeom prst="line">
            <a:avLst/>
          </a:prstGeom>
          <a:ln w="2556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585" name=""/>
          <p:cNvGrpSpPr/>
          <p:nvPr/>
        </p:nvGrpSpPr>
        <p:grpSpPr>
          <a:xfrm>
            <a:off x="3059280" y="1341360"/>
            <a:ext cx="3464280" cy="1770120"/>
            <a:chOff x="3059280" y="1341360"/>
            <a:chExt cx="3464280" cy="1770120"/>
          </a:xfrm>
        </p:grpSpPr>
        <p:grpSp>
          <p:nvGrpSpPr>
            <p:cNvPr id="2586" name=""/>
            <p:cNvGrpSpPr/>
            <p:nvPr/>
          </p:nvGrpSpPr>
          <p:grpSpPr>
            <a:xfrm>
              <a:off x="3059280" y="1341360"/>
              <a:ext cx="1977840" cy="1770120"/>
              <a:chOff x="3059280" y="1341360"/>
              <a:chExt cx="1977840" cy="1770120"/>
            </a:xfrm>
          </p:grpSpPr>
          <p:pic>
            <p:nvPicPr>
              <p:cNvPr id="258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059280" y="1341360"/>
                <a:ext cx="685800" cy="88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995640" y="2349360"/>
                <a:ext cx="1041480" cy="3906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589" name=""/>
              <p:cNvCxnSpPr/>
              <p:nvPr/>
            </p:nvCxnSpPr>
            <p:spPr>
              <a:xfrm flipH="1" rot="16200000">
                <a:off x="3279240" y="2336760"/>
                <a:ext cx="695520" cy="450000"/>
              </a:xfrm>
              <a:prstGeom prst="bentConnector3">
                <a:avLst>
                  <a:gd name="adj1" fmla="val 49974"/>
                </a:avLst>
              </a:prstGeom>
              <a:ln w="25560">
                <a:solidFill>
                  <a:srgbClr val="f9f5e1"/>
                </a:solidFill>
                <a:miter/>
              </a:ln>
            </p:spPr>
          </p:cxnSp>
          <p:sp>
            <p:nvSpPr>
              <p:cNvPr id="2590" name=""/>
              <p:cNvSpPr/>
              <p:nvPr/>
            </p:nvSpPr>
            <p:spPr>
              <a:xfrm>
                <a:off x="3851280" y="2895480"/>
                <a:ext cx="0" cy="216000"/>
              </a:xfrm>
              <a:prstGeom prst="line">
                <a:avLst/>
              </a:prstGeom>
              <a:ln w="25560">
                <a:solidFill>
                  <a:srgbClr val="f9f5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4211640" y="2724120"/>
                <a:ext cx="0" cy="287280"/>
              </a:xfrm>
              <a:prstGeom prst="line">
                <a:avLst/>
              </a:prstGeom>
              <a:ln w="25560">
                <a:solidFill>
                  <a:srgbClr val="f9f5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2592" name=""/>
            <p:cNvSpPr/>
            <p:nvPr/>
          </p:nvSpPr>
          <p:spPr>
            <a:xfrm>
              <a:off x="3689640" y="1844640"/>
              <a:ext cx="61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9f5e1"/>
                  </a:solidFill>
                  <a:latin typeface="Arial"/>
                  <a:ea typeface="ＭＳ Ｐゴシック"/>
                </a:rPr>
                <a:t>Light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074920" y="2349360"/>
              <a:ext cx="144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9f5e1"/>
                  </a:solidFill>
                  <a:latin typeface="Arial"/>
                  <a:ea typeface="ＭＳ Ｐゴシック"/>
                </a:rPr>
                <a:t>Air conditioner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594" name=""/>
          <p:cNvSpPr/>
          <p:nvPr/>
        </p:nvSpPr>
        <p:spPr>
          <a:xfrm>
            <a:off x="6372360" y="6165720"/>
            <a:ext cx="792000" cy="0"/>
          </a:xfrm>
          <a:prstGeom prst="line">
            <a:avLst/>
          </a:prstGeom>
          <a:ln w="25560">
            <a:solidFill>
              <a:srgbClr val="f9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595" name=""/>
          <p:cNvGrpSpPr/>
          <p:nvPr/>
        </p:nvGrpSpPr>
        <p:grpSpPr>
          <a:xfrm>
            <a:off x="6342480" y="6491160"/>
            <a:ext cx="865440" cy="84960"/>
            <a:chOff x="6342480" y="6491160"/>
            <a:chExt cx="865440" cy="84960"/>
          </a:xfrm>
        </p:grpSpPr>
        <p:sp>
          <p:nvSpPr>
            <p:cNvPr id="2596" name=""/>
            <p:cNvSpPr/>
            <p:nvPr/>
          </p:nvSpPr>
          <p:spPr>
            <a:xfrm flipH="1">
              <a:off x="6655680" y="6561360"/>
              <a:ext cx="552240" cy="1476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V="1">
              <a:off x="6655680" y="6491160"/>
              <a:ext cx="239760" cy="8496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H="1">
              <a:off x="6342480" y="6491880"/>
              <a:ext cx="552240" cy="1476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599" name=""/>
          <p:cNvSpPr/>
          <p:nvPr/>
        </p:nvSpPr>
        <p:spPr>
          <a:xfrm>
            <a:off x="7311600" y="59785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Ethernet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7311240" y="64072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Wireless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2601" name="" descr=""/>
          <p:cNvPicPr/>
          <p:nvPr/>
        </p:nvPicPr>
        <p:blipFill>
          <a:blip r:embed="rId14"/>
          <a:stretch/>
        </p:blipFill>
        <p:spPr>
          <a:xfrm>
            <a:off x="7740720" y="5084640"/>
            <a:ext cx="1081080" cy="835200"/>
          </a:xfrm>
          <a:prstGeom prst="rect">
            <a:avLst/>
          </a:prstGeom>
          <a:ln w="0">
            <a:noFill/>
          </a:ln>
        </p:spPr>
      </p:pic>
      <p:grpSp>
        <p:nvGrpSpPr>
          <p:cNvPr id="2602" name=""/>
          <p:cNvGrpSpPr/>
          <p:nvPr/>
        </p:nvGrpSpPr>
        <p:grpSpPr>
          <a:xfrm>
            <a:off x="8163000" y="4701960"/>
            <a:ext cx="81360" cy="558720"/>
            <a:chOff x="8163000" y="4701960"/>
            <a:chExt cx="81360" cy="558720"/>
          </a:xfrm>
        </p:grpSpPr>
        <p:sp>
          <p:nvSpPr>
            <p:cNvPr id="2603" name=""/>
            <p:cNvSpPr/>
            <p:nvPr/>
          </p:nvSpPr>
          <p:spPr>
            <a:xfrm>
              <a:off x="8169840" y="4701960"/>
              <a:ext cx="74520" cy="3484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 flipH="1" flipV="1">
              <a:off x="8163000" y="4911840"/>
              <a:ext cx="81360" cy="1386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8163360" y="4911840"/>
              <a:ext cx="74880" cy="3488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5" dur="indefinite" restart="never" nodeType="tmRoot">
          <p:childTnLst>
            <p:seq>
              <p:cTn id="2466" dur="indefinite" nodeType="mainSeq">
                <p:childTnLst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1" dur="500"/>
                                        <p:tgtEl>
                                          <p:spTgt spid="2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Pv6 Address Allocation Proced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1085760" y="1436760"/>
            <a:ext cx="597528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IPv6 Allocations to RIRs from IANA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APNIC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2001:0200::/23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2001:0C00::/23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2001:0E00::/23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9f5e1"/>
                </a:solidFill>
                <a:latin typeface="Arial"/>
              </a:rPr>
              <a:t>2001:4400::/23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ARIN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2001:0400::/23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9f5e1"/>
                </a:solidFill>
                <a:latin typeface="Arial"/>
              </a:rPr>
              <a:t>2001:1800::/23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9f5e1"/>
                </a:solidFill>
                <a:latin typeface="Arial"/>
              </a:rPr>
              <a:t>2001:4200::/23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8532720" y="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Pv6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4500720" y="2030400"/>
            <a:ext cx="59752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lvl="1" marL="601560" indent="-23148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LACNIC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       2001:1200::/23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RIPE NCC     2001:0600::/23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2001:0800::/23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2001:0A00::/23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                           </a:t>
            </a:r>
            <a:r>
              <a:rPr b="0" lang="en-AU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2001:1400::/23                                          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2001:1600::/23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2001:1A00::/23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       </a:t>
            </a: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2001:4000::/23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      </a:t>
            </a: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and more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824760" y="4923000"/>
            <a:ext cx="785844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9f5e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 Unicode MS"/>
              </a:rPr>
              <a:t>   </a:t>
            </a:r>
            <a:r>
              <a:rPr b="0" lang="en-US" sz="2400" spc="-1" strike="noStrike">
                <a:solidFill>
                  <a:srgbClr val="f9f5e1"/>
                </a:solidFill>
                <a:latin typeface="Arial Unicode MS"/>
              </a:rPr>
              <a:t>IPv6 Address Request form</a:t>
            </a:r>
            <a:r>
              <a:rPr b="0" lang="en-US" sz="24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  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 Unicode MS"/>
              </a:rPr>
              <a:t>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http://ftp.apnic.net/apnic/docs/ipv6-alloc-request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9f5e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 Unicode MS"/>
              </a:rPr>
              <a:t>   </a:t>
            </a:r>
            <a:r>
              <a:rPr b="0" lang="en-US" sz="2400" spc="-1" strike="noStrike">
                <a:solidFill>
                  <a:srgbClr val="f9f5e1"/>
                </a:solidFill>
                <a:latin typeface="Arial Unicode MS"/>
              </a:rPr>
              <a:t>IPv6 FAQ</a:t>
            </a:r>
            <a:r>
              <a:rPr b="0" lang="en-US" sz="24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3"/>
              </a:rPr>
              <a:t>http://www.apnic.net/faq/IPv6-FAQ.html</a:t>
            </a:r>
            <a:r>
              <a:rPr b="0" lang="en-US" sz="2400" spc="-1" strike="noStrike" u="sng">
                <a:solidFill>
                  <a:srgbClr val="f9f5e1"/>
                </a:solidFill>
                <a:uFillTx/>
                <a:latin typeface="Arial Unicode MS"/>
              </a:rPr>
              <a:t> 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4519440" y="4432320"/>
            <a:ext cx="2341800" cy="998280"/>
            <a:chOff x="4519440" y="4432320"/>
            <a:chExt cx="2341800" cy="998280"/>
          </a:xfrm>
        </p:grpSpPr>
        <p:sp>
          <p:nvSpPr>
            <p:cNvPr id="217" name=""/>
            <p:cNvSpPr/>
            <p:nvPr/>
          </p:nvSpPr>
          <p:spPr>
            <a:xfrm>
              <a:off x="4519440" y="4435560"/>
              <a:ext cx="932040" cy="34596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45040" y="4788000"/>
              <a:ext cx="181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b-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location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78440" y="4432320"/>
              <a:ext cx="62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/22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635280" y="1603440"/>
            <a:ext cx="5616720" cy="1179360"/>
            <a:chOff x="3635280" y="1603440"/>
            <a:chExt cx="5616720" cy="1179360"/>
          </a:xfrm>
        </p:grpSpPr>
        <p:sp>
          <p:nvSpPr>
            <p:cNvPr id="221" name=""/>
            <p:cNvSpPr/>
            <p:nvPr/>
          </p:nvSpPr>
          <p:spPr>
            <a:xfrm>
              <a:off x="3635280" y="1635120"/>
              <a:ext cx="5040360" cy="7142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44000" y="160344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/8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37440" y="2414520"/>
              <a:ext cx="201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NIC Allocation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066080" y="4389480"/>
            <a:ext cx="612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ocation and Assign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012000" y="3697200"/>
            <a:ext cx="790560" cy="2341800"/>
            <a:chOff x="6012000" y="3697200"/>
            <a:chExt cx="790560" cy="2341800"/>
          </a:xfrm>
        </p:grpSpPr>
        <p:sp>
          <p:nvSpPr>
            <p:cNvPr id="227" name=""/>
            <p:cNvSpPr/>
            <p:nvPr/>
          </p:nvSpPr>
          <p:spPr>
            <a:xfrm flipH="1">
              <a:off x="6012000" y="3697200"/>
              <a:ext cx="404640" cy="233676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12040" y="3718080"/>
              <a:ext cx="290520" cy="232092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022800" y="1628640"/>
            <a:ext cx="204840" cy="725760"/>
          </a:xfrm>
          <a:prstGeom prst="rect">
            <a:avLst/>
          </a:prstGeom>
          <a:solidFill>
            <a:srgbClr val="ffff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739760" y="2349360"/>
            <a:ext cx="2956320" cy="965520"/>
            <a:chOff x="4739760" y="2349360"/>
            <a:chExt cx="2956320" cy="965520"/>
          </a:xfrm>
        </p:grpSpPr>
        <p:sp>
          <p:nvSpPr>
            <p:cNvPr id="231" name=""/>
            <p:cNvSpPr/>
            <p:nvPr/>
          </p:nvSpPr>
          <p:spPr>
            <a:xfrm flipH="1">
              <a:off x="4739760" y="2359080"/>
              <a:ext cx="1281240" cy="9558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27640" y="2349360"/>
              <a:ext cx="1468440" cy="9655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845400" y="3706920"/>
            <a:ext cx="1238040" cy="2336760"/>
            <a:chOff x="6845400" y="3706920"/>
            <a:chExt cx="1238040" cy="2336760"/>
          </a:xfrm>
        </p:grpSpPr>
        <p:sp>
          <p:nvSpPr>
            <p:cNvPr id="234" name=""/>
            <p:cNvSpPr/>
            <p:nvPr/>
          </p:nvSpPr>
          <p:spPr>
            <a:xfrm>
              <a:off x="6845400" y="3720960"/>
              <a:ext cx="752400" cy="231804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42240" y="3706920"/>
              <a:ext cx="1141200" cy="233676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586560" y="3679920"/>
            <a:ext cx="931680" cy="2378160"/>
            <a:chOff x="6586560" y="3679920"/>
            <a:chExt cx="931680" cy="2378160"/>
          </a:xfrm>
        </p:grpSpPr>
        <p:sp>
          <p:nvSpPr>
            <p:cNvPr id="237" name=""/>
            <p:cNvSpPr/>
            <p:nvPr/>
          </p:nvSpPr>
          <p:spPr>
            <a:xfrm>
              <a:off x="6586560" y="3716280"/>
              <a:ext cx="331920" cy="234180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76920" y="3679920"/>
              <a:ext cx="841320" cy="235908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010200" y="5967360"/>
            <a:ext cx="890280" cy="398880"/>
            <a:chOff x="6010200" y="5967360"/>
            <a:chExt cx="890280" cy="398880"/>
          </a:xfrm>
        </p:grpSpPr>
        <p:sp>
          <p:nvSpPr>
            <p:cNvPr id="240" name=""/>
            <p:cNvSpPr/>
            <p:nvPr/>
          </p:nvSpPr>
          <p:spPr>
            <a:xfrm>
              <a:off x="6010200" y="6038640"/>
              <a:ext cx="802080" cy="2448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39800" y="5967360"/>
              <a:ext cx="76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/24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745160" y="3289320"/>
            <a:ext cx="4426920" cy="896760"/>
            <a:chOff x="4745160" y="3289320"/>
            <a:chExt cx="4426920" cy="896760"/>
          </a:xfrm>
        </p:grpSpPr>
        <p:sp>
          <p:nvSpPr>
            <p:cNvPr id="243" name=""/>
            <p:cNvSpPr/>
            <p:nvPr/>
          </p:nvSpPr>
          <p:spPr>
            <a:xfrm>
              <a:off x="4745160" y="3314520"/>
              <a:ext cx="2952360" cy="406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54640" y="3289320"/>
              <a:ext cx="61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/20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84800" y="381780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mber Allocation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6588000" y="6259680"/>
            <a:ext cx="31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er Assignments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912000" y="5970600"/>
            <a:ext cx="652320" cy="398880"/>
            <a:chOff x="6912000" y="5970600"/>
            <a:chExt cx="652320" cy="398880"/>
          </a:xfrm>
        </p:grpSpPr>
        <p:sp>
          <p:nvSpPr>
            <p:cNvPr id="248" name=""/>
            <p:cNvSpPr/>
            <p:nvPr/>
          </p:nvSpPr>
          <p:spPr>
            <a:xfrm>
              <a:off x="6912000" y="6039000"/>
              <a:ext cx="612720" cy="2444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03800" y="5970600"/>
              <a:ext cx="56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/25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413400" y="3314880"/>
            <a:ext cx="88920" cy="40788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3040" y="3313080"/>
            <a:ext cx="88920" cy="40788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48640" y="3311640"/>
            <a:ext cx="88560" cy="40788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7080" y="3303720"/>
            <a:ext cx="512640" cy="426960"/>
          </a:xfrm>
          <a:prstGeom prst="rect">
            <a:avLst/>
          </a:prstGeom>
          <a:solidFill>
            <a:srgbClr val="ffcc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832280" y="5970600"/>
            <a:ext cx="552240" cy="398880"/>
            <a:chOff x="4832280" y="5970600"/>
            <a:chExt cx="552240" cy="398880"/>
          </a:xfrm>
        </p:grpSpPr>
        <p:sp>
          <p:nvSpPr>
            <p:cNvPr id="255" name=""/>
            <p:cNvSpPr/>
            <p:nvPr/>
          </p:nvSpPr>
          <p:spPr>
            <a:xfrm>
              <a:off x="4832280" y="6041880"/>
              <a:ext cx="493200" cy="2448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6680" y="5970600"/>
              <a:ext cx="53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/26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213080" y="5965920"/>
            <a:ext cx="600120" cy="398880"/>
            <a:chOff x="4213080" y="5965920"/>
            <a:chExt cx="600120" cy="398880"/>
          </a:xfrm>
        </p:grpSpPr>
        <p:sp>
          <p:nvSpPr>
            <p:cNvPr id="258" name=""/>
            <p:cNvSpPr/>
            <p:nvPr/>
          </p:nvSpPr>
          <p:spPr>
            <a:xfrm>
              <a:off x="4265640" y="6037200"/>
              <a:ext cx="414360" cy="2444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13080" y="5965920"/>
              <a:ext cx="60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/27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514760" y="3705120"/>
            <a:ext cx="941400" cy="736560"/>
            <a:chOff x="4514760" y="3705120"/>
            <a:chExt cx="941400" cy="736560"/>
          </a:xfrm>
        </p:grpSpPr>
        <p:sp>
          <p:nvSpPr>
            <p:cNvPr id="261" name=""/>
            <p:cNvSpPr/>
            <p:nvPr/>
          </p:nvSpPr>
          <p:spPr>
            <a:xfrm flipH="1">
              <a:off x="4514760" y="3705120"/>
              <a:ext cx="300240" cy="7365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18280" y="3727440"/>
              <a:ext cx="137880" cy="70812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702320" y="4437000"/>
            <a:ext cx="74520" cy="34596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86280" y="4435560"/>
            <a:ext cx="74520" cy="34596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267080" y="4765680"/>
            <a:ext cx="507600" cy="1284120"/>
            <a:chOff x="4267080" y="4765680"/>
            <a:chExt cx="507600" cy="1284120"/>
          </a:xfrm>
        </p:grpSpPr>
        <p:sp>
          <p:nvSpPr>
            <p:cNvPr id="266" name=""/>
            <p:cNvSpPr/>
            <p:nvPr/>
          </p:nvSpPr>
          <p:spPr>
            <a:xfrm flipH="1">
              <a:off x="4267080" y="4772160"/>
              <a:ext cx="433440" cy="126972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4674960" y="4765680"/>
              <a:ext cx="99720" cy="128412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832280" y="4745160"/>
            <a:ext cx="488880" cy="1309680"/>
            <a:chOff x="4832280" y="4745160"/>
            <a:chExt cx="488880" cy="1309680"/>
          </a:xfrm>
        </p:grpSpPr>
        <p:sp>
          <p:nvSpPr>
            <p:cNvPr id="269" name=""/>
            <p:cNvSpPr/>
            <p:nvPr/>
          </p:nvSpPr>
          <p:spPr>
            <a:xfrm flipH="1">
              <a:off x="4832280" y="4784760"/>
              <a:ext cx="47520" cy="127008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44960" y="4745160"/>
              <a:ext cx="376200" cy="129852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597800" y="5969160"/>
            <a:ext cx="552240" cy="398880"/>
            <a:chOff x="7597800" y="5969160"/>
            <a:chExt cx="552240" cy="398880"/>
          </a:xfrm>
        </p:grpSpPr>
        <p:sp>
          <p:nvSpPr>
            <p:cNvPr id="272" name=""/>
            <p:cNvSpPr/>
            <p:nvPr/>
          </p:nvSpPr>
          <p:spPr>
            <a:xfrm>
              <a:off x="7597800" y="6040440"/>
              <a:ext cx="493200" cy="2448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12200" y="5969160"/>
              <a:ext cx="53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/26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539640" y="137808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PNIC</a:t>
            </a:r>
            <a:br>
              <a:rPr sz="24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lloc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PNIC Member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30574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PNIC Member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2720" y="619128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ustomer / End User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35280" y="2395440"/>
            <a:ext cx="0" cy="71604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35240" y="4280040"/>
            <a:ext cx="0" cy="183960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1444680" y="5424480"/>
            <a:ext cx="1440" cy="80820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46320" y="3494160"/>
            <a:ext cx="17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ssign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end-user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5920" y="34956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llocat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downstream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8920" y="447660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ownstrea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ssig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end-user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4146480"/>
            <a:ext cx="0" cy="31608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244000" y="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Pv6 Allocations per RI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2590920" y="6461280"/>
            <a:ext cx="67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ource: APNIC statistic data - Last update August 2004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graphicFrame>
        <p:nvGraphicFramePr>
          <p:cNvPr id="2613" name=""/>
          <p:cNvGraphicFramePr/>
          <p:nvPr/>
        </p:nvGraphicFramePr>
        <p:xfrm>
          <a:off x="-533520" y="504720"/>
          <a:ext cx="10977840" cy="587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33520" y="504720"/>
                    <a:ext cx="1097784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990360" y="3646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99072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allocations in Asia Pacific</a:t>
            </a:r>
            <a:endParaRPr b="0" lang="en-US" sz="3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2590920" y="6461280"/>
            <a:ext cx="67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ource: APNIC statistic data - Last update August 2004 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2618" name="" descr=""/>
          <p:cNvPicPr/>
          <p:nvPr/>
        </p:nvPicPr>
        <p:blipFill>
          <a:blip r:embed="rId2"/>
          <a:stretch/>
        </p:blipFill>
        <p:spPr>
          <a:xfrm>
            <a:off x="0" y="888840"/>
            <a:ext cx="959472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lobal IPv6 routing 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1769040" y="6521400"/>
            <a:ext cx="765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 Unicode MS"/>
                <a:ea typeface="Arial Unicode MS"/>
              </a:rPr>
              <a:t>Source: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2"/>
              </a:rPr>
              <a:t>http://bgp.potaroo.net/v6/as1221/index.html</a:t>
            </a:r>
            <a:r>
              <a:rPr b="1" lang="en-US" sz="1600" spc="-1" strike="noStrike">
                <a:solidFill>
                  <a:srgbClr val="ffffff"/>
                </a:solidFill>
                <a:latin typeface="Arial Unicode MS"/>
              </a:rPr>
              <a:t> - </a:t>
            </a: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Last updated </a:t>
            </a:r>
            <a:r>
              <a:rPr b="0" lang="en-US" sz="1600" spc="-1" strike="noStrike">
                <a:solidFill>
                  <a:srgbClr val="f9f5e1"/>
                </a:solidFill>
                <a:latin typeface="Arial"/>
                <a:ea typeface="ＭＳ Ｐゴシック"/>
              </a:rPr>
              <a:t>18/08/2004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2621" name="" descr=""/>
          <p:cNvPicPr/>
          <p:nvPr/>
        </p:nvPicPr>
        <p:blipFill>
          <a:blip r:embed="rId3"/>
          <a:stretch/>
        </p:blipFill>
        <p:spPr>
          <a:xfrm>
            <a:off x="744480" y="890640"/>
            <a:ext cx="839952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1295280" y="228600"/>
            <a:ext cx="76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1276200" y="252360"/>
            <a:ext cx="76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Questions ?</a:t>
            </a:r>
            <a:endParaRPr b="0" lang="en-US" sz="3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1619280" y="6572160"/>
            <a:ext cx="57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erial available at: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</a:rPr>
              <a:t>www.apnic.net/training/recent/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Reverse delegation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representation in the D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orward lookup support: Multiple RR records for name to number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AAA (Similar to A RR for IPv4 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6 without chaining (prefix length set to 0 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verse lookup support: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verse nibble format for zone ip6.int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verse nibble format for zone ip6.arpa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forward and reverse mapping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870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Existing A record will not accommodate IPv6’s 128 bit address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BIND expects an A record’s record-specific data to be a 32-bit address (in dotted-octet format)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n address recor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AAA (RFC 1886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 reverse-mapping domai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p6.int (now replaced by ip6.arpa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"/>
          <p:cNvSpPr/>
          <p:nvPr/>
        </p:nvSpPr>
        <p:spPr>
          <a:xfrm>
            <a:off x="1170000" y="3270240"/>
            <a:ext cx="0" cy="44784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1170000" y="4086360"/>
            <a:ext cx="0" cy="44748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550080" y="43736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whois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3090960" y="1530360"/>
            <a:ext cx="20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Root DNS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 flipH="1">
            <a:off x="2701800" y="2203560"/>
            <a:ext cx="1208160" cy="77292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3933720" y="2149560"/>
            <a:ext cx="27000" cy="80316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3930480" y="2216160"/>
            <a:ext cx="1397160" cy="74772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3930480" y="2189160"/>
            <a:ext cx="2557800" cy="798480"/>
          </a:xfrm>
          <a:prstGeom prst="line">
            <a:avLst/>
          </a:prstGeom>
          <a:ln w="38160">
            <a:solidFill>
              <a:srgbClr val="b98d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 flipH="1">
            <a:off x="1127160" y="2209680"/>
            <a:ext cx="2789280" cy="70812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verse DNS tree – with IPv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4098960" y="2357280"/>
            <a:ext cx="0" cy="0"/>
          </a:xfrm>
          <a:prstGeom prst="line">
            <a:avLst/>
          </a:prstGeom>
          <a:ln w="936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622440" y="2844720"/>
            <a:ext cx="1233360" cy="536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6280200" y="2928960"/>
            <a:ext cx="1233360" cy="536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  <a:effectLst>
            <a:outerShdw dist="107932" dir="81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3444840" y="2913120"/>
            <a:ext cx="1233360" cy="536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2022480" y="2865600"/>
            <a:ext cx="1233360" cy="536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924120" y="2873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2267280" y="288756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du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3610440" y="29145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6562800" y="2944800"/>
            <a:ext cx="8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631800" y="4408560"/>
            <a:ext cx="1233360" cy="536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792720" y="4438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hois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631800" y="3624120"/>
            <a:ext cx="1233360" cy="536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831600" y="36529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pnic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656" name=""/>
          <p:cNvGrpSpPr/>
          <p:nvPr/>
        </p:nvGrpSpPr>
        <p:grpSpPr>
          <a:xfrm>
            <a:off x="4857840" y="2928960"/>
            <a:ext cx="1233360" cy="536400"/>
            <a:chOff x="4857840" y="2928960"/>
            <a:chExt cx="1233360" cy="536400"/>
          </a:xfrm>
        </p:grpSpPr>
        <p:sp>
          <p:nvSpPr>
            <p:cNvPr id="2657" name=""/>
            <p:cNvSpPr/>
            <p:nvPr/>
          </p:nvSpPr>
          <p:spPr>
            <a:xfrm>
              <a:off x="4857840" y="2928960"/>
              <a:ext cx="1233360" cy="536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325592"/>
              </a:solidFill>
              <a:miter/>
            </a:ln>
            <a:effectLst>
              <a:outerShdw dist="107932" dir="8100000" blurRad="0" rotWithShape="0">
                <a:srgbClr val="f9f5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5045040" y="2932200"/>
              <a:ext cx="9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arpa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659" name=""/>
          <p:cNvGrpSpPr/>
          <p:nvPr/>
        </p:nvGrpSpPr>
        <p:grpSpPr>
          <a:xfrm>
            <a:off x="3772080" y="3949560"/>
            <a:ext cx="2726280" cy="1158840"/>
            <a:chOff x="3772080" y="3949560"/>
            <a:chExt cx="2726280" cy="1158840"/>
          </a:xfrm>
        </p:grpSpPr>
        <p:sp>
          <p:nvSpPr>
            <p:cNvPr id="2660" name=""/>
            <p:cNvSpPr/>
            <p:nvPr/>
          </p:nvSpPr>
          <p:spPr>
            <a:xfrm flipV="1">
              <a:off x="4346640" y="4022280"/>
              <a:ext cx="1022400" cy="406440"/>
            </a:xfrm>
            <a:prstGeom prst="line">
              <a:avLst/>
            </a:prstGeom>
            <a:ln w="38160">
              <a:solidFill>
                <a:srgbClr val="b98d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 flipH="1" flipV="1">
              <a:off x="5474880" y="3949560"/>
              <a:ext cx="771480" cy="525600"/>
            </a:xfrm>
            <a:prstGeom prst="line">
              <a:avLst/>
            </a:prstGeom>
            <a:ln w="38160">
              <a:solidFill>
                <a:srgbClr val="b98d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2662" name=""/>
            <p:cNvGrpSpPr/>
            <p:nvPr/>
          </p:nvGrpSpPr>
          <p:grpSpPr>
            <a:xfrm>
              <a:off x="3772080" y="4083120"/>
              <a:ext cx="2726280" cy="1025280"/>
              <a:chOff x="3772080" y="4083120"/>
              <a:chExt cx="2726280" cy="1025280"/>
            </a:xfrm>
          </p:grpSpPr>
          <p:sp>
            <p:nvSpPr>
              <p:cNvPr id="2663" name=""/>
              <p:cNvSpPr/>
              <p:nvPr/>
            </p:nvSpPr>
            <p:spPr>
              <a:xfrm>
                <a:off x="5440320" y="4083120"/>
                <a:ext cx="0" cy="374760"/>
              </a:xfrm>
              <a:prstGeom prst="line">
                <a:avLst/>
              </a:prstGeom>
              <a:ln w="38160">
                <a:solidFill>
                  <a:srgbClr val="b98d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4026960" y="4433760"/>
                <a:ext cx="247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9f5e1"/>
                    </a:solidFill>
                    <a:latin typeface="Arial"/>
                  </a:rPr>
                  <a:t>202     203    210</a:t>
                </a:r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4346640" y="4867200"/>
                <a:ext cx="0" cy="241200"/>
              </a:xfrm>
              <a:prstGeom prst="line">
                <a:avLst/>
              </a:prstGeom>
              <a:ln w="38160">
                <a:solidFill>
                  <a:srgbClr val="b98d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4056120" y="4483080"/>
                <a:ext cx="608040" cy="378000"/>
              </a:xfrm>
              <a:prstGeom prst="rect">
                <a:avLst/>
              </a:prstGeom>
              <a:noFill/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3772080" y="4411800"/>
                <a:ext cx="1233360" cy="5364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325592"/>
                </a:solidFill>
                <a:miter/>
              </a:ln>
              <a:effectLst>
                <a:outerShdw dist="107932" dir="8100000" blurRad="0" rotWithShape="0">
                  <a:srgbClr val="f9f5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4074480" y="44402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202</a:t>
                </a:r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9" name=""/>
          <p:cNvGrpSpPr/>
          <p:nvPr/>
        </p:nvGrpSpPr>
        <p:grpSpPr>
          <a:xfrm>
            <a:off x="3816360" y="5567400"/>
            <a:ext cx="1233360" cy="745560"/>
            <a:chOff x="3816360" y="5567400"/>
            <a:chExt cx="1233360" cy="745560"/>
          </a:xfrm>
        </p:grpSpPr>
        <p:sp>
          <p:nvSpPr>
            <p:cNvPr id="2670" name=""/>
            <p:cNvSpPr/>
            <p:nvPr/>
          </p:nvSpPr>
          <p:spPr>
            <a:xfrm>
              <a:off x="4084560" y="5846400"/>
              <a:ext cx="592200" cy="36000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384800" y="5567400"/>
              <a:ext cx="0" cy="241200"/>
            </a:xfrm>
            <a:prstGeom prst="line">
              <a:avLst/>
            </a:prstGeom>
            <a:ln w="38160">
              <a:solidFill>
                <a:srgbClr val="b98d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190040" y="58165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9f5e1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3816360" y="5776560"/>
              <a:ext cx="1233360" cy="536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325592"/>
              </a:solidFill>
              <a:miter/>
            </a:ln>
            <a:effectLst>
              <a:outerShdw dist="107932" dir="8100000" blurRad="0" rotWithShape="0">
                <a:srgbClr val="f9f5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118760" y="5805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675" name=""/>
          <p:cNvSpPr/>
          <p:nvPr/>
        </p:nvSpPr>
        <p:spPr>
          <a:xfrm>
            <a:off x="5448240" y="3468600"/>
            <a:ext cx="14400" cy="20484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4892760" y="3586320"/>
            <a:ext cx="1233360" cy="536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  <a:effectLst>
            <a:outerShdw dist="107932" dir="8100000" blurRad="0" rotWithShape="0">
              <a:srgbClr val="f9f5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4919040" y="362916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n-addr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678" name=""/>
          <p:cNvGrpSpPr/>
          <p:nvPr/>
        </p:nvGrpSpPr>
        <p:grpSpPr>
          <a:xfrm>
            <a:off x="3801960" y="5065560"/>
            <a:ext cx="1233720" cy="536400"/>
            <a:chOff x="3801960" y="5065560"/>
            <a:chExt cx="1233720" cy="536400"/>
          </a:xfrm>
        </p:grpSpPr>
        <p:sp>
          <p:nvSpPr>
            <p:cNvPr id="2679" name=""/>
            <p:cNvSpPr/>
            <p:nvPr/>
          </p:nvSpPr>
          <p:spPr>
            <a:xfrm>
              <a:off x="4084560" y="5157720"/>
              <a:ext cx="592200" cy="3603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190040" y="5114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9f5e1"/>
                  </a:solidFill>
                  <a:latin typeface="Arial"/>
                </a:rPr>
                <a:t>64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801960" y="5065560"/>
              <a:ext cx="1233720" cy="536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325592"/>
              </a:solidFill>
              <a:miter/>
            </a:ln>
            <a:effectLst>
              <a:outerShdw dist="107932" dir="8100000" blurRad="0" rotWithShape="0">
                <a:srgbClr val="f9f5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104360" y="5094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683" name=""/>
          <p:cNvSpPr/>
          <p:nvPr/>
        </p:nvSpPr>
        <p:spPr>
          <a:xfrm>
            <a:off x="2854800" y="44323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RIR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2882880" y="51055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ISP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2090160" y="585792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Customer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5904000" y="3416400"/>
            <a:ext cx="1827000" cy="766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7477200" y="4071960"/>
            <a:ext cx="1233360" cy="536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  <a:effectLst>
            <a:outerShdw dist="107932" dir="81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IP6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7128000" y="3443400"/>
            <a:ext cx="750600" cy="61884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89" name="">
            <a:hlinkClick r:id="" action="ppaction://hlinkshowjump?jump=nextslide"/>
          </p:cNvPr>
          <p:cNvSpPr/>
          <p:nvPr/>
        </p:nvSpPr>
        <p:spPr>
          <a:xfrm>
            <a:off x="6392880" y="5072040"/>
            <a:ext cx="2698560" cy="1370160"/>
          </a:xfrm>
          <a:custGeom>
            <a:avLst/>
            <a:gdLst/>
            <a:ahLst/>
            <a:rect l="l" t="t" r="r" b="b"/>
            <a:pathLst>
              <a:path w="1370" h="1160">
                <a:moveTo>
                  <a:pt x="642" y="161"/>
                </a:moveTo>
                <a:cubicBezTo>
                  <a:pt x="506" y="115"/>
                  <a:pt x="558" y="131"/>
                  <a:pt x="489" y="110"/>
                </a:cubicBezTo>
                <a:cubicBezTo>
                  <a:pt x="475" y="113"/>
                  <a:pt x="461" y="114"/>
                  <a:pt x="447" y="118"/>
                </a:cubicBezTo>
                <a:cubicBezTo>
                  <a:pt x="430" y="123"/>
                  <a:pt x="396" y="135"/>
                  <a:pt x="396" y="135"/>
                </a:cubicBezTo>
                <a:cubicBezTo>
                  <a:pt x="345" y="170"/>
                  <a:pt x="351" y="183"/>
                  <a:pt x="320" y="228"/>
                </a:cubicBezTo>
                <a:cubicBezTo>
                  <a:pt x="314" y="251"/>
                  <a:pt x="322" y="282"/>
                  <a:pt x="303" y="296"/>
                </a:cubicBezTo>
                <a:cubicBezTo>
                  <a:pt x="296" y="302"/>
                  <a:pt x="286" y="289"/>
                  <a:pt x="277" y="288"/>
                </a:cubicBezTo>
                <a:cubicBezTo>
                  <a:pt x="252" y="284"/>
                  <a:pt x="226" y="282"/>
                  <a:pt x="201" y="279"/>
                </a:cubicBezTo>
                <a:cubicBezTo>
                  <a:pt x="115" y="298"/>
                  <a:pt x="146" y="281"/>
                  <a:pt x="100" y="313"/>
                </a:cubicBezTo>
                <a:cubicBezTo>
                  <a:pt x="72" y="355"/>
                  <a:pt x="51" y="399"/>
                  <a:pt x="23" y="440"/>
                </a:cubicBezTo>
                <a:cubicBezTo>
                  <a:pt x="17" y="457"/>
                  <a:pt x="0" y="474"/>
                  <a:pt x="6" y="491"/>
                </a:cubicBezTo>
                <a:cubicBezTo>
                  <a:pt x="13" y="510"/>
                  <a:pt x="10" y="535"/>
                  <a:pt x="23" y="550"/>
                </a:cubicBezTo>
                <a:cubicBezTo>
                  <a:pt x="46" y="577"/>
                  <a:pt x="71" y="583"/>
                  <a:pt x="100" y="593"/>
                </a:cubicBezTo>
                <a:cubicBezTo>
                  <a:pt x="79" y="651"/>
                  <a:pt x="51" y="707"/>
                  <a:pt x="23" y="762"/>
                </a:cubicBezTo>
                <a:cubicBezTo>
                  <a:pt x="9" y="823"/>
                  <a:pt x="10" y="801"/>
                  <a:pt x="23" y="897"/>
                </a:cubicBezTo>
                <a:cubicBezTo>
                  <a:pt x="42" y="1040"/>
                  <a:pt x="133" y="1052"/>
                  <a:pt x="252" y="1084"/>
                </a:cubicBezTo>
                <a:cubicBezTo>
                  <a:pt x="288" y="1109"/>
                  <a:pt x="328" y="1109"/>
                  <a:pt x="371" y="1118"/>
                </a:cubicBezTo>
                <a:cubicBezTo>
                  <a:pt x="408" y="1105"/>
                  <a:pt x="443" y="1102"/>
                  <a:pt x="481" y="1092"/>
                </a:cubicBezTo>
                <a:cubicBezTo>
                  <a:pt x="498" y="1088"/>
                  <a:pt x="532" y="1075"/>
                  <a:pt x="532" y="1075"/>
                </a:cubicBezTo>
                <a:cubicBezTo>
                  <a:pt x="552" y="1095"/>
                  <a:pt x="571" y="1115"/>
                  <a:pt x="591" y="1135"/>
                </a:cubicBezTo>
                <a:cubicBezTo>
                  <a:pt x="595" y="1139"/>
                  <a:pt x="671" y="1156"/>
                  <a:pt x="684" y="1160"/>
                </a:cubicBezTo>
                <a:cubicBezTo>
                  <a:pt x="757" y="1143"/>
                  <a:pt x="832" y="1141"/>
                  <a:pt x="904" y="1118"/>
                </a:cubicBezTo>
                <a:cubicBezTo>
                  <a:pt x="927" y="1083"/>
                  <a:pt x="941" y="1050"/>
                  <a:pt x="964" y="1016"/>
                </a:cubicBezTo>
                <a:cubicBezTo>
                  <a:pt x="975" y="983"/>
                  <a:pt x="985" y="968"/>
                  <a:pt x="1014" y="948"/>
                </a:cubicBezTo>
                <a:cubicBezTo>
                  <a:pt x="1068" y="958"/>
                  <a:pt x="1096" y="966"/>
                  <a:pt x="1150" y="957"/>
                </a:cubicBezTo>
                <a:cubicBezTo>
                  <a:pt x="1167" y="951"/>
                  <a:pt x="1188" y="945"/>
                  <a:pt x="1201" y="931"/>
                </a:cubicBezTo>
                <a:cubicBezTo>
                  <a:pt x="1217" y="913"/>
                  <a:pt x="1243" y="872"/>
                  <a:pt x="1243" y="872"/>
                </a:cubicBezTo>
                <a:cubicBezTo>
                  <a:pt x="1253" y="835"/>
                  <a:pt x="1246" y="788"/>
                  <a:pt x="1226" y="753"/>
                </a:cubicBezTo>
                <a:cubicBezTo>
                  <a:pt x="1216" y="735"/>
                  <a:pt x="1192" y="703"/>
                  <a:pt x="1192" y="703"/>
                </a:cubicBezTo>
                <a:cubicBezTo>
                  <a:pt x="1270" y="664"/>
                  <a:pt x="1344" y="584"/>
                  <a:pt x="1370" y="499"/>
                </a:cubicBezTo>
                <a:cubicBezTo>
                  <a:pt x="1367" y="482"/>
                  <a:pt x="1361" y="434"/>
                  <a:pt x="1353" y="415"/>
                </a:cubicBezTo>
                <a:cubicBezTo>
                  <a:pt x="1318" y="334"/>
                  <a:pt x="1244" y="315"/>
                  <a:pt x="1167" y="305"/>
                </a:cubicBezTo>
                <a:cubicBezTo>
                  <a:pt x="1141" y="266"/>
                  <a:pt x="1157" y="259"/>
                  <a:pt x="1167" y="211"/>
                </a:cubicBezTo>
                <a:cubicBezTo>
                  <a:pt x="1141" y="115"/>
                  <a:pt x="1097" y="88"/>
                  <a:pt x="1014" y="33"/>
                </a:cubicBezTo>
                <a:cubicBezTo>
                  <a:pt x="992" y="18"/>
                  <a:pt x="963" y="16"/>
                  <a:pt x="938" y="8"/>
                </a:cubicBezTo>
                <a:cubicBezTo>
                  <a:pt x="930" y="5"/>
                  <a:pt x="913" y="0"/>
                  <a:pt x="913" y="0"/>
                </a:cubicBezTo>
                <a:cubicBezTo>
                  <a:pt x="856" y="13"/>
                  <a:pt x="799" y="33"/>
                  <a:pt x="743" y="50"/>
                </a:cubicBezTo>
                <a:cubicBezTo>
                  <a:pt x="726" y="61"/>
                  <a:pt x="703" y="67"/>
                  <a:pt x="692" y="84"/>
                </a:cubicBezTo>
                <a:cubicBezTo>
                  <a:pt x="687" y="93"/>
                  <a:pt x="684" y="103"/>
                  <a:pt x="676" y="110"/>
                </a:cubicBezTo>
                <a:cubicBezTo>
                  <a:pt x="625" y="155"/>
                  <a:pt x="608" y="127"/>
                  <a:pt x="642" y="161"/>
                </a:cubicBezTo>
                <a:close/>
              </a:path>
            </a:pathLst>
          </a:custGeom>
          <a:solidFill>
            <a:srgbClr val="00ff00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6621480" y="5587920"/>
            <a:ext cx="20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v6 Addresses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 flipH="1">
            <a:off x="7870680" y="4587840"/>
            <a:ext cx="292320" cy="531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771560" y="760320"/>
            <a:ext cx="0" cy="0"/>
          </a:xfrm>
          <a:prstGeom prst="line">
            <a:avLst/>
          </a:prstGeom>
          <a:ln w="936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2695" name=""/>
          <p:cNvGrpSpPr/>
          <p:nvPr/>
        </p:nvGrpSpPr>
        <p:grpSpPr>
          <a:xfrm>
            <a:off x="1974960" y="2508120"/>
            <a:ext cx="1233360" cy="663480"/>
            <a:chOff x="1974960" y="2508120"/>
            <a:chExt cx="1233360" cy="663480"/>
          </a:xfrm>
        </p:grpSpPr>
        <p:sp>
          <p:nvSpPr>
            <p:cNvPr id="2696" name=""/>
            <p:cNvSpPr/>
            <p:nvPr/>
          </p:nvSpPr>
          <p:spPr>
            <a:xfrm flipH="1">
              <a:off x="2838240" y="2508120"/>
              <a:ext cx="361800" cy="18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2697" name=""/>
            <p:cNvGrpSpPr/>
            <p:nvPr/>
          </p:nvGrpSpPr>
          <p:grpSpPr>
            <a:xfrm>
              <a:off x="1974960" y="2635200"/>
              <a:ext cx="1233360" cy="536400"/>
              <a:chOff x="1974960" y="2635200"/>
              <a:chExt cx="1233360" cy="536400"/>
            </a:xfrm>
          </p:grpSpPr>
          <p:sp>
            <p:nvSpPr>
              <p:cNvPr id="2698" name=""/>
              <p:cNvSpPr/>
              <p:nvPr/>
            </p:nvSpPr>
            <p:spPr>
              <a:xfrm>
                <a:off x="2257200" y="2727360"/>
                <a:ext cx="591840" cy="360360"/>
              </a:xfrm>
              <a:prstGeom prst="rect">
                <a:avLst/>
              </a:prstGeom>
              <a:noFill/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2362680" y="26845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9f5e1"/>
                    </a:solidFill>
                    <a:latin typeface="Arial"/>
                  </a:rPr>
                  <a:t>64</a:t>
                </a:r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1974960" y="2635200"/>
                <a:ext cx="1233360" cy="5364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325592"/>
                </a:solidFill>
                <a:miter/>
              </a:ln>
              <a:effectLst>
                <a:outerShdw dist="107932" dir="8100000" blurRad="0" rotWithShape="0">
                  <a:srgbClr val="f9f5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2276640" y="2663640"/>
                <a:ext cx="65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H1</a:t>
                </a:r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2" name=""/>
          <p:cNvGrpSpPr/>
          <p:nvPr/>
        </p:nvGrpSpPr>
        <p:grpSpPr>
          <a:xfrm>
            <a:off x="1959120" y="4051440"/>
            <a:ext cx="1233360" cy="895320"/>
            <a:chOff x="1959120" y="4051440"/>
            <a:chExt cx="1233360" cy="895320"/>
          </a:xfrm>
        </p:grpSpPr>
        <p:sp>
          <p:nvSpPr>
            <p:cNvPr id="2703" name=""/>
            <p:cNvSpPr/>
            <p:nvPr/>
          </p:nvSpPr>
          <p:spPr>
            <a:xfrm>
              <a:off x="1959120" y="4410000"/>
              <a:ext cx="1233360" cy="536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325592"/>
              </a:solidFill>
              <a:miter/>
            </a:ln>
            <a:effectLst>
              <a:outerShdw dist="107932" dir="8100000" blurRad="0" rotWithShape="0">
                <a:srgbClr val="f9f5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195280" y="4438800"/>
              <a:ext cx="7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H10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583000" y="4051440"/>
              <a:ext cx="0" cy="363240"/>
            </a:xfrm>
            <a:prstGeom prst="line">
              <a:avLst/>
            </a:prstGeom>
            <a:ln w="38160">
              <a:solidFill>
                <a:srgbClr val="f9f5e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706" name=""/>
          <p:cNvGrpSpPr/>
          <p:nvPr/>
        </p:nvGrpSpPr>
        <p:grpSpPr>
          <a:xfrm>
            <a:off x="1963800" y="3205080"/>
            <a:ext cx="1233360" cy="866880"/>
            <a:chOff x="1963800" y="3205080"/>
            <a:chExt cx="1233360" cy="866880"/>
          </a:xfrm>
        </p:grpSpPr>
        <p:sp>
          <p:nvSpPr>
            <p:cNvPr id="2707" name=""/>
            <p:cNvSpPr/>
            <p:nvPr/>
          </p:nvSpPr>
          <p:spPr>
            <a:xfrm>
              <a:off x="1963800" y="3535200"/>
              <a:ext cx="1233360" cy="536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325592"/>
              </a:solidFill>
              <a:miter/>
            </a:ln>
            <a:effectLst>
              <a:outerShdw dist="107932" dir="8100000" blurRad="0" rotWithShape="0">
                <a:srgbClr val="f9f5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222640" y="356400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H8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583000" y="3205080"/>
              <a:ext cx="0" cy="363600"/>
            </a:xfrm>
            <a:prstGeom prst="line">
              <a:avLst/>
            </a:prstGeom>
            <a:ln w="38160">
              <a:solidFill>
                <a:srgbClr val="f9f5e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710" name=""/>
          <p:cNvGrpSpPr/>
          <p:nvPr/>
        </p:nvGrpSpPr>
        <p:grpSpPr>
          <a:xfrm>
            <a:off x="1973160" y="4952880"/>
            <a:ext cx="1233720" cy="881280"/>
            <a:chOff x="1973160" y="4952880"/>
            <a:chExt cx="1233720" cy="881280"/>
          </a:xfrm>
        </p:grpSpPr>
        <p:sp>
          <p:nvSpPr>
            <p:cNvPr id="2711" name=""/>
            <p:cNvSpPr/>
            <p:nvPr/>
          </p:nvSpPr>
          <p:spPr>
            <a:xfrm>
              <a:off x="1973160" y="5297400"/>
              <a:ext cx="1233720" cy="536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325592"/>
              </a:solidFill>
              <a:miter/>
            </a:ln>
            <a:effectLst>
              <a:outerShdw dist="107932" dir="8100000" blurRad="0" rotWithShape="0">
                <a:srgbClr val="f9f5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211120" y="5342040"/>
              <a:ext cx="7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H12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570040" y="4952880"/>
              <a:ext cx="0" cy="363600"/>
            </a:xfrm>
            <a:prstGeom prst="line">
              <a:avLst/>
            </a:prstGeom>
            <a:ln w="38160">
              <a:solidFill>
                <a:srgbClr val="f9f5e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714" name=""/>
          <p:cNvGrpSpPr/>
          <p:nvPr/>
        </p:nvGrpSpPr>
        <p:grpSpPr>
          <a:xfrm>
            <a:off x="1971720" y="5799240"/>
            <a:ext cx="1233360" cy="895320"/>
            <a:chOff x="1971720" y="5799240"/>
            <a:chExt cx="1233360" cy="895320"/>
          </a:xfrm>
        </p:grpSpPr>
        <p:sp>
          <p:nvSpPr>
            <p:cNvPr id="2715" name=""/>
            <p:cNvSpPr/>
            <p:nvPr/>
          </p:nvSpPr>
          <p:spPr>
            <a:xfrm>
              <a:off x="1971720" y="6157800"/>
              <a:ext cx="1233360" cy="536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325592"/>
              </a:solidFill>
              <a:miter/>
            </a:ln>
            <a:effectLst>
              <a:outerShdw dist="107932" dir="8100000" blurRad="0" rotWithShape="0">
                <a:srgbClr val="f9f5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168280" y="6199200"/>
              <a:ext cx="7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H32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570040" y="5799240"/>
              <a:ext cx="0" cy="363600"/>
            </a:xfrm>
            <a:prstGeom prst="line">
              <a:avLst/>
            </a:prstGeom>
            <a:ln w="38160">
              <a:solidFill>
                <a:srgbClr val="f9f5e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718" name=""/>
          <p:cNvGrpSpPr/>
          <p:nvPr/>
        </p:nvGrpSpPr>
        <p:grpSpPr>
          <a:xfrm>
            <a:off x="3238560" y="2854440"/>
            <a:ext cx="4738320" cy="975600"/>
            <a:chOff x="3238560" y="2854440"/>
            <a:chExt cx="4738320" cy="975600"/>
          </a:xfrm>
        </p:grpSpPr>
        <p:sp>
          <p:nvSpPr>
            <p:cNvPr id="2719" name=""/>
            <p:cNvSpPr/>
            <p:nvPr/>
          </p:nvSpPr>
          <p:spPr>
            <a:xfrm>
              <a:off x="3238560" y="2854440"/>
              <a:ext cx="3927240" cy="887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537000" y="2863800"/>
              <a:ext cx="631800" cy="887400"/>
            </a:xfrm>
            <a:prstGeom prst="downArrow">
              <a:avLst>
                <a:gd name="adj1" fmla="val 50000"/>
                <a:gd name="adj2" fmla="val 35114"/>
              </a:avLst>
            </a:prstGeom>
            <a:solidFill>
              <a:srgbClr val="ff6600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P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372440" y="337032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9f5e1"/>
                  </a:solidFill>
                  <a:latin typeface="Arial"/>
                  <a:ea typeface="Arial"/>
                </a:rPr>
                <a:t>/32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722" name=""/>
          <p:cNvGrpSpPr/>
          <p:nvPr/>
        </p:nvGrpSpPr>
        <p:grpSpPr>
          <a:xfrm>
            <a:off x="3238560" y="2838600"/>
            <a:ext cx="4752720" cy="1893240"/>
            <a:chOff x="3238560" y="2838600"/>
            <a:chExt cx="4752720" cy="1893240"/>
          </a:xfrm>
        </p:grpSpPr>
        <p:sp>
          <p:nvSpPr>
            <p:cNvPr id="2723" name=""/>
            <p:cNvSpPr/>
            <p:nvPr/>
          </p:nvSpPr>
          <p:spPr>
            <a:xfrm>
              <a:off x="3238560" y="3768840"/>
              <a:ext cx="3927240" cy="88740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465800" y="2838600"/>
              <a:ext cx="658800" cy="1828800"/>
            </a:xfrm>
            <a:prstGeom prst="downArrow">
              <a:avLst>
                <a:gd name="adj1" fmla="val 50000"/>
                <a:gd name="adj2" fmla="val 69399"/>
              </a:avLst>
            </a:prstGeom>
            <a:solidFill>
              <a:srgbClr val="ff6600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wnstream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P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7386840" y="427212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9f5e1"/>
                  </a:solidFill>
                  <a:latin typeface="Arial"/>
                  <a:ea typeface="Arial"/>
                </a:rPr>
                <a:t>/40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726" name=""/>
          <p:cNvGrpSpPr/>
          <p:nvPr/>
        </p:nvGrpSpPr>
        <p:grpSpPr>
          <a:xfrm>
            <a:off x="3251160" y="2863800"/>
            <a:ext cx="4752720" cy="2795040"/>
            <a:chOff x="3251160" y="2863800"/>
            <a:chExt cx="4752720" cy="2795040"/>
          </a:xfrm>
        </p:grpSpPr>
        <p:sp>
          <p:nvSpPr>
            <p:cNvPr id="2727" name=""/>
            <p:cNvSpPr/>
            <p:nvPr/>
          </p:nvSpPr>
          <p:spPr>
            <a:xfrm>
              <a:off x="3251160" y="4697280"/>
              <a:ext cx="3927600" cy="887400"/>
            </a:xfrm>
            <a:prstGeom prst="rect">
              <a:avLst/>
            </a:prstGeom>
            <a:solidFill>
              <a:srgbClr val="ff0066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367240" y="2863800"/>
              <a:ext cx="644760" cy="2700360"/>
            </a:xfrm>
            <a:prstGeom prst="downArrow">
              <a:avLst>
                <a:gd name="adj1" fmla="val 50000"/>
                <a:gd name="adj2" fmla="val 104704"/>
              </a:avLst>
            </a:prstGeom>
            <a:solidFill>
              <a:srgbClr val="ff6600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stomer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399440" y="519912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9f5e1"/>
                  </a:solidFill>
                  <a:latin typeface="Arial"/>
                  <a:ea typeface="Arial"/>
                </a:rPr>
                <a:t>/48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730" name=""/>
          <p:cNvGrpSpPr/>
          <p:nvPr/>
        </p:nvGrpSpPr>
        <p:grpSpPr>
          <a:xfrm>
            <a:off x="3265560" y="2863800"/>
            <a:ext cx="4949280" cy="3637080"/>
            <a:chOff x="3265560" y="2863800"/>
            <a:chExt cx="4949280" cy="3637080"/>
          </a:xfrm>
        </p:grpSpPr>
        <p:sp>
          <p:nvSpPr>
            <p:cNvPr id="2731" name=""/>
            <p:cNvSpPr/>
            <p:nvPr/>
          </p:nvSpPr>
          <p:spPr>
            <a:xfrm>
              <a:off x="3265560" y="5613480"/>
              <a:ext cx="3927240" cy="8874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334200" y="2863800"/>
              <a:ext cx="671400" cy="3630600"/>
            </a:xfrm>
            <a:prstGeom prst="downArrow">
              <a:avLst>
                <a:gd name="adj1" fmla="val 50000"/>
                <a:gd name="adj2" fmla="val 135188"/>
              </a:avLst>
            </a:prstGeom>
            <a:solidFill>
              <a:srgbClr val="ff6600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ices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441200" y="6019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9f5e1"/>
                  </a:solidFill>
                  <a:latin typeface="Arial"/>
                  <a:ea typeface="Arial"/>
                </a:rPr>
                <a:t>/128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2734" name=""/>
          <p:cNvGrpSpPr/>
          <p:nvPr/>
        </p:nvGrpSpPr>
        <p:grpSpPr>
          <a:xfrm>
            <a:off x="1292400" y="128520"/>
            <a:ext cx="3798720" cy="2386080"/>
            <a:chOff x="1292400" y="128520"/>
            <a:chExt cx="3798720" cy="2386080"/>
          </a:xfrm>
        </p:grpSpPr>
        <p:sp>
          <p:nvSpPr>
            <p:cNvPr id="2735" name=""/>
            <p:cNvSpPr/>
            <p:nvPr/>
          </p:nvSpPr>
          <p:spPr>
            <a:xfrm>
              <a:off x="1603440" y="619200"/>
              <a:ext cx="226800" cy="708120"/>
            </a:xfrm>
            <a:prstGeom prst="line">
              <a:avLst/>
            </a:prstGeom>
            <a:ln w="38160">
              <a:solidFill>
                <a:srgbClr val="b98d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1603440" y="592200"/>
              <a:ext cx="2557440" cy="798480"/>
            </a:xfrm>
            <a:prstGeom prst="line">
              <a:avLst/>
            </a:prstGeom>
            <a:ln w="38160">
              <a:solidFill>
                <a:srgbClr val="b98d1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3857760" y="1317600"/>
              <a:ext cx="1233360" cy="536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325592"/>
              </a:solidFill>
              <a:miter/>
            </a:ln>
            <a:effectLst>
              <a:outerShdw dist="107932" dir="81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140360" y="1333440"/>
              <a:ext cx="83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2739" name=""/>
            <p:cNvGrpSpPr/>
            <p:nvPr/>
          </p:nvGrpSpPr>
          <p:grpSpPr>
            <a:xfrm>
              <a:off x="1292400" y="1344600"/>
              <a:ext cx="1233360" cy="536400"/>
              <a:chOff x="1292400" y="1344600"/>
              <a:chExt cx="1233360" cy="536400"/>
            </a:xfrm>
          </p:grpSpPr>
          <p:sp>
            <p:nvSpPr>
              <p:cNvPr id="2740" name=""/>
              <p:cNvSpPr/>
              <p:nvPr/>
            </p:nvSpPr>
            <p:spPr>
              <a:xfrm>
                <a:off x="1292400" y="1344600"/>
                <a:ext cx="1233360" cy="5364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325592"/>
                </a:solidFill>
                <a:miter/>
              </a:ln>
              <a:effectLst>
                <a:outerShdw dist="107932" dir="8100000" blurRad="0" rotWithShape="0">
                  <a:srgbClr val="f9f5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1479600" y="1347840"/>
                <a:ext cx="91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arpa</a:t>
                </a:r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2742" name=""/>
            <p:cNvSpPr/>
            <p:nvPr/>
          </p:nvSpPr>
          <p:spPr>
            <a:xfrm>
              <a:off x="2003400" y="1914480"/>
              <a:ext cx="844560" cy="2001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2633760" y="1978200"/>
              <a:ext cx="1233360" cy="536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325592"/>
              </a:solidFill>
              <a:miter/>
            </a:ln>
            <a:effectLst>
              <a:outerShdw dist="107932" dir="81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6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H="1">
              <a:off x="3735000" y="1846440"/>
              <a:ext cx="1065240" cy="25524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1363320" y="12852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9f5e1"/>
                  </a:solidFill>
                  <a:latin typeface="Arial"/>
                  <a:ea typeface="Arial"/>
                </a:rPr>
                <a:t>Root DNS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2746" name=""/>
          <p:cNvSpPr/>
          <p:nvPr/>
        </p:nvSpPr>
        <p:spPr>
          <a:xfrm>
            <a:off x="3659040" y="372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3284640" y="603360"/>
            <a:ext cx="57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  <a:ea typeface="Arial"/>
              </a:rPr>
              <a:t>b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.a.9.8.7.6.5.0.4.0.0.0.3.0.0.0.2.0.0.0.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Arial"/>
              </a:rPr>
              <a:t>1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.0.0.0.</a:t>
            </a:r>
            <a:r>
              <a:rPr b="1" lang="en-US" sz="1400" spc="-1" strike="noStrike">
                <a:solidFill>
                  <a:srgbClr val="ff66ff"/>
                </a:solidFill>
                <a:latin typeface="Arial"/>
                <a:ea typeface="Arial"/>
              </a:rPr>
              <a:t>0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.0.0.0.1.2.3.</a:t>
            </a:r>
            <a:r>
              <a:rPr b="1" lang="en-US" sz="1400" spc="-1" strike="noStrike">
                <a:solidFill>
                  <a:srgbClr val="ccccff"/>
                </a:solidFill>
                <a:latin typeface="Arial"/>
                <a:ea typeface="Arial"/>
              </a:rPr>
              <a:t>4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.ip6.arpa.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693720" y="735120"/>
            <a:ext cx="2673360" cy="5624280"/>
          </a:xfrm>
          <a:custGeom>
            <a:avLst/>
            <a:gdLst/>
            <a:ahLst/>
            <a:rect l="l" t="t" r="r" b="b"/>
            <a:pathLst>
              <a:path w="1684" h="3543">
                <a:moveTo>
                  <a:pt x="1684" y="0"/>
                </a:moveTo>
                <a:cubicBezTo>
                  <a:pt x="964" y="302"/>
                  <a:pt x="244" y="604"/>
                  <a:pt x="122" y="1195"/>
                </a:cubicBezTo>
                <a:cubicBezTo>
                  <a:pt x="0" y="1786"/>
                  <a:pt x="813" y="3152"/>
                  <a:pt x="951" y="3543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820800" y="858960"/>
            <a:ext cx="5594400" cy="4572000"/>
          </a:xfrm>
          <a:custGeom>
            <a:avLst/>
            <a:gdLst/>
            <a:ahLst/>
            <a:rect l="l" t="t" r="r" b="b"/>
            <a:pathLst>
              <a:path w="3524" h="2880">
                <a:moveTo>
                  <a:pt x="3524" y="0"/>
                </a:moveTo>
                <a:cubicBezTo>
                  <a:pt x="2222" y="249"/>
                  <a:pt x="920" y="498"/>
                  <a:pt x="460" y="978"/>
                </a:cubicBezTo>
                <a:cubicBezTo>
                  <a:pt x="0" y="1458"/>
                  <a:pt x="712" y="2559"/>
                  <a:pt x="766" y="288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841320" y="873000"/>
            <a:ext cx="6183360" cy="2826000"/>
          </a:xfrm>
          <a:custGeom>
            <a:avLst/>
            <a:gdLst/>
            <a:ahLst/>
            <a:rect l="l" t="t" r="r" b="b"/>
            <a:pathLst>
              <a:path w="3895" h="1780">
                <a:moveTo>
                  <a:pt x="3895" y="0"/>
                </a:moveTo>
                <a:cubicBezTo>
                  <a:pt x="2482" y="353"/>
                  <a:pt x="1070" y="706"/>
                  <a:pt x="535" y="1003"/>
                </a:cubicBezTo>
                <a:cubicBezTo>
                  <a:pt x="0" y="1300"/>
                  <a:pt x="654" y="1651"/>
                  <a:pt x="683" y="178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349200" y="831960"/>
            <a:ext cx="7713720" cy="2049480"/>
          </a:xfrm>
          <a:custGeom>
            <a:avLst/>
            <a:gdLst/>
            <a:ahLst/>
            <a:rect l="l" t="t" r="r" b="b"/>
            <a:pathLst>
              <a:path w="4859" h="1291">
                <a:moveTo>
                  <a:pt x="4859" y="0"/>
                </a:moveTo>
                <a:cubicBezTo>
                  <a:pt x="3073" y="320"/>
                  <a:pt x="1288" y="640"/>
                  <a:pt x="644" y="855"/>
                </a:cubicBezTo>
                <a:cubicBezTo>
                  <a:pt x="0" y="1070"/>
                  <a:pt x="496" y="1180"/>
                  <a:pt x="993" y="1291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3738600" y="860400"/>
            <a:ext cx="4451400" cy="1697040"/>
          </a:xfrm>
          <a:custGeom>
            <a:avLst/>
            <a:gdLst/>
            <a:ahLst/>
            <a:rect l="l" t="t" r="r" b="b"/>
            <a:pathLst>
              <a:path w="2804" h="1069">
                <a:moveTo>
                  <a:pt x="0" y="923"/>
                </a:moveTo>
                <a:cubicBezTo>
                  <a:pt x="592" y="996"/>
                  <a:pt x="1185" y="1069"/>
                  <a:pt x="1652" y="915"/>
                </a:cubicBezTo>
                <a:cubicBezTo>
                  <a:pt x="2119" y="761"/>
                  <a:pt x="2461" y="380"/>
                  <a:pt x="2804" y="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2514600" y="927000"/>
            <a:ext cx="6091200" cy="1198800"/>
          </a:xfrm>
          <a:custGeom>
            <a:avLst/>
            <a:gdLst/>
            <a:ahLst/>
            <a:rect l="l" t="t" r="r" b="b"/>
            <a:pathLst>
              <a:path w="3837" h="755">
                <a:moveTo>
                  <a:pt x="0" y="416"/>
                </a:moveTo>
                <a:cubicBezTo>
                  <a:pt x="423" y="259"/>
                  <a:pt x="847" y="103"/>
                  <a:pt x="1203" y="102"/>
                </a:cubicBezTo>
                <a:cubicBezTo>
                  <a:pt x="1559" y="101"/>
                  <a:pt x="1778" y="310"/>
                  <a:pt x="2135" y="407"/>
                </a:cubicBezTo>
                <a:cubicBezTo>
                  <a:pt x="2492" y="504"/>
                  <a:pt x="3062" y="755"/>
                  <a:pt x="3346" y="687"/>
                </a:cubicBezTo>
                <a:cubicBezTo>
                  <a:pt x="3630" y="619"/>
                  <a:pt x="3733" y="309"/>
                  <a:pt x="3837" y="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2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2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2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2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2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2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2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2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2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2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2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2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4" dur="500"/>
                                        <p:tgtEl>
                                          <p:spTgt spid="2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9" dur="500"/>
                                        <p:tgtEl>
                                          <p:spTgt spid="2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4" dur="500"/>
                                        <p:tgtEl>
                                          <p:spTgt spid="2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9" dur="500"/>
                                        <p:tgtEl>
                                          <p:spTgt spid="2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4" dur="500"/>
                                        <p:tgtEl>
                                          <p:spTgt spid="2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2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1000" fill="hold"/>
                                        <p:tgtEl>
                                          <p:spTgt spid="2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1" dur="10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2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1000" fill="hold"/>
                                        <p:tgtEl>
                                          <p:spTgt spid="2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8" dur="10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4" dur="10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10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6" dur="10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2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4" dur="1000"/>
                                        <p:tgtEl>
                                          <p:spTgt spid="2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0" dur="1000" fill="hold"/>
                                        <p:tgtEl>
                                          <p:spTgt spid="2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1000" fill="hold"/>
                                        <p:tgtEl>
                                          <p:spTgt spid="2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2" dur="10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8" dur="1000" fill="hold"/>
                                        <p:tgtEl>
                                          <p:spTgt spid="2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2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0" dur="10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84" dur="1" fill="hold"/>
                                  <p:tgtEl>
                                    <p:spTgt spid="2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forward looku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Multiple addresses possible for any given nam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x: in a multi-homed situ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an assign A records and AAAA records to a given name/domai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an also assign separate domains for IPv6 and IPv4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rtable &amp; non-por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Portable Assignment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ustomer addresses independent from ISP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Keeps addresses when changing ISP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Bad for size of routing tabl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Bad for QoS: routes may be filtered, flap-dampene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Non-portable Assignment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ustomer uses ISP’s address spac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Must renumber if changing ISP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Only way to effectively scale the Interne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070760" y="4514760"/>
            <a:ext cx="1871640" cy="1028880"/>
            <a:chOff x="7070760" y="4514760"/>
            <a:chExt cx="1871640" cy="1028880"/>
          </a:xfrm>
        </p:grpSpPr>
        <p:sp>
          <p:nvSpPr>
            <p:cNvPr id="288" name=""/>
            <p:cNvSpPr/>
            <p:nvPr/>
          </p:nvSpPr>
          <p:spPr>
            <a:xfrm>
              <a:off x="7070760" y="4908600"/>
              <a:ext cx="1871640" cy="3189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72280" y="5411880"/>
              <a:ext cx="290520" cy="131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99240" y="5411880"/>
              <a:ext cx="290520" cy="131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29440" y="5411880"/>
              <a:ext cx="290520" cy="131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480520" y="5408640"/>
              <a:ext cx="290520" cy="131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173360" y="5197680"/>
              <a:ext cx="101880" cy="215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65960" y="5218200"/>
              <a:ext cx="96840" cy="198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598880" y="5191200"/>
              <a:ext cx="88920" cy="219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73840" y="5214960"/>
              <a:ext cx="114480" cy="203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42200" y="5234040"/>
              <a:ext cx="77760" cy="182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8028000" y="5187960"/>
              <a:ext cx="131760" cy="236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53320" y="5184720"/>
              <a:ext cx="115920" cy="225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74120" y="4908600"/>
              <a:ext cx="104760" cy="322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62640" y="4908600"/>
              <a:ext cx="104760" cy="322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136000" y="4910040"/>
              <a:ext cx="104760" cy="322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562960" y="4910040"/>
              <a:ext cx="104760" cy="322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8478360" y="5192640"/>
              <a:ext cx="103320" cy="217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20040" y="4514760"/>
              <a:ext cx="1015920" cy="3477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170840" y="2712960"/>
            <a:ext cx="1633320" cy="496800"/>
            <a:chOff x="7170840" y="2712960"/>
            <a:chExt cx="1633320" cy="496800"/>
          </a:xfrm>
        </p:grpSpPr>
        <p:sp>
          <p:nvSpPr>
            <p:cNvPr id="307" name=""/>
            <p:cNvSpPr/>
            <p:nvPr/>
          </p:nvSpPr>
          <p:spPr>
            <a:xfrm>
              <a:off x="7205760" y="3078000"/>
              <a:ext cx="290520" cy="131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32720" y="3078000"/>
              <a:ext cx="290520" cy="131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062920" y="3078000"/>
              <a:ext cx="290520" cy="131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13640" y="3075120"/>
              <a:ext cx="290520" cy="131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70840" y="2725560"/>
              <a:ext cx="318960" cy="246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07480" y="2719440"/>
              <a:ext cx="318960" cy="245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72600" y="2712960"/>
              <a:ext cx="318960" cy="246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594560" y="2720880"/>
              <a:ext cx="318960" cy="246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623880" y="307800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3200" y="5737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44000" y="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mple forward lookup fi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761760" y="110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833400" y="1263600"/>
            <a:ext cx="8069400" cy="5272200"/>
          </a:xfrm>
          <a:prstGeom prst="roundRect">
            <a:avLst>
              <a:gd name="adj" fmla="val 16667"/>
            </a:avLst>
          </a:prstGeom>
          <a:solidFill>
            <a:srgbClr val="f9f5e1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; domain.edu  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TTL          86400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@    IN      SOA     ns1.domain.edu. root.domain.edu. (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002093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serial - YYYYMMDDXX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16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refresh - 6 hours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2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retry - 20 minutes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expire - long time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86400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minimum TTL - 24 hours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; Nameservers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s1.domain.edu.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s2.domain.edu.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; Hosts with just A records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ost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0.0.1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; Hosts with both A and AAAA records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ost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0.0.2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AA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001:468:100::2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reverse looku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858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ETF decided to restandardize IPv6 PTR RRs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hey will be found in the IP6.ARPA namespace rather than under the IP6.INT namespac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he ip6.int domains has been deprecated, but some hosts still use them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upported for backwards compatiblity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Now using ip6.arpa for revers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reverse lookups - AAAA and ip6.arp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51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ddress record four times longer than A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Quad A ( AAAA 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AAA record is a parallel to the IPv4 A recor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t specifies the entire address in a single recor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reverse lookups - AAAA and ip6.arp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f5e1"/>
                </a:solidFill>
                <a:latin typeface="Arial"/>
              </a:rPr>
              <a:t>Each level of subdomain</a:t>
            </a:r>
            <a:endParaRPr b="0" lang="en-US" sz="36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presents 4 bit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4.3.2.1.0.0.0.0.0.0.0.1.0.0.0.2.0.0.0.3.0.0.0.4.0.5.6.7.8.9.a.b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b.a.9.8.7.6.5.0.4.0.0.0.3.0.0.0.2.0.0.0.1.0.0.0.0.0.0.0.1.2.3.4.ip6.arpa.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968400" y="2325600"/>
            <a:ext cx="7907400" cy="793800"/>
          </a:xfrm>
          <a:prstGeom prst="roundRect">
            <a:avLst>
              <a:gd name="adj" fmla="val 16667"/>
            </a:avLst>
          </a:prstGeom>
          <a:solidFill>
            <a:srgbClr val="f9f5e1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1129680" y="2527200"/>
            <a:ext cx="745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v6-hos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AAA      4321:0:1:2:3:4:567:89ab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cxnSp>
        <p:nvCxnSpPr>
          <p:cNvPr id="2767" name=""/>
          <p:cNvCxnSpPr>
            <a:stCxn id="2764" idx="1"/>
            <a:endCxn id="2764" idx="1"/>
          </p:cNvCxnSpPr>
          <p:nvPr/>
        </p:nvCxnSpPr>
        <p:spPr>
          <a:xfrm flipH="1" flipV="1" rot="10800000">
            <a:off x="990360" y="4000320"/>
            <a:ext cx="2160" cy="2160"/>
          </a:xfrm>
          <a:prstGeom prst="bentConnector3">
            <a:avLst>
              <a:gd name="adj1" fmla="val -14400000"/>
            </a:avLst>
          </a:prstGeom>
          <a:ln w="12600">
            <a:solidFill>
              <a:srgbClr val="325592"/>
            </a:solidFill>
            <a:miter/>
          </a:ln>
        </p:spPr>
      </p:cxnSp>
      <p:sp>
        <p:nvSpPr>
          <p:cNvPr id="2768" name=""/>
          <p:cNvSpPr/>
          <p:nvPr/>
        </p:nvSpPr>
        <p:spPr>
          <a:xfrm>
            <a:off x="1125360" y="5035680"/>
            <a:ext cx="7043760" cy="633240"/>
          </a:xfrm>
          <a:custGeom>
            <a:avLst/>
            <a:gdLst/>
            <a:ahLst/>
            <a:rect l="l" t="t" r="r" b="b"/>
            <a:pathLst>
              <a:path w="4437" h="399">
                <a:moveTo>
                  <a:pt x="0" y="0"/>
                </a:moveTo>
                <a:cubicBezTo>
                  <a:pt x="15" y="83"/>
                  <a:pt x="31" y="167"/>
                  <a:pt x="673" y="204"/>
                </a:cubicBezTo>
                <a:cubicBezTo>
                  <a:pt x="1315" y="241"/>
                  <a:pt x="3273" y="190"/>
                  <a:pt x="3855" y="222"/>
                </a:cubicBezTo>
                <a:cubicBezTo>
                  <a:pt x="4437" y="254"/>
                  <a:pt x="4113" y="370"/>
                  <a:pt x="4165" y="399"/>
                </a:cubicBezTo>
              </a:path>
            </a:pathLst>
          </a:custGeom>
          <a:noFill/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1351080" y="5049720"/>
            <a:ext cx="6360840" cy="633600"/>
          </a:xfrm>
          <a:custGeom>
            <a:avLst/>
            <a:gdLst/>
            <a:ahLst/>
            <a:rect l="l" t="t" r="r" b="b"/>
            <a:pathLst>
              <a:path w="4007" h="399">
                <a:moveTo>
                  <a:pt x="0" y="0"/>
                </a:moveTo>
                <a:cubicBezTo>
                  <a:pt x="0" y="134"/>
                  <a:pt x="0" y="269"/>
                  <a:pt x="576" y="319"/>
                </a:cubicBezTo>
                <a:cubicBezTo>
                  <a:pt x="1152" y="369"/>
                  <a:pt x="2905" y="289"/>
                  <a:pt x="3456" y="302"/>
                </a:cubicBezTo>
                <a:cubicBezTo>
                  <a:pt x="4007" y="315"/>
                  <a:pt x="3944" y="357"/>
                  <a:pt x="3881" y="399"/>
                </a:cubicBezTo>
              </a:path>
            </a:pathLst>
          </a:custGeom>
          <a:noFill/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1165320" y="5022720"/>
            <a:ext cx="6262560" cy="717840"/>
          </a:xfrm>
          <a:custGeom>
            <a:avLst/>
            <a:gdLst/>
            <a:ahLst/>
            <a:rect l="l" t="t" r="r" b="b"/>
            <a:pathLst>
              <a:path w="3945" h="452">
                <a:moveTo>
                  <a:pt x="134" y="452"/>
                </a:moveTo>
                <a:cubicBezTo>
                  <a:pt x="67" y="395"/>
                  <a:pt x="0" y="339"/>
                  <a:pt x="223" y="283"/>
                </a:cubicBezTo>
                <a:cubicBezTo>
                  <a:pt x="446" y="227"/>
                  <a:pt x="1074" y="150"/>
                  <a:pt x="1473" y="115"/>
                </a:cubicBezTo>
                <a:cubicBezTo>
                  <a:pt x="1872" y="80"/>
                  <a:pt x="2244" y="74"/>
                  <a:pt x="2616" y="70"/>
                </a:cubicBezTo>
                <a:cubicBezTo>
                  <a:pt x="2988" y="66"/>
                  <a:pt x="3484" y="100"/>
                  <a:pt x="3706" y="88"/>
                </a:cubicBezTo>
                <a:cubicBezTo>
                  <a:pt x="3928" y="76"/>
                  <a:pt x="3936" y="38"/>
                  <a:pt x="3945" y="0"/>
                </a:cubicBezTo>
              </a:path>
            </a:pathLst>
          </a:custGeom>
          <a:noFill/>
          <a:ln w="38160">
            <a:solidFill>
              <a:srgbClr val="f9f5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766800" y="5022720"/>
            <a:ext cx="6943680" cy="674640"/>
          </a:xfrm>
          <a:custGeom>
            <a:avLst/>
            <a:gdLst/>
            <a:ahLst/>
            <a:rect l="l" t="t" r="r" b="b"/>
            <a:pathLst>
              <a:path w="4374" h="425">
                <a:moveTo>
                  <a:pt x="164" y="425"/>
                </a:moveTo>
                <a:cubicBezTo>
                  <a:pt x="82" y="343"/>
                  <a:pt x="0" y="262"/>
                  <a:pt x="120" y="203"/>
                </a:cubicBezTo>
                <a:cubicBezTo>
                  <a:pt x="240" y="144"/>
                  <a:pt x="514" y="80"/>
                  <a:pt x="882" y="70"/>
                </a:cubicBezTo>
                <a:cubicBezTo>
                  <a:pt x="1250" y="60"/>
                  <a:pt x="1800" y="128"/>
                  <a:pt x="2326" y="141"/>
                </a:cubicBezTo>
                <a:cubicBezTo>
                  <a:pt x="2852" y="154"/>
                  <a:pt x="3698" y="173"/>
                  <a:pt x="4036" y="150"/>
                </a:cubicBezTo>
                <a:cubicBezTo>
                  <a:pt x="4374" y="127"/>
                  <a:pt x="4300" y="24"/>
                  <a:pt x="4355" y="0"/>
                </a:cubicBezTo>
              </a:path>
            </a:pathLst>
          </a:custGeom>
          <a:noFill/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reverse lookups - PTR recor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9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imilar to the in-addr.arpa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Example: reverse name lookup for a host with address 3ffe:8050:201:1860:42::1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665280" y="2368440"/>
            <a:ext cx="8299440" cy="134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913680" y="2813040"/>
            <a:ext cx="828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.a.9.8.7.6.5.0.4.0.0.0.3.0.0.0.2.0.0.0.1.0.0.0.0.0.0.0.1.2.3.4.ip6.arpa.   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    PT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.ip6.example.com.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679320" y="5005440"/>
            <a:ext cx="8299440" cy="134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52400" y="5168880"/>
            <a:ext cx="8217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ORIGIN 0.6.8.1.1.0.2.0.0.5.0.8.e.f.f.3.ip6.arpa.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.0.0.0.0.0.0.0.0.0.0.0.2.4.0.0  14400  IN PTR host.example.com.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mple reverse lookup fi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833400" y="1263600"/>
            <a:ext cx="8112240" cy="5272200"/>
          </a:xfrm>
          <a:prstGeom prst="roundRect">
            <a:avLst>
              <a:gd name="adj" fmla="val 16667"/>
            </a:avLst>
          </a:prstGeom>
          <a:solidFill>
            <a:srgbClr val="f9f5e1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; 0.0.0.0.0.0.1.0.8.6.4.0.1.0.0.2.rev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; These are reverses for 2001:468:100::/64)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; File can be used for both ip6.arpa and ip6.int.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TTL          86400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@    IN      SOA     ns1.domain.edu. root.domain.edu. (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20930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serial - YYYYMMDDXX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16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refresh - 6 hours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2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retry - 20 minutes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0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expire - long time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6400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minimum TTL - 24 hours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; Nameservers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s1.domain.edu.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s2.domain.edu.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0.0.0.0.0.0.0.0.0.0.0.0.0.0.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ost1.ip6.domain.edu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.0.0.0.0.0.0.0.0.0.0.0.0.0.0.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ost2.domain.edu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;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; Can delegate to other nameservers in the usual way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;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mple configuration fi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833400" y="1263600"/>
            <a:ext cx="8112240" cy="5272200"/>
          </a:xfrm>
          <a:prstGeom prst="roundRect">
            <a:avLst>
              <a:gd name="adj" fmla="val 16667"/>
            </a:avLst>
          </a:prstGeom>
          <a:solidFill>
            <a:srgbClr val="f9f5e1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amed.conf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zone “domain.edu” {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 master;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“master/domain.edu”;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zone “0.0.0.0.0.0.1.0.8.6.4.0.1.0.0.2.ip6.int" {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 master;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"master/0.0.0.0.0.0.1.0.8.6.4.0.1.0.0.2.rev";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zone “0.0.0.0.0.0.1.0.8.6.4.0.1.0.0.2.ip6.arpa" {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 master;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"master/0.0.0.0.0.0.1.0.8.6.4.0.1.0.0.2.rev";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urrent Status – IPv6 in D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6 and Bit label specifications has been made experimenta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FC3363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ETF standardized 2 different format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AAA and A6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onfusions on which format to deplo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ore than one choice will lead to delays in the deployment of IPv6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1295280" y="228600"/>
            <a:ext cx="76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1276200" y="252360"/>
            <a:ext cx="76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Questions ?</a:t>
            </a:r>
            <a:endParaRPr b="0" lang="en-US" sz="3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1619280" y="6572160"/>
            <a:ext cx="57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erial available at: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</a:rPr>
              <a:t>www.apnic.net/training/recent/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 type="subTitle"/>
          </p:nvPr>
        </p:nvSpPr>
        <p:spPr>
          <a:xfrm>
            <a:off x="1358640" y="3849840"/>
            <a:ext cx="684828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What we have covered today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gregation and “portability”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22920" y="2365200"/>
            <a:ext cx="14040" cy="4094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8320" y="1700280"/>
            <a:ext cx="40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Aggregation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8520" y="6191280"/>
            <a:ext cx="39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(Non-portable Assignments)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99200" y="619596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(Portable Assignments)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78360" y="1708200"/>
            <a:ext cx="40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No Aggregation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71720" y="2868480"/>
            <a:ext cx="30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GP Announcement (1)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789520" y="3487680"/>
            <a:ext cx="2286000" cy="382680"/>
            <a:chOff x="5789520" y="3487680"/>
            <a:chExt cx="2286000" cy="382680"/>
          </a:xfrm>
        </p:grpSpPr>
        <p:sp>
          <p:nvSpPr>
            <p:cNvPr id="326" name=""/>
            <p:cNvSpPr/>
            <p:nvPr/>
          </p:nvSpPr>
          <p:spPr>
            <a:xfrm>
              <a:off x="5789520" y="3508200"/>
              <a:ext cx="406440" cy="3621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69080" y="3487680"/>
              <a:ext cx="406440" cy="3621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48440" y="3495600"/>
              <a:ext cx="406440" cy="3621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99000" y="3503520"/>
              <a:ext cx="406440" cy="3621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1260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508720" y="2876400"/>
            <a:ext cx="30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GP Announcements (4)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60560" y="3367080"/>
            <a:ext cx="2664000" cy="5097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11200" y="3824280"/>
            <a:ext cx="4124160" cy="1891080"/>
            <a:chOff x="511200" y="3824280"/>
            <a:chExt cx="4124160" cy="1891080"/>
          </a:xfrm>
        </p:grpSpPr>
        <p:sp>
          <p:nvSpPr>
            <p:cNvPr id="333" name=""/>
            <p:cNvSpPr/>
            <p:nvPr/>
          </p:nvSpPr>
          <p:spPr>
            <a:xfrm>
              <a:off x="511200" y="3824280"/>
              <a:ext cx="136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SP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llocation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35200" y="5316480"/>
              <a:ext cx="28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ustomer Assignments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1892160" y="3973680"/>
              <a:ext cx="2743200" cy="1222200"/>
              <a:chOff x="1892160" y="3973680"/>
              <a:chExt cx="2743200" cy="1222200"/>
            </a:xfrm>
          </p:grpSpPr>
          <p:sp>
            <p:nvSpPr>
              <p:cNvPr id="336" name=""/>
              <p:cNvSpPr/>
              <p:nvPr/>
            </p:nvSpPr>
            <p:spPr>
              <a:xfrm>
                <a:off x="1892160" y="3973680"/>
                <a:ext cx="2743200" cy="4665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46160" y="5002200"/>
                <a:ext cx="520920" cy="1936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1947600" y="4448160"/>
                <a:ext cx="220680" cy="550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325600" y="4425840"/>
                <a:ext cx="136440" cy="582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2576160" y="4440240"/>
                <a:ext cx="206280" cy="563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27520" y="4441680"/>
                <a:ext cx="168120" cy="5637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610080" y="4449600"/>
                <a:ext cx="117360" cy="5400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3214440" y="4430880"/>
                <a:ext cx="244440" cy="5698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30640" y="4440240"/>
                <a:ext cx="241200" cy="5634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776680" y="3973680"/>
                <a:ext cx="153720" cy="4712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173320" y="3973680"/>
                <a:ext cx="154080" cy="4712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452760" y="3975120"/>
                <a:ext cx="154080" cy="4730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979800" y="3975120"/>
                <a:ext cx="152640" cy="4730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3855600" y="4432320"/>
                <a:ext cx="127080" cy="566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211560" y="4997520"/>
                <a:ext cx="520560" cy="1936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54520" y="4998960"/>
                <a:ext cx="520560" cy="1936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579760" y="5000760"/>
                <a:ext cx="520560" cy="1936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3" name=""/>
          <p:cNvGrpSpPr/>
          <p:nvPr/>
        </p:nvGrpSpPr>
        <p:grpSpPr>
          <a:xfrm>
            <a:off x="5641920" y="4991040"/>
            <a:ext cx="2859120" cy="722880"/>
            <a:chOff x="5641920" y="4991040"/>
            <a:chExt cx="2859120" cy="722880"/>
          </a:xfrm>
        </p:grpSpPr>
        <p:sp>
          <p:nvSpPr>
            <p:cNvPr id="354" name=""/>
            <p:cNvSpPr/>
            <p:nvPr/>
          </p:nvSpPr>
          <p:spPr>
            <a:xfrm>
              <a:off x="5641920" y="5315040"/>
              <a:ext cx="28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ustomer Assignments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11760" y="4995720"/>
              <a:ext cx="520560" cy="193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77160" y="4991040"/>
              <a:ext cx="520560" cy="193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20120" y="4992840"/>
              <a:ext cx="520560" cy="193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45360" y="4994280"/>
              <a:ext cx="520560" cy="193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862600" y="4427640"/>
            <a:ext cx="2130480" cy="415800"/>
            <a:chOff x="5862600" y="4427640"/>
            <a:chExt cx="2130480" cy="415800"/>
          </a:xfrm>
        </p:grpSpPr>
        <p:sp>
          <p:nvSpPr>
            <p:cNvPr id="360" name=""/>
            <p:cNvSpPr/>
            <p:nvPr/>
          </p:nvSpPr>
          <p:spPr>
            <a:xfrm>
              <a:off x="7732800" y="4433760"/>
              <a:ext cx="260280" cy="406440"/>
            </a:xfrm>
            <a:prstGeom prst="upArrow">
              <a:avLst>
                <a:gd name="adj1" fmla="val 50000"/>
                <a:gd name="adj2" fmla="val 39039"/>
              </a:avLst>
            </a:prstGeom>
            <a:solidFill>
              <a:srgbClr val="ff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16840" y="4437000"/>
              <a:ext cx="260280" cy="406440"/>
            </a:xfrm>
            <a:prstGeom prst="upArrow">
              <a:avLst>
                <a:gd name="adj1" fmla="val 50000"/>
                <a:gd name="adj2" fmla="val 39039"/>
              </a:avLst>
            </a:prstGeom>
            <a:solidFill>
              <a:srgbClr val="ff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97640" y="4427640"/>
              <a:ext cx="260280" cy="406440"/>
            </a:xfrm>
            <a:prstGeom prst="upArrow">
              <a:avLst>
                <a:gd name="adj1" fmla="val 50000"/>
                <a:gd name="adj2" fmla="val 39039"/>
              </a:avLst>
            </a:prstGeom>
            <a:solidFill>
              <a:srgbClr val="ff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62600" y="4435560"/>
              <a:ext cx="260280" cy="406440"/>
            </a:xfrm>
            <a:prstGeom prst="upArrow">
              <a:avLst>
                <a:gd name="adj1" fmla="val 50000"/>
                <a:gd name="adj2" fmla="val 39039"/>
              </a:avLst>
            </a:prstGeom>
            <a:solidFill>
              <a:srgbClr val="ff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5508720" y="3908520"/>
            <a:ext cx="2808360" cy="459720"/>
            <a:chOff x="5508720" y="3908520"/>
            <a:chExt cx="2808360" cy="459720"/>
          </a:xfrm>
        </p:grpSpPr>
        <p:sp>
          <p:nvSpPr>
            <p:cNvPr id="365" name=""/>
            <p:cNvSpPr/>
            <p:nvPr/>
          </p:nvSpPr>
          <p:spPr>
            <a:xfrm>
              <a:off x="5508720" y="3933720"/>
              <a:ext cx="2808360" cy="43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91160" y="3908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9f5e1"/>
                  </a:solidFill>
                  <a:latin typeface="Arial"/>
                </a:rPr>
                <a:t>ISP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8244000" y="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/>
          </p:nvPr>
        </p:nvSpPr>
        <p:spPr>
          <a:xfrm>
            <a:off x="990360" y="120924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PNIC role in the Asia Pacific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nternet Registry Polici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PNIC Database Procedur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Preventing Spam 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verse DNS Procedur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SN Assignment Procedur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Pv6 Technical overview and Polici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IPv6 reverse delegation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mmary - responsibilit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6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As an APNIC member and custodian of address space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Be aware of your responsibiliti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4" marL="20574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Register customer assignments in APNIC databas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Keep this data up-to-date &amp; accurat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Educate your customer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Document your network in detai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Keep local record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Register reverse DNS delegation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Do the right thing”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Think about routing table size &amp; </a:t>
            </a:r>
            <a:br>
              <a:rPr sz="2800"/>
            </a:b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scalability of Interne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Encourage renumbering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Announce aggregate prefix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Think global not loca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ank you !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Your feedback is appreciate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976320" y="5867280"/>
            <a:ext cx="623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aterial available at: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ttp://www.apnic.net/training/recent/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1371600" y="26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upplementary Reading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ining materi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oday’s training material will be made available at: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1160640" y="3287880"/>
            <a:ext cx="7416720" cy="184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66"/>
                </a:solidFill>
                <a:uFillTx/>
                <a:latin typeface="Arial"/>
              </a:rPr>
              <a:t>http://www.apnic.net/training/recent/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Regional Registry web sit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PNIC: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apnic.ne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RIN: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arin.ne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LACNIC: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lacnic.ne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IPE NCC: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ripe.ne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APNIC past meeting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apnic.net/meetings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815760" y="1523520"/>
            <a:ext cx="83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APNIC member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http://www.apnic.net/members.htm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Membership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embership procedure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http://www.apnic.net/membersteps.htm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embership application form </a:t>
            </a:r>
            <a:br>
              <a:rPr sz="2400"/>
            </a:b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http://www.apnic.net/apnic-bin/membership-application.p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embership fees </a:t>
            </a:r>
            <a:br>
              <a:rPr sz="2400"/>
            </a:b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http://www.apnic.net/docs/corpdocs/FeeSchedule.htm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roduction to APNIC &amp; IP Poli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Classless techniqu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ID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ietf.org/rfc/rfc1517-19.tx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etwork Addressing when using CIDR 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ftp://ftp.uninett.no/pub/misc/eidnes-cidr.ps.Z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Variable Length Subnet Table 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ietf.org/rfc/rfc1878.tx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Private Address Spac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ddress Allocation for Private Internet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ietf.org/rfc/rfc1918.tx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ounter argument: “Unique addresses are good”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ietf.org/rfc/rfc1814.tx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t boundary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723960" y="1085400"/>
            <a:ext cx="773424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+------------------------------------------------------+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    </a:t>
            </a:r>
            <a:r>
              <a:rPr b="1" lang="en-GB" sz="1400" spc="-1" strike="noStrike">
                <a:solidFill>
                  <a:srgbClr val="f9f5e1"/>
                </a:solidFill>
                <a:latin typeface="Courier New"/>
              </a:rPr>
              <a:t>addrs   bits   pref   class   mask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+------------------------------------------------------+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        1      0    /32           255.255.255.255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        2      1    /31           255.255.255.254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        4      2    /30           255.255.255.252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        8      3    /29           255.255.255.248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       16      4    /28           255.255.255.240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       32      5    /27           255.255.255.224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       64      6    /26           255.255.255.192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      128      7    /25           255.255.255.128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      256      8    /24      1C   255.255.255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      512      9    /23      2C   255.255.254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    1,024     10    /22      4C   255.255.252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    2,048     11    /21      8C   255.255.248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    4,096     12    /20     16C   255.255.240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    8,192     13    /19     32C   255.255.224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   16,384     14    /18     64C   255.255.192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   32,768     15    /17    128C   255.255.128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   65,536     16    /16      1B   255.255    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  131,072     17    /15      2B   255.254    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  262,144     18    /14      4B   255.252    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  524,288     19    /13      8B   255.248    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1,048,576     20    /12     16B   255.240    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2,097,152     21    /11     32B   255.224    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4,194,204     22    /10     64B   255.192    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 8,388,608     23     /9    128B   255.128    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16,777,216     24     /8      1A   255        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33,554,432     25     /7      2A   254        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 67,108,864     26     /6      4A   252        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134,217,728     27     /5      8A   248        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268,435,456     28     /4     16A   240        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  536,870,912     29     /3     32A   224        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|1,073,741,824     30     /2     64A   192             |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f9f5e1"/>
                </a:solidFill>
                <a:latin typeface="Courier New"/>
              </a:rPr>
              <a:t>+------------------------------------------------------+</a:t>
            </a: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ress management 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27000" y="1989000"/>
            <a:ext cx="3689280" cy="1339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servation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fficient use of resources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ased on demonstrated need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11640" y="1943280"/>
            <a:ext cx="3703680" cy="1339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ggregation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imit routing table growth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upport provider-based routing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32000" y="4284720"/>
            <a:ext cx="3687840" cy="1339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gistration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nsure uniqueness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acilitate trouble shooting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27000" y="1989000"/>
            <a:ext cx="3689280" cy="1349640"/>
          </a:xfrm>
          <a:prstGeom prst="roundRect">
            <a:avLst>
              <a:gd name="adj" fmla="val 16667"/>
            </a:avLst>
          </a:prstGeom>
          <a:noFill/>
          <a:ln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11640" y="1943280"/>
            <a:ext cx="3689640" cy="1349280"/>
          </a:xfrm>
          <a:prstGeom prst="roundRect">
            <a:avLst>
              <a:gd name="adj" fmla="val 16667"/>
            </a:avLst>
          </a:prstGeom>
          <a:noFill/>
          <a:ln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32000" y="4284720"/>
            <a:ext cx="3689640" cy="1349280"/>
          </a:xfrm>
          <a:prstGeom prst="roundRect">
            <a:avLst>
              <a:gd name="adj" fmla="val 16667"/>
            </a:avLst>
          </a:prstGeom>
          <a:noFill/>
          <a:ln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28800" y="6272280"/>
            <a:ext cx="69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queness, fairness and consistency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44000" y="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PNIC Mailing Lis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918720" y="14526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pnic-talk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Open discussions relevant to APNIC community &amp; members 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pnic-announc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Announcements of interest to the AP community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ig-polic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IPv4 and IPv6 allocation and assignment policies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global-v6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Global IPv6 policy mailing lis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ubscribe via &lt;majordomo@apnic.net&gt;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rchives: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ftp.apnic.net/apnic/mailing-lists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9f5e1"/>
                </a:solidFill>
                <a:uFillTx/>
                <a:latin typeface="Arial"/>
              </a:rPr>
              <a:t>http://www.apnic.net/net_comm/lists/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IR Syst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917280" y="1263600"/>
            <a:ext cx="7916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9f5e1"/>
                </a:solidFill>
                <a:latin typeface="Arial"/>
              </a:rPr>
              <a:t>Development of the Regional Internet Registry System”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nternet Protocol Journa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Vol. 4, Number 4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hort history of the Internet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9f5e1"/>
              </a:solidFill>
              <a:latin typeface="Arial"/>
            </a:endParaRPr>
          </a:p>
        </p:txBody>
      </p:sp>
      <p:pic>
        <p:nvPicPr>
          <p:cNvPr id="2819" name="" descr=""/>
          <p:cNvPicPr/>
          <p:nvPr/>
        </p:nvPicPr>
        <p:blipFill>
          <a:blip r:embed="rId2"/>
          <a:stretch/>
        </p:blipFill>
        <p:spPr>
          <a:xfrm>
            <a:off x="5238720" y="1973160"/>
            <a:ext cx="3367080" cy="4130640"/>
          </a:xfrm>
          <a:prstGeom prst="rect">
            <a:avLst/>
          </a:prstGeom>
          <a:ln w="0">
            <a:noFill/>
          </a:ln>
        </p:spPr>
      </p:pic>
      <p:sp>
        <p:nvSpPr>
          <p:cNvPr id="2820" name=""/>
          <p:cNvSpPr/>
          <p:nvPr/>
        </p:nvSpPr>
        <p:spPr>
          <a:xfrm>
            <a:off x="696960" y="6346800"/>
            <a:ext cx="82454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Unicode MS"/>
                <a:hlinkClick r:id="rId3"/>
              </a:rPr>
              <a:t>http://www.cisco.com/warp/public/759/ipj_4-4/ipj_4-4_regional.html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licies &amp; Policy Environ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598320" y="1495440"/>
            <a:ext cx="854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Policy Documentation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Policies for address space management in the Asia Pacific reg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9f5e1"/>
                </a:solidFill>
                <a:uFillTx/>
                <a:latin typeface="Arial"/>
              </a:rPr>
              <a:t>http://www.apnic.net/docs/policy/add-manage-policy.htm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FC2050: Internet Registry IP allocation Guidelin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9f5e1"/>
                </a:solidFill>
                <a:uFillTx/>
                <a:latin typeface="Arial"/>
              </a:rPr>
              <a:t>http://www.ietf.org/rfc/rfc2050.txt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ress Request Procedu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Addressing Guidelin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esigning Addressing Architectures for Routing &amp; Switching”, Howard C. Berkowitz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Address Request Form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SP Address Request Form </a:t>
            </a:r>
            <a:br>
              <a:rPr sz="2400"/>
            </a:b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9f5e1"/>
                </a:solidFill>
                <a:uFillTx/>
                <a:latin typeface="Arial"/>
              </a:rPr>
              <a:t>http://www.apnic.net/services/ipv4/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econd-opinion Request Form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9f5e1"/>
                </a:solidFill>
                <a:uFillTx/>
                <a:latin typeface="Arial"/>
              </a:rPr>
              <a:t>http://www.apnic.net/services/second-opinion/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o Questions Asked      </a:t>
            </a:r>
            <a:br>
              <a:rPr sz="2400"/>
            </a:b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9f5e1"/>
                </a:solidFill>
                <a:uFillTx/>
                <a:latin typeface="Arial"/>
              </a:rPr>
              <a:t>http://ftp.apnic.net/apnic/docs/no-questions-policy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PNIC Databa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APNIC Database Documenta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Updating information in the APNIC Database</a:t>
            </a:r>
            <a:r>
              <a:rPr b="0" lang="en-GB" sz="28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9f5e1"/>
                </a:solidFill>
                <a:uFillTx/>
                <a:latin typeface="Arial"/>
              </a:rPr>
              <a:t>http://ftp.apnic.net/apnic/docs/database-update-info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Maintainer &amp; Person Object Request Form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9f5e1"/>
                </a:solidFill>
                <a:uFillTx/>
                <a:latin typeface="Arial"/>
              </a:rPr>
              <a:t>http://ftp.apnic.net/apnic/docs/mntner-person-reques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APNIC Maintainer Object Request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9f5e1"/>
                </a:solidFill>
                <a:uFillTx/>
                <a:latin typeface="Arial"/>
              </a:rPr>
              <a:t>http://www.apnic.net/apnic-bin/maintainer.pl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APNIC Whois Database objects resource guide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9f5e1"/>
                </a:solidFill>
                <a:uFillTx/>
                <a:latin typeface="Arial"/>
              </a:rPr>
              <a:t>http://www.apnic.net/services/whois_guide.html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PNIC Databa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91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RIPE Database Documenta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RIPE Database Reference Manual</a:t>
            </a:r>
            <a:r>
              <a:rPr b="0" lang="en-GB" sz="28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9f5e1"/>
                </a:solidFill>
                <a:uFillTx/>
                <a:latin typeface="Arial"/>
              </a:rPr>
              <a:t>http://www.ripe.net/docs/databaseref-manual.html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Database ‘whois’ Clien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AU" sz="1800" spc="-1" strike="noStrike" u="sng">
                <a:solidFill>
                  <a:srgbClr val="f9f5e1"/>
                </a:solidFill>
                <a:uFillTx/>
                <a:latin typeface="Arial"/>
              </a:rPr>
              <a:t>http://ftp.apnic.net/apnic/dbase/tools/ripe-dbase-client.tar.gz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Database web query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9f5e1"/>
                </a:solidFill>
                <a:uFillTx/>
                <a:latin typeface="Arial"/>
              </a:rPr>
              <a:t>http://www.apnic.net/apnic-bin/whois2.pl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erse D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Request Form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Guide to reverse zon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9f5e1"/>
                </a:solidFill>
                <a:uFillTx/>
                <a:latin typeface="Arial"/>
              </a:rPr>
              <a:t>http://www.apnic.net/db/revdel.html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Registering your Rev Delegations with APNIC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9f5e1"/>
                </a:solidFill>
                <a:uFillTx/>
                <a:latin typeface="Arial"/>
              </a:rPr>
              <a:t>http://www.apnic.net/db/domain.html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Relevant RFC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lassless Delegation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9f5e1"/>
                </a:solidFill>
                <a:uFillTx/>
                <a:latin typeface="Arial"/>
              </a:rPr>
              <a:t>http://www.ietf.org/rfc/rfc2317.tx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ommon DNS configuration erro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9f5e1"/>
                </a:solidFill>
                <a:uFillTx/>
                <a:latin typeface="Arial"/>
              </a:rPr>
              <a:t>http://www.ietf.org/rfc/rfc1537.tx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erse D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Documenta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omain name structure and delega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ietf.org/rfc/rfc1591.tx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omain administrators operations guid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ietf.org/rfc/rfc1033.tx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aking care of your domai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ftp://ftp.ripe.net/ripe/docs/ripe-114.tx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ools for DNS debugging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ietf.org/rfc/rfc2317.tx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 Assignment Procedu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Policy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Guidelines for the creation, selection, and registration of an AS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ietf.org/rfc/rfc1930.tx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RFC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outing Policy Specification Language (RPSL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ietf.org/rfc/rfc2280.tx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 dedicated AS for sites homed to a single provid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ietf.org/rfc/rfc2270.tx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FC1997: BGP Communities attribut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ietf.org/rfc/rfc2270.tx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Pv6 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Policy Document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Pv6 Address Policy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ftp.apnic.net/apnic/docs/ipv6-address-policy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Pv6 Address request form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ftp.apnic.net/apnic/docs/ipv6-alloc-reques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9f5e1"/>
                </a:solidFill>
                <a:uFillTx/>
                <a:latin typeface="Arial"/>
              </a:rPr>
              <a:t>Useful reading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The case for IPv6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9f5e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6bone.net/misc/case-for-ipv6.html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FAQ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apnic.net/info/faq/IPv6-FAQ.html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1828800" y="2286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78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y do we need policies? 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Global IPv4 Deleg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-455760" y="784080"/>
          <a:ext cx="10476000" cy="5978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55760" y="784080"/>
                    <a:ext cx="1047600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1820880" y="320364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(pre-RIR)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62520" y="5667480"/>
            <a:ext cx="19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(Still available for allocation)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244000" y="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Pv6: HD Ratio 0.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9" name=""/>
          <p:cNvGraphicFramePr/>
          <p:nvPr/>
        </p:nvGraphicFramePr>
        <p:xfrm>
          <a:off x="838080" y="1752480"/>
          <a:ext cx="8077320" cy="3810240"/>
        </p:xfrm>
        <a:graphic>
          <a:graphicData uri="http://schemas.openxmlformats.org/drawingml/2006/table">
            <a:tbl>
              <a:tblPr/>
              <a:tblGrid>
                <a:gridCol w="1113120"/>
                <a:gridCol w="1706400"/>
                <a:gridCol w="2100240"/>
                <a:gridCol w="2111400"/>
                <a:gridCol w="1046160"/>
              </a:tblGrid>
              <a:tr h="628920"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IPv6 prefix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Site addr bits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Total site addrs in /48s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Threshold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Util%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43.5%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9f5e1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</a:rPr>
                        <a:t>4096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</a:rPr>
                        <a:t>776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9f5e1"/>
                          </a:solidFill>
                          <a:latin typeface="Arial"/>
                        </a:rPr>
                        <a:t>18.9%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8192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1351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16.5%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523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e523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e523"/>
                          </a:solidFill>
                          <a:latin typeface="Arial"/>
                          <a:ea typeface="Arial"/>
                        </a:rPr>
                        <a:t>65536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e523"/>
                          </a:solidFill>
                          <a:latin typeface="Arial"/>
                          <a:ea typeface="Arial"/>
                        </a:rPr>
                        <a:t>7132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523"/>
                          </a:solidFill>
                          <a:latin typeface="Arial"/>
                          <a:ea typeface="Arial"/>
                        </a:rPr>
                        <a:t>10.9%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524288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37641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7.2%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16777216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602249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3.6%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4294967296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50859008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1.2%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1099511627776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4294967296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0.4%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35184372088832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68719476736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9f5e1"/>
                          </a:solidFill>
                          <a:latin typeface="Arial"/>
                          <a:ea typeface="Arial"/>
                        </a:rPr>
                        <a:t>0.2%</a:t>
                      </a:r>
                      <a:endParaRPr b="0" lang="en-US" sz="2000" spc="-1" strike="noStrike">
                        <a:solidFill>
                          <a:srgbClr val="325592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0" name=""/>
          <p:cNvSpPr/>
          <p:nvPr/>
        </p:nvSpPr>
        <p:spPr>
          <a:xfrm>
            <a:off x="914400" y="58672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RFC3194 “The Host-Density Ratio for Address Assignment Efficiency” 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supplementary read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Operational Content Book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9f5e1"/>
                </a:solidFill>
                <a:latin typeface="Arial"/>
              </a:rPr>
              <a:t>ISP Survival Guide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, Geoff Hust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9f5e1"/>
                </a:solidFill>
                <a:latin typeface="Arial"/>
              </a:rPr>
              <a:t>Cisco ISP Essentials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, Philip Smith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BGP Tabl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telstra.net/ops/bgptable.html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merit.edu/ipma/reports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merit.edu/ipma/routing_table/mae-east/prefixlen.990212.html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employees.org/~tbates/cidr.hist.plot.html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9f5e1"/>
                </a:solidFill>
                <a:uFillTx/>
                <a:latin typeface="Arial"/>
              </a:rPr>
              <a:t>Routing Instabilit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zounds.merit.net/cgi-bin/do.pl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supplementary read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Routing &amp; Mulithoming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9f5e1"/>
                </a:solidFill>
                <a:latin typeface="Arial"/>
              </a:rPr>
              <a:t>Internet Routing Architectures 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- Bassam Halabi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BGP Communities Attribut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ietf.org/rfc/rfc1997.tx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ietf.org/rfc/rfc1998.tx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Filtering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Egress Filtering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cisco.com/public/cons/isp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etwork Ingress Filtering: Defeating Denial of Service Attacks which employ IP Source Address Spoofing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ietf.org/rfc/rfc2267.tx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Supplementary Read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ampening case studies at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cisco.com/warp/public/459/16.html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raceroute Serv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nitrous.digex.ne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etwork Renumbering Overview: Why Would I Want It and What Is It Anyway?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ietf.org/rfc/rfc2071.tx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Procedures for Enterprise Renumbering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isi.edu/div7/pier/papers.html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A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The IP Network Address Translator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http://www.ietf.org/rfc/rfc1631.txt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rson object templ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1168560" y="1341360"/>
            <a:ext cx="7750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person</a:t>
            </a: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:  [mandatory]  [single]   [lookup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address: [mandatory]  [multiple]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country: [optional]   [single] 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phone:   [mandatory]  [multiple]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fax-no:  [optional]   [multiple]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e-mail:  [mandatory]  [multiple] [lookup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nic-hdl: [mandatory]  [single]   [primary/look-up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remarks: [optional]   [multiple]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notify:  [optional]  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mnt-by:  [mandatory] 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changed: [mandatory]  [multiple]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source:  [mandatory]  [single] 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ole object templ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0" name="PlaceHolder 2"/>
          <p:cNvSpPr>
            <a:spLocks noGrp="1"/>
          </p:cNvSpPr>
          <p:nvPr>
            <p:ph/>
          </p:nvPr>
        </p:nvSpPr>
        <p:spPr>
          <a:xfrm>
            <a:off x="1221840" y="1736280"/>
            <a:ext cx="75805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role</a:t>
            </a: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:    [mandatory] [single]    [lookup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address: [mandatory] [multiple]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country: [optional]  [single]  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phone:   [mandatory] [multiple]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fax-no:  [optional]  [multiple]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e-mail:  [mandatory] [multiple]  [lookup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trouble: [optional]  [multiple]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admin-c: [mandatory] [multiple] 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tech-c:  [mandatory] [multiple] 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nic-hdl: [mandatory] [single]    [primary/look-up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remarks: [optional]  [multiple]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notify:  [optional]  [multiple] 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mnt-by:  [mandatory] [multiple] 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changed: [mandatory] [multiple]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source:  [mandatory] [single]  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intainer Object Templ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1076400" y="1695600"/>
            <a:ext cx="802008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mntner</a:t>
            </a: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:      [mandatory] [single]   [primary/look-up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descr:       [mandatory] [multiple]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country:     [optional]  [single] 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admin-c:     [mandatory]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tech-c:      [optional] 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upd-to:      [mandatory]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mnt-nfy:     [optional] 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auth:        [mandatory] [multiple]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remarks:     [optional]  [multiple]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notify:      [optional] 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mnt-by:      [mandatory]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referral-by: [mandatory] [single]  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changed:     [mandatory] [multiple]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source:      [mandatory] [single] 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etnum object templ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1206360" y="1658880"/>
            <a:ext cx="773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inetnum</a:t>
            </a: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:   [mandatory] [single]   [primary/look-up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netname:   [mandatory] [single]   [lookup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descr:     [mandatory] [multiple]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country:   [mandatory] [multiple]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admin-c:   [mandatory]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tech-c:    [mandatory]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rev-srv:   [optional] 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status:    [mandatory] [single] 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remarks:   [optional]  [multiple]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notify:    [optional] 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mnt-by:    [mandatory]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mnt-lower: [optional] 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mnt-routes:[optional] 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mnt-irt:   [optional] 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changed:   [mandatory] [multiple]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source:    [mandatory] [single] 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990360" y="309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-num Object Templ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1077480" y="1333080"/>
            <a:ext cx="810108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aut-num</a:t>
            </a: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:    [mandatory] [single]</a:t>
            </a: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  [primary/look-up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as-name:    [mandatory] [single]  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descr:      [mandatory] [multiple]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country:    [optional]  [single]  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member-of:  [optional]  [multiple]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import:     [optional]  [multiple]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export:     [optional]  [multiple]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default:    [optional]  [multiple]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remarks:    [optional]  [multiple]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admin-c:    [mandatory] [multiple] 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tech-c:     [mandatory] [multiple] 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cross-mnt:  [optional]  [multiple] 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cross-nfy:  [optional]  [multiple] 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notify:     [optional]  [multiple] 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mnt-lower:  [optional]  [multiple] 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mnt-routes: [optional]  [multiple] 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mnt-by:     [mandatory] [multiple] 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changed:    [mandatory] [multiple]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source:     [mandatory] [single]  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main object templ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1117440" y="1595520"/>
            <a:ext cx="7693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f5e1"/>
                </a:solidFill>
                <a:latin typeface="Courier New"/>
              </a:rPr>
              <a:t>domain</a:t>
            </a: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:    [mandatory] [single]   [primary/look-up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descr:     [mandatory] [multiple]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country:   [optional]  [single] 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admin-c:   [mandatory]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tech-c:    [mandatory]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zone-c:    [mandatory]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nserver:   [mandatory]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sub-dom:   [optional] 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dom-net:   [optional]  [multiple]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remarks:   [optional]  [multiple]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notify:    [optional] 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mnt-by:    [mandatory]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mnt-lower: [optional]  [multiple] [inverse key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refer:</a:t>
            </a: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    [optional]  [single]  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changed:   [mandatory] [multiple]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Courier New"/>
              </a:rPr>
              <a:t>source:    [mandatory] [single]   [ ]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owth of global routing tabl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553440" y="6418440"/>
            <a:ext cx="23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9f5e1"/>
                </a:solidFill>
                <a:latin typeface="Arial"/>
              </a:rPr>
              <a:t>last updated 07 July 2004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40160" y="5845320"/>
            <a:ext cx="63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http://bgp.potaroo.net/as1221/bgp-active.html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1246320" y="1284120"/>
            <a:ext cx="7467480" cy="4480200"/>
          </a:xfrm>
          <a:prstGeom prst="rect">
            <a:avLst/>
          </a:prstGeom>
          <a:ln w="0">
            <a:noFill/>
          </a:ln>
        </p:spPr>
      </p:pic>
      <p:grpSp>
        <p:nvGrpSpPr>
          <p:cNvPr id="387" name=""/>
          <p:cNvGrpSpPr/>
          <p:nvPr/>
        </p:nvGrpSpPr>
        <p:grpSpPr>
          <a:xfrm>
            <a:off x="4219200" y="5006880"/>
            <a:ext cx="2139840" cy="520200"/>
            <a:chOff x="4219200" y="5006880"/>
            <a:chExt cx="2139840" cy="520200"/>
          </a:xfrm>
        </p:grpSpPr>
        <p:sp>
          <p:nvSpPr>
            <p:cNvPr id="388" name=""/>
            <p:cNvSpPr/>
            <p:nvPr/>
          </p:nvSpPr>
          <p:spPr>
            <a:xfrm rot="5400000">
              <a:off x="4323600" y="4924800"/>
              <a:ext cx="204840" cy="413640"/>
            </a:xfrm>
            <a:custGeom>
              <a:avLst/>
              <a:gdLst>
                <a:gd name="textAreaLeft" fmla="*/ 0 w 204840"/>
                <a:gd name="textAreaRight" fmla="*/ 73800 w 204840"/>
                <a:gd name="textAreaTop" fmla="*/ 10440 h 413640"/>
                <a:gd name="textAreaBottom" fmla="*/ 403200 h 41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993"/>
                  </a:lnTo>
                  <a:cubicBezTo>
                    <a:pt x="10800" y="9893"/>
                    <a:pt x="16200" y="10793"/>
                    <a:pt x="21600" y="10793"/>
                  </a:cubicBezTo>
                  <a:cubicBezTo>
                    <a:pt x="16200" y="10793"/>
                    <a:pt x="10800" y="11693"/>
                    <a:pt x="10800" y="12593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34680" y="5006880"/>
              <a:ext cx="212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48800"/>
                  </a:solidFill>
                  <a:latin typeface="Arial"/>
                </a:rPr>
                <a:t>Deployment</a:t>
              </a:r>
              <a:br>
                <a:rPr sz="1400"/>
              </a:br>
              <a:r>
                <a:rPr b="1" lang="en-US" sz="1400" spc="-1" strike="noStrike">
                  <a:solidFill>
                    <a:srgbClr val="e48800"/>
                  </a:solidFill>
                  <a:latin typeface="Arial"/>
                </a:rPr>
                <a:t>Period of CIDR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605480" y="3928680"/>
            <a:ext cx="3627000" cy="1003320"/>
            <a:chOff x="4605480" y="3928680"/>
            <a:chExt cx="3627000" cy="1003320"/>
          </a:xfrm>
        </p:grpSpPr>
        <p:sp>
          <p:nvSpPr>
            <p:cNvPr id="391" name=""/>
            <p:cNvSpPr/>
            <p:nvPr/>
          </p:nvSpPr>
          <p:spPr>
            <a:xfrm flipV="1">
              <a:off x="4605480" y="3928680"/>
              <a:ext cx="1823760" cy="1003320"/>
            </a:xfrm>
            <a:prstGeom prst="line">
              <a:avLst/>
            </a:prstGeom>
            <a:ln w="76320">
              <a:solidFill>
                <a:srgbClr val="325592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63640" y="4467240"/>
              <a:ext cx="28688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48800"/>
                  </a:solidFill>
                  <a:latin typeface="Arial"/>
                </a:rPr>
                <a:t>CIDR</a:t>
              </a:r>
              <a:r>
                <a:rPr b="1" lang="en-US" sz="1600" spc="-1" strike="noStrike">
                  <a:solidFill>
                    <a:srgbClr val="e488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e48800"/>
                  </a:solidFill>
                  <a:latin typeface="Arial"/>
                </a:rPr>
                <a:t>made</a:t>
              </a:r>
              <a:r>
                <a:rPr b="1" lang="en-US" sz="1600" spc="-1" strike="noStrike">
                  <a:solidFill>
                    <a:srgbClr val="e48800"/>
                  </a:solidFill>
                  <a:latin typeface="Arial"/>
                </a:rPr>
                <a:t> it work for a while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009760" y="2384280"/>
            <a:ext cx="2265840" cy="1563840"/>
            <a:chOff x="5009760" y="2384280"/>
            <a:chExt cx="2265840" cy="1563840"/>
          </a:xfrm>
        </p:grpSpPr>
        <p:sp>
          <p:nvSpPr>
            <p:cNvPr id="394" name=""/>
            <p:cNvSpPr/>
            <p:nvPr/>
          </p:nvSpPr>
          <p:spPr>
            <a:xfrm>
              <a:off x="6505560" y="2384280"/>
              <a:ext cx="770040" cy="1563840"/>
            </a:xfrm>
            <a:custGeom>
              <a:avLst/>
              <a:gdLst/>
              <a:ahLst/>
              <a:rect l="l" t="t" r="r" b="b"/>
              <a:pathLst>
                <a:path w="1056" h="1776">
                  <a:moveTo>
                    <a:pt x="0" y="1776"/>
                  </a:moveTo>
                  <a:cubicBezTo>
                    <a:pt x="63" y="1727"/>
                    <a:pt x="263" y="1603"/>
                    <a:pt x="379" y="1480"/>
                  </a:cubicBezTo>
                  <a:cubicBezTo>
                    <a:pt x="495" y="1357"/>
                    <a:pt x="585" y="1285"/>
                    <a:pt x="698" y="1038"/>
                  </a:cubicBezTo>
                  <a:cubicBezTo>
                    <a:pt x="811" y="791"/>
                    <a:pt x="982" y="216"/>
                    <a:pt x="1056" y="0"/>
                  </a:cubicBezTo>
                </a:path>
              </a:pathLst>
            </a:custGeom>
            <a:noFill/>
            <a:ln w="38160">
              <a:solidFill>
                <a:srgbClr val="32559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09760" y="2727360"/>
              <a:ext cx="224712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48800"/>
                  </a:solidFill>
                  <a:latin typeface="Arial"/>
                </a:rPr>
                <a:t>Rapid growth due to 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48800"/>
                  </a:solidFill>
                  <a:latin typeface="Arial"/>
                </a:rPr>
                <a:t>Large number of  longer 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48800"/>
                  </a:solidFill>
                  <a:latin typeface="Arial"/>
                </a:rPr>
                <a:t>prefixes announced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446200" y="2273400"/>
            <a:ext cx="2814840" cy="2676600"/>
            <a:chOff x="2446200" y="2273400"/>
            <a:chExt cx="2814840" cy="2676600"/>
          </a:xfrm>
        </p:grpSpPr>
        <p:sp>
          <p:nvSpPr>
            <p:cNvPr id="397" name=""/>
            <p:cNvSpPr/>
            <p:nvPr/>
          </p:nvSpPr>
          <p:spPr>
            <a:xfrm>
              <a:off x="4322880" y="2273400"/>
              <a:ext cx="819000" cy="2676600"/>
            </a:xfrm>
            <a:custGeom>
              <a:avLst/>
              <a:gdLst/>
              <a:ahLst/>
              <a:rect l="l" t="t" r="r" b="b"/>
              <a:pathLst>
                <a:path w="768" h="2928">
                  <a:moveTo>
                    <a:pt x="0" y="2928"/>
                  </a:moveTo>
                  <a:cubicBezTo>
                    <a:pt x="200" y="2548"/>
                    <a:pt x="400" y="2168"/>
                    <a:pt x="528" y="1680"/>
                  </a:cubicBezTo>
                  <a:cubicBezTo>
                    <a:pt x="656" y="1192"/>
                    <a:pt x="712" y="596"/>
                    <a:pt x="768" y="0"/>
                  </a:cubicBezTo>
                </a:path>
              </a:pathLst>
            </a:custGeom>
            <a:noFill/>
            <a:ln w="38160">
              <a:solidFill>
                <a:srgbClr val="32559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46200" y="2373480"/>
              <a:ext cx="28148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48800"/>
                  </a:solidFill>
                  <a:latin typeface="Arial"/>
                </a:rPr>
                <a:t>Projected routing table 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48800"/>
                  </a:solidFill>
                  <a:latin typeface="Arial"/>
                </a:rPr>
                <a:t>growth without CIDR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7238880" y="2082960"/>
            <a:ext cx="1266480" cy="1530000"/>
            <a:chOff x="7238880" y="2082960"/>
            <a:chExt cx="1266480" cy="1530000"/>
          </a:xfrm>
        </p:grpSpPr>
        <p:sp>
          <p:nvSpPr>
            <p:cNvPr id="400" name=""/>
            <p:cNvSpPr/>
            <p:nvPr/>
          </p:nvSpPr>
          <p:spPr>
            <a:xfrm flipV="1">
              <a:off x="7238880" y="2082960"/>
              <a:ext cx="1061280" cy="679680"/>
            </a:xfrm>
            <a:prstGeom prst="line">
              <a:avLst/>
            </a:prstGeom>
            <a:ln w="76320">
              <a:solidFill>
                <a:srgbClr val="325592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74120" y="2474280"/>
              <a:ext cx="83124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48800"/>
                  </a:solidFill>
                  <a:latin typeface="Arial"/>
                </a:rPr>
                <a:t>ISPs 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48800"/>
                  </a:solidFill>
                  <a:latin typeface="Arial"/>
                </a:rPr>
                <a:t>tend to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48800"/>
                  </a:solidFill>
                  <a:latin typeface="Arial"/>
                </a:rPr>
                <a:t>filter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48800"/>
                  </a:solidFill>
                  <a:latin typeface="Arial"/>
                </a:rPr>
                <a:t>longer 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48800"/>
                  </a:solidFill>
                  <a:latin typeface="Arial"/>
                </a:rPr>
                <a:t>prefixes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7051680" y="1363680"/>
            <a:ext cx="1704960" cy="755640"/>
            <a:chOff x="7051680" y="1363680"/>
            <a:chExt cx="1704960" cy="755640"/>
          </a:xfrm>
        </p:grpSpPr>
        <p:sp>
          <p:nvSpPr>
            <p:cNvPr id="403" name=""/>
            <p:cNvSpPr/>
            <p:nvPr/>
          </p:nvSpPr>
          <p:spPr>
            <a:xfrm>
              <a:off x="8064360" y="1363680"/>
              <a:ext cx="536040" cy="755640"/>
            </a:xfrm>
            <a:custGeom>
              <a:avLst/>
              <a:gdLst/>
              <a:ahLst/>
              <a:rect l="l" t="t" r="r" b="b"/>
              <a:pathLst>
                <a:path w="1056" h="1776">
                  <a:moveTo>
                    <a:pt x="0" y="1776"/>
                  </a:moveTo>
                  <a:cubicBezTo>
                    <a:pt x="63" y="1727"/>
                    <a:pt x="263" y="1603"/>
                    <a:pt x="379" y="1480"/>
                  </a:cubicBezTo>
                  <a:cubicBezTo>
                    <a:pt x="495" y="1357"/>
                    <a:pt x="585" y="1285"/>
                    <a:pt x="698" y="1038"/>
                  </a:cubicBezTo>
                  <a:cubicBezTo>
                    <a:pt x="811" y="791"/>
                    <a:pt x="982" y="216"/>
                    <a:pt x="1056" y="0"/>
                  </a:cubicBezTo>
                </a:path>
              </a:pathLst>
            </a:custGeom>
            <a:noFill/>
            <a:ln w="38160">
              <a:solidFill>
                <a:srgbClr val="32559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51680" y="1580760"/>
              <a:ext cx="170496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48800"/>
                  </a:solidFill>
                  <a:latin typeface="Arial"/>
                </a:rPr>
                <a:t>But the routing table still grows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8244000" y="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7" dur="1" fill="hold"/>
                                  <p:tgtEl>
                                    <p:spTgt spid="4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  <a:ea typeface="굴림"/>
              </a:rPr>
              <a:t>Routing table prefix distribu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43560" y="635796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st updated Jul 2004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620640" y="1060560"/>
          <a:ext cx="9460080" cy="5195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0640" y="1060560"/>
                    <a:ext cx="946008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8244000" y="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  <a:ea typeface="굴림"/>
              </a:rPr>
              <a:t>APNIC policy environ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9f5e1"/>
                </a:solidFill>
                <a:latin typeface="Arial"/>
              </a:rPr>
              <a:t>IP addresses not freehold property”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ssignments &amp; allocations on license basi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Addresses </a:t>
            </a:r>
            <a:r>
              <a:rPr b="0" i="1" lang="en-US" sz="2000" spc="-1" strike="noStrike">
                <a:solidFill>
                  <a:srgbClr val="f9f5e1"/>
                </a:solidFill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 be bought or sold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Internet resources are public resource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Ownership’ is contrary to management goal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9f5e1"/>
                </a:solidFill>
                <a:latin typeface="Arial"/>
              </a:rPr>
              <a:t>Confidentiality &amp; security”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PNIC to observe and protect trust relationship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Non-disclosure agreement signed by staff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244000" y="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8185320" y="5900760"/>
            <a:ext cx="825480" cy="785880"/>
          </a:xfrm>
          <a:prstGeom prst="flowChartMultidocumen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RFC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1814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vate address space &amp; N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Private address spac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Not necessary to request from the RIR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trongly recommended when no Internet connectivity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10/8, 172.16/12, 192.168/16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3" marL="1519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Network Address Translation (NAT)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Use entirely up to individual organis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onsiderations: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breaks end-to-end model, increases </a:t>
            </a:r>
            <a:br>
              <a:rPr sz="2000"/>
            </a:b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complexity, makes troubleshooting more </a:t>
            </a:r>
            <a:br>
              <a:rPr sz="2000"/>
            </a:b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difficult, introduces single point of failur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867800" y="5410080"/>
            <a:ext cx="825480" cy="785880"/>
          </a:xfrm>
          <a:prstGeom prst="flowChartMultidocumen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RFC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2993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066160" y="3984480"/>
            <a:ext cx="825480" cy="785880"/>
          </a:xfrm>
          <a:prstGeom prst="flowChartMultidocumen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RFC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1631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121600" y="1542960"/>
            <a:ext cx="825480" cy="785880"/>
          </a:xfrm>
          <a:prstGeom prst="flowChartMultidocumen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RFC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1918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244000" y="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II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sumptions &amp; 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3662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9f5e1"/>
                </a:solidFill>
                <a:uFillTx/>
                <a:latin typeface="Arial"/>
              </a:rPr>
              <a:t>Assumption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Are current or prospective APNIC member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Have not submitted many request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Are not familiar / up-to-date with polici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Are not familiar with procedur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94120" y="1523520"/>
            <a:ext cx="3664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f5e1"/>
                </a:solidFill>
                <a:uFillTx/>
                <a:latin typeface="Arial"/>
              </a:rPr>
              <a:t>Objectiv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each members how to request resources from APNIC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Keep membership up-to-date with latest polici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Liaise with membe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9f5e1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Faces behind the e-mail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282680" y="1422360"/>
            <a:ext cx="3784680" cy="251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073400" y="2146320"/>
            <a:ext cx="274680" cy="282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085920" y="2149560"/>
            <a:ext cx="477720" cy="282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b-allo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90360" y="4092480"/>
            <a:ext cx="746748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No max or min siz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ax 1 year requiremen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ssignment Window &amp; 2</a:t>
            </a:r>
            <a:r>
              <a:rPr b="0" lang="en-US" sz="2800" spc="-1" strike="noStrike" baseline="30000">
                <a:solidFill>
                  <a:srgbClr val="f9f5e1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 Opinion applies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o both sub-allocation &amp; assignment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ub-allocation holders don’t need to send in 2</a:t>
            </a:r>
            <a:r>
              <a:rPr b="0" lang="en-US" sz="2000" spc="-1" strike="noStrike" baseline="30000">
                <a:solidFill>
                  <a:srgbClr val="f9f5e1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 opinion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097080" y="2435400"/>
            <a:ext cx="1246320" cy="345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324080" y="275760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allocation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65600" y="2374920"/>
            <a:ext cx="5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/22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81960" y="2808360"/>
            <a:ext cx="612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633640" y="2138400"/>
            <a:ext cx="405000" cy="961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118200" y="2146320"/>
            <a:ext cx="300240" cy="961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58040" y="2143080"/>
            <a:ext cx="765000" cy="9590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32560" y="2131920"/>
            <a:ext cx="1166760" cy="9684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208560" y="2141640"/>
            <a:ext cx="328680" cy="9572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96040" y="2146320"/>
            <a:ext cx="834840" cy="9525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26080" y="3092400"/>
            <a:ext cx="801720" cy="209520"/>
          </a:xfrm>
          <a:prstGeom prst="rect">
            <a:avLst/>
          </a:prstGeom>
          <a:solidFill>
            <a:srgbClr val="ff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56400" y="2995560"/>
            <a:ext cx="7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/24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43240" y="1619280"/>
            <a:ext cx="4121280" cy="520560"/>
          </a:xfrm>
          <a:prstGeom prst="rect">
            <a:avLst/>
          </a:prstGeom>
          <a:solidFill>
            <a:srgbClr val="ffff99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83480" y="1746360"/>
            <a:ext cx="6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/21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34160" y="2108160"/>
            <a:ext cx="21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 Allocation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43080" y="3360600"/>
            <a:ext cx="285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er Assignments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527880" y="3092400"/>
            <a:ext cx="612720" cy="209520"/>
          </a:xfrm>
          <a:prstGeom prst="rect">
            <a:avLst/>
          </a:prstGeom>
          <a:solidFill>
            <a:srgbClr val="ff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20040" y="299880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/25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22800" y="1585800"/>
            <a:ext cx="105120" cy="568440"/>
          </a:xfrm>
          <a:prstGeom prst="rect">
            <a:avLst/>
          </a:prstGeom>
          <a:solidFill>
            <a:srgbClr val="ff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202440" y="1587600"/>
            <a:ext cx="104760" cy="568080"/>
          </a:xfrm>
          <a:prstGeom prst="rect">
            <a:avLst/>
          </a:prstGeom>
          <a:solidFill>
            <a:srgbClr val="ff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58040" y="1590840"/>
            <a:ext cx="104760" cy="563400"/>
          </a:xfrm>
          <a:prstGeom prst="rect">
            <a:avLst/>
          </a:prstGeom>
          <a:solidFill>
            <a:srgbClr val="ff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87840" y="3095640"/>
            <a:ext cx="493560" cy="2095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701880" y="2998800"/>
            <a:ext cx="5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/26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1200" y="3090960"/>
            <a:ext cx="414000" cy="2095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68640" y="299412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/27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41680" y="2424240"/>
            <a:ext cx="103320" cy="374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26000" y="2422440"/>
            <a:ext cx="102960" cy="374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3122640" y="2790720"/>
            <a:ext cx="426960" cy="3063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525480" y="2789280"/>
            <a:ext cx="111240" cy="3031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3693960" y="2787480"/>
            <a:ext cx="38160" cy="3114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22840" y="2786040"/>
            <a:ext cx="347400" cy="3142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213680" y="3094200"/>
            <a:ext cx="493560" cy="209520"/>
          </a:xfrm>
          <a:prstGeom prst="rect">
            <a:avLst/>
          </a:prstGeom>
          <a:solidFill>
            <a:srgbClr val="ff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227720" y="2997360"/>
            <a:ext cx="5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/26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62200" y="1601640"/>
            <a:ext cx="513000" cy="547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46880" y="336060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er Assignments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244000" y="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II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rtable critical infrastructure assign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What is Critical Internet Infrastructure?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omain registry infrastructure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Root DNS operator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gTLD operator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ccTLD operator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ddress Registry Infrastructure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RIRs &amp; NIR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IANA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Why a specific policy ?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Protect stability of core Internet func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ssignment sizes: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Pv4: /24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Pv6: /32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244000" y="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II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751200" y="4167360"/>
            <a:ext cx="5186520" cy="269064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ocations vs. Announce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46748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A comparison of RIR IPv4 Allocation Records with Global Routing Announcements”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tudy by Geoff Huston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4506 Allocations (Jan 03 – Feb 04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9f5e1"/>
                </a:solidFill>
                <a:latin typeface="Arial"/>
              </a:rPr>
              <a:t>3641 Allocations announced (865 not announced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9f5e1"/>
                </a:solidFill>
                <a:latin typeface="Arial"/>
              </a:rPr>
              <a:t>10904 routing advertisement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Each allocation generates an average of 3.0 routing advertisements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4140360" y="54450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4710240" y="507528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5"/>
          <a:stretch/>
        </p:blipFill>
        <p:spPr>
          <a:xfrm>
            <a:off x="5003640" y="508464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6"/>
          <a:stretch/>
        </p:blipFill>
        <p:spPr>
          <a:xfrm>
            <a:off x="5470560" y="50878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7"/>
          <a:stretch/>
        </p:blipFill>
        <p:spPr>
          <a:xfrm>
            <a:off x="5429160" y="47419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8"/>
          <a:stretch/>
        </p:blipFill>
        <p:spPr>
          <a:xfrm>
            <a:off x="5238720" y="498168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9"/>
          <a:stretch/>
        </p:blipFill>
        <p:spPr>
          <a:xfrm>
            <a:off x="5796000" y="48690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10"/>
          <a:stretch/>
        </p:blipFill>
        <p:spPr>
          <a:xfrm>
            <a:off x="5989680" y="51004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11"/>
          <a:stretch/>
        </p:blipFill>
        <p:spPr>
          <a:xfrm>
            <a:off x="6012000" y="4941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12"/>
          <a:stretch/>
        </p:blipFill>
        <p:spPr>
          <a:xfrm>
            <a:off x="6227640" y="501336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13"/>
          <a:stretch/>
        </p:blipFill>
        <p:spPr>
          <a:xfrm>
            <a:off x="6588000" y="494172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14"/>
          <a:stretch/>
        </p:blipFill>
        <p:spPr>
          <a:xfrm>
            <a:off x="7020000" y="48690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15"/>
          <a:stretch/>
        </p:blipFill>
        <p:spPr>
          <a:xfrm>
            <a:off x="7236000" y="4941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16"/>
          <a:stretch/>
        </p:blipFill>
        <p:spPr>
          <a:xfrm>
            <a:off x="7380360" y="522936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7"/>
          <a:stretch/>
        </p:blipFill>
        <p:spPr>
          <a:xfrm>
            <a:off x="7326360" y="50515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8"/>
          <a:stretch/>
        </p:blipFill>
        <p:spPr>
          <a:xfrm>
            <a:off x="7702560" y="484344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9"/>
          <a:stretch/>
        </p:blipFill>
        <p:spPr>
          <a:xfrm>
            <a:off x="7596360" y="51228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0"/>
          <a:stretch/>
        </p:blipFill>
        <p:spPr>
          <a:xfrm>
            <a:off x="8244000" y="501336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1"/>
          <a:stretch/>
        </p:blipFill>
        <p:spPr>
          <a:xfrm>
            <a:off x="4284720" y="56610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2"/>
          <a:stretch/>
        </p:blipFill>
        <p:spPr>
          <a:xfrm>
            <a:off x="4830840" y="520236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3"/>
          <a:stretch/>
        </p:blipFill>
        <p:spPr>
          <a:xfrm>
            <a:off x="4788000" y="573408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4"/>
          <a:stretch/>
        </p:blipFill>
        <p:spPr>
          <a:xfrm>
            <a:off x="6886440" y="589104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25"/>
          <a:stretch/>
        </p:blipFill>
        <p:spPr>
          <a:xfrm>
            <a:off x="7164360" y="56610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6"/>
          <a:stretch/>
        </p:blipFill>
        <p:spPr>
          <a:xfrm>
            <a:off x="7451640" y="56610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27"/>
          <a:stretch/>
        </p:blipFill>
        <p:spPr>
          <a:xfrm>
            <a:off x="7667640" y="55897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8"/>
          <a:stretch/>
        </p:blipFill>
        <p:spPr>
          <a:xfrm>
            <a:off x="7596360" y="57862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9"/>
          <a:stretch/>
        </p:blipFill>
        <p:spPr>
          <a:xfrm>
            <a:off x="7020000" y="55166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0"/>
          <a:stretch/>
        </p:blipFill>
        <p:spPr>
          <a:xfrm>
            <a:off x="4937040" y="555948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1"/>
          <a:stretch/>
        </p:blipFill>
        <p:spPr>
          <a:xfrm>
            <a:off x="6300720" y="4581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2"/>
          <a:stretch/>
        </p:blipFill>
        <p:spPr>
          <a:xfrm>
            <a:off x="4541760" y="48038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33"/>
          <a:stretch/>
        </p:blipFill>
        <p:spPr>
          <a:xfrm>
            <a:off x="4376880" y="53816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34"/>
          <a:stretch/>
        </p:blipFill>
        <p:spPr>
          <a:xfrm>
            <a:off x="4964040" y="52941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35"/>
          <a:stretch/>
        </p:blipFill>
        <p:spPr>
          <a:xfrm>
            <a:off x="4896000" y="54403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36"/>
          <a:stretch/>
        </p:blipFill>
        <p:spPr>
          <a:xfrm>
            <a:off x="5160960" y="52513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37"/>
          <a:stretch/>
        </p:blipFill>
        <p:spPr>
          <a:xfrm>
            <a:off x="5226120" y="51246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8"/>
          <a:stretch/>
        </p:blipFill>
        <p:spPr>
          <a:xfrm>
            <a:off x="5581800" y="54054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39"/>
          <a:stretch/>
        </p:blipFill>
        <p:spPr>
          <a:xfrm>
            <a:off x="5851440" y="54072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40"/>
          <a:stretch/>
        </p:blipFill>
        <p:spPr>
          <a:xfrm>
            <a:off x="6029280" y="52754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41"/>
          <a:stretch/>
        </p:blipFill>
        <p:spPr>
          <a:xfrm>
            <a:off x="6443640" y="530064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42"/>
          <a:stretch/>
        </p:blipFill>
        <p:spPr>
          <a:xfrm>
            <a:off x="6630840" y="524016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3"/>
          <a:stretch/>
        </p:blipFill>
        <p:spPr>
          <a:xfrm>
            <a:off x="6877080" y="522936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44"/>
          <a:stretch/>
        </p:blipFill>
        <p:spPr>
          <a:xfrm>
            <a:off x="7164360" y="5157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45"/>
          <a:stretch/>
        </p:blipFill>
        <p:spPr>
          <a:xfrm>
            <a:off x="7236000" y="53737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46"/>
          <a:stretch/>
        </p:blipFill>
        <p:spPr>
          <a:xfrm>
            <a:off x="7885080" y="5157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47"/>
          <a:stretch/>
        </p:blipFill>
        <p:spPr>
          <a:xfrm>
            <a:off x="7956720" y="53737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8"/>
          <a:stretch/>
        </p:blipFill>
        <p:spPr>
          <a:xfrm>
            <a:off x="8172360" y="5157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49"/>
          <a:stretch/>
        </p:blipFill>
        <p:spPr>
          <a:xfrm>
            <a:off x="6443640" y="5157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50"/>
          <a:stretch/>
        </p:blipFill>
        <p:spPr>
          <a:xfrm>
            <a:off x="4572000" y="5805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51"/>
          <a:stretch/>
        </p:blipFill>
        <p:spPr>
          <a:xfrm>
            <a:off x="4788000" y="595008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52"/>
          <a:stretch/>
        </p:blipFill>
        <p:spPr>
          <a:xfrm>
            <a:off x="5003640" y="616572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53"/>
          <a:stretch/>
        </p:blipFill>
        <p:spPr>
          <a:xfrm>
            <a:off x="4994280" y="57625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54"/>
          <a:stretch/>
        </p:blipFill>
        <p:spPr>
          <a:xfrm>
            <a:off x="7308720" y="587700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55"/>
          <a:stretch/>
        </p:blipFill>
        <p:spPr>
          <a:xfrm>
            <a:off x="7527960" y="5913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56"/>
          <a:stretch/>
        </p:blipFill>
        <p:spPr>
          <a:xfrm>
            <a:off x="7885080" y="573408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57"/>
          <a:stretch/>
        </p:blipFill>
        <p:spPr>
          <a:xfrm>
            <a:off x="6948360" y="630864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58"/>
          <a:stretch/>
        </p:blipFill>
        <p:spPr>
          <a:xfrm>
            <a:off x="7380360" y="6021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59"/>
          <a:stretch/>
        </p:blipFill>
        <p:spPr>
          <a:xfrm>
            <a:off x="4500720" y="6021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60"/>
          <a:stretch/>
        </p:blipFill>
        <p:spPr>
          <a:xfrm>
            <a:off x="5362560" y="595944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61"/>
          <a:stretch/>
        </p:blipFill>
        <p:spPr>
          <a:xfrm>
            <a:off x="4475160" y="52308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62"/>
          <a:stretch/>
        </p:blipFill>
        <p:spPr>
          <a:xfrm>
            <a:off x="4471920" y="55134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63"/>
          <a:stretch/>
        </p:blipFill>
        <p:spPr>
          <a:xfrm>
            <a:off x="4695840" y="55087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64"/>
          <a:stretch/>
        </p:blipFill>
        <p:spPr>
          <a:xfrm>
            <a:off x="3990960" y="528624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65"/>
          <a:stretch/>
        </p:blipFill>
        <p:spPr>
          <a:xfrm>
            <a:off x="5432400" y="52484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66"/>
          <a:stretch/>
        </p:blipFill>
        <p:spPr>
          <a:xfrm>
            <a:off x="5688000" y="55879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67"/>
          <a:stretch/>
        </p:blipFill>
        <p:spPr>
          <a:xfrm>
            <a:off x="5680080" y="52624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68"/>
          <a:stretch/>
        </p:blipFill>
        <p:spPr>
          <a:xfrm>
            <a:off x="5850000" y="4743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69"/>
          <a:stretch/>
        </p:blipFill>
        <p:spPr>
          <a:xfrm>
            <a:off x="6058080" y="45180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70"/>
          <a:stretch/>
        </p:blipFill>
        <p:spPr>
          <a:xfrm>
            <a:off x="6554880" y="55180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71"/>
          <a:stretch/>
        </p:blipFill>
        <p:spPr>
          <a:xfrm>
            <a:off x="6703920" y="540396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72"/>
          <a:stretch/>
        </p:blipFill>
        <p:spPr>
          <a:xfrm>
            <a:off x="6948360" y="537372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73"/>
          <a:stretch/>
        </p:blipFill>
        <p:spPr>
          <a:xfrm>
            <a:off x="7310520" y="55180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74"/>
          <a:stretch/>
        </p:blipFill>
        <p:spPr>
          <a:xfrm>
            <a:off x="7524720" y="53737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75"/>
          <a:stretch/>
        </p:blipFill>
        <p:spPr>
          <a:xfrm>
            <a:off x="7740720" y="530064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76"/>
          <a:stretch/>
        </p:blipFill>
        <p:spPr>
          <a:xfrm>
            <a:off x="7966080" y="55180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77"/>
          <a:stretch/>
        </p:blipFill>
        <p:spPr>
          <a:xfrm>
            <a:off x="8172360" y="53737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78"/>
          <a:stretch/>
        </p:blipFill>
        <p:spPr>
          <a:xfrm>
            <a:off x="7740720" y="54450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79"/>
          <a:stretch/>
        </p:blipFill>
        <p:spPr>
          <a:xfrm>
            <a:off x="4716360" y="623736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80"/>
          <a:stretch/>
        </p:blipFill>
        <p:spPr>
          <a:xfrm>
            <a:off x="5076720" y="638172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81"/>
          <a:stretch/>
        </p:blipFill>
        <p:spPr>
          <a:xfrm>
            <a:off x="5219640" y="623736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82"/>
          <a:stretch/>
        </p:blipFill>
        <p:spPr>
          <a:xfrm>
            <a:off x="5086440" y="5913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83"/>
          <a:stretch/>
        </p:blipFill>
        <p:spPr>
          <a:xfrm>
            <a:off x="5435640" y="6381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84"/>
          <a:stretch/>
        </p:blipFill>
        <p:spPr>
          <a:xfrm>
            <a:off x="5724360" y="630864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85"/>
          <a:stretch/>
        </p:blipFill>
        <p:spPr>
          <a:xfrm>
            <a:off x="5522760" y="609120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86"/>
          <a:stretch/>
        </p:blipFill>
        <p:spPr>
          <a:xfrm>
            <a:off x="5883120" y="601488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87"/>
          <a:stretch/>
        </p:blipFill>
        <p:spPr>
          <a:xfrm>
            <a:off x="6516720" y="623736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88"/>
          <a:stretch/>
        </p:blipFill>
        <p:spPr>
          <a:xfrm>
            <a:off x="6372360" y="60930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89"/>
          <a:stretch/>
        </p:blipFill>
        <p:spPr>
          <a:xfrm>
            <a:off x="6872400" y="61308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90"/>
          <a:stretch/>
        </p:blipFill>
        <p:spPr>
          <a:xfrm>
            <a:off x="7093080" y="6021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91"/>
          <a:stretch/>
        </p:blipFill>
        <p:spPr>
          <a:xfrm>
            <a:off x="6732720" y="62420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92"/>
          <a:stretch/>
        </p:blipFill>
        <p:spPr>
          <a:xfrm>
            <a:off x="7093080" y="6165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93"/>
          <a:stretch/>
        </p:blipFill>
        <p:spPr>
          <a:xfrm>
            <a:off x="6659640" y="6021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94"/>
          <a:stretch/>
        </p:blipFill>
        <p:spPr>
          <a:xfrm>
            <a:off x="5940360" y="6165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95"/>
          <a:stretch/>
        </p:blipFill>
        <p:spPr>
          <a:xfrm>
            <a:off x="7380360" y="6165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96"/>
          <a:stretch/>
        </p:blipFill>
        <p:spPr>
          <a:xfrm>
            <a:off x="6732720" y="6381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97"/>
          <a:stretch/>
        </p:blipFill>
        <p:spPr>
          <a:xfrm>
            <a:off x="4284720" y="4941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98"/>
          <a:stretch/>
        </p:blipFill>
        <p:spPr>
          <a:xfrm>
            <a:off x="4500720" y="508464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99"/>
          <a:stretch/>
        </p:blipFill>
        <p:spPr>
          <a:xfrm>
            <a:off x="4773600" y="48420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100"/>
          <a:stretch/>
        </p:blipFill>
        <p:spPr>
          <a:xfrm>
            <a:off x="5364000" y="450864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101"/>
          <a:stretch/>
        </p:blipFill>
        <p:spPr>
          <a:xfrm>
            <a:off x="5651640" y="44370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102"/>
          <a:stretch/>
        </p:blipFill>
        <p:spPr>
          <a:xfrm>
            <a:off x="5940360" y="43657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103"/>
          <a:stretch/>
        </p:blipFill>
        <p:spPr>
          <a:xfrm>
            <a:off x="6227640" y="436572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104"/>
          <a:stretch/>
        </p:blipFill>
        <p:spPr>
          <a:xfrm>
            <a:off x="6516720" y="44370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105"/>
          <a:stretch/>
        </p:blipFill>
        <p:spPr>
          <a:xfrm>
            <a:off x="5651640" y="46530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106"/>
          <a:stretch/>
        </p:blipFill>
        <p:spPr>
          <a:xfrm>
            <a:off x="6084720" y="465300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107"/>
          <a:stretch/>
        </p:blipFill>
        <p:spPr>
          <a:xfrm>
            <a:off x="6659640" y="46530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108"/>
          <a:stretch/>
        </p:blipFill>
        <p:spPr>
          <a:xfrm>
            <a:off x="6877080" y="47242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109"/>
          <a:stretch/>
        </p:blipFill>
        <p:spPr>
          <a:xfrm>
            <a:off x="7164360" y="46530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110"/>
          <a:stretch/>
        </p:blipFill>
        <p:spPr>
          <a:xfrm>
            <a:off x="7451640" y="4581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111"/>
          <a:stretch/>
        </p:blipFill>
        <p:spPr>
          <a:xfrm>
            <a:off x="7740720" y="45086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112"/>
          <a:stretch/>
        </p:blipFill>
        <p:spPr>
          <a:xfrm>
            <a:off x="8028000" y="4581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113"/>
          <a:stretch/>
        </p:blipFill>
        <p:spPr>
          <a:xfrm>
            <a:off x="7667640" y="469116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114"/>
          <a:stretch/>
        </p:blipFill>
        <p:spPr>
          <a:xfrm>
            <a:off x="8101080" y="47242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115"/>
          <a:stretch/>
        </p:blipFill>
        <p:spPr>
          <a:xfrm>
            <a:off x="4253040" y="51069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116"/>
          <a:stretch/>
        </p:blipFill>
        <p:spPr>
          <a:xfrm>
            <a:off x="4540320" y="49482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117"/>
          <a:stretch/>
        </p:blipFill>
        <p:spPr>
          <a:xfrm>
            <a:off x="5003640" y="479736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118"/>
          <a:stretch/>
        </p:blipFill>
        <p:spPr>
          <a:xfrm>
            <a:off x="5227560" y="48546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119"/>
          <a:stretch/>
        </p:blipFill>
        <p:spPr>
          <a:xfrm>
            <a:off x="5567400" y="48690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120"/>
          <a:stretch/>
        </p:blipFill>
        <p:spPr>
          <a:xfrm>
            <a:off x="5724360" y="508464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121"/>
          <a:stretch/>
        </p:blipFill>
        <p:spPr>
          <a:xfrm>
            <a:off x="5867280" y="458136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122"/>
          <a:stretch/>
        </p:blipFill>
        <p:spPr>
          <a:xfrm>
            <a:off x="6084720" y="479736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123"/>
          <a:stretch/>
        </p:blipFill>
        <p:spPr>
          <a:xfrm>
            <a:off x="6443640" y="47242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124"/>
          <a:stretch/>
        </p:blipFill>
        <p:spPr>
          <a:xfrm>
            <a:off x="6372360" y="48690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125"/>
          <a:stretch/>
        </p:blipFill>
        <p:spPr>
          <a:xfrm>
            <a:off x="6659640" y="4797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126"/>
          <a:stretch/>
        </p:blipFill>
        <p:spPr>
          <a:xfrm>
            <a:off x="6732720" y="508464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127"/>
          <a:stretch/>
        </p:blipFill>
        <p:spPr>
          <a:xfrm>
            <a:off x="6948360" y="501336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128"/>
          <a:stretch/>
        </p:blipFill>
        <p:spPr>
          <a:xfrm>
            <a:off x="7451640" y="4797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129"/>
          <a:stretch/>
        </p:blipFill>
        <p:spPr>
          <a:xfrm>
            <a:off x="7542360" y="49784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130"/>
          <a:stretch/>
        </p:blipFill>
        <p:spPr>
          <a:xfrm>
            <a:off x="7958160" y="48099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131"/>
          <a:stretch/>
        </p:blipFill>
        <p:spPr>
          <a:xfrm>
            <a:off x="8190000" y="48690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132"/>
          <a:stretch/>
        </p:blipFill>
        <p:spPr>
          <a:xfrm>
            <a:off x="7885080" y="50515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133"/>
          <a:stretch/>
        </p:blipFill>
        <p:spPr>
          <a:xfrm>
            <a:off x="5181480" y="559440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134"/>
          <a:stretch/>
        </p:blipFill>
        <p:spPr>
          <a:xfrm>
            <a:off x="4052880" y="50641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135"/>
          <a:stretch/>
        </p:blipFill>
        <p:spPr>
          <a:xfrm>
            <a:off x="6300720" y="54529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136"/>
          <a:stretch/>
        </p:blipFill>
        <p:spPr>
          <a:xfrm>
            <a:off x="5665680" y="590220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137"/>
          <a:stretch/>
        </p:blipFill>
        <p:spPr>
          <a:xfrm>
            <a:off x="6046920" y="584208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138"/>
          <a:stretch/>
        </p:blipFill>
        <p:spPr>
          <a:xfrm>
            <a:off x="6267600" y="560088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139"/>
          <a:stretch/>
        </p:blipFill>
        <p:spPr>
          <a:xfrm>
            <a:off x="6411960" y="575316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140"/>
          <a:stretch/>
        </p:blipFill>
        <p:spPr>
          <a:xfrm>
            <a:off x="6846840" y="56959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141"/>
          <a:stretch/>
        </p:blipFill>
        <p:spPr>
          <a:xfrm>
            <a:off x="5113440" y="54421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142"/>
          <a:stretch/>
        </p:blipFill>
        <p:spPr>
          <a:xfrm>
            <a:off x="4670280" y="534204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143"/>
          <a:stretch/>
        </p:blipFill>
        <p:spPr>
          <a:xfrm>
            <a:off x="5338800" y="53863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144"/>
          <a:stretch/>
        </p:blipFill>
        <p:spPr>
          <a:xfrm>
            <a:off x="5945040" y="562752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145"/>
          <a:stretch/>
        </p:blipFill>
        <p:spPr>
          <a:xfrm>
            <a:off x="4894200" y="49798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146"/>
          <a:stretch/>
        </p:blipFill>
        <p:spPr>
          <a:xfrm>
            <a:off x="6024600" y="55180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147"/>
          <a:stretch/>
        </p:blipFill>
        <p:spPr>
          <a:xfrm>
            <a:off x="6554880" y="56275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48"/>
          <a:stretch/>
        </p:blipFill>
        <p:spPr>
          <a:xfrm>
            <a:off x="6789600" y="555156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149"/>
          <a:stretch/>
        </p:blipFill>
        <p:spPr>
          <a:xfrm>
            <a:off x="5305320" y="574524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150"/>
          <a:stretch/>
        </p:blipFill>
        <p:spPr>
          <a:xfrm>
            <a:off x="5562720" y="5751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151"/>
          <a:stretch/>
        </p:blipFill>
        <p:spPr>
          <a:xfrm>
            <a:off x="5418000" y="559908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152"/>
          <a:stretch/>
        </p:blipFill>
        <p:spPr>
          <a:xfrm>
            <a:off x="4214880" y="52531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153"/>
          <a:stretch/>
        </p:blipFill>
        <p:spPr>
          <a:xfrm>
            <a:off x="5824440" y="577044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154"/>
          <a:stretch/>
        </p:blipFill>
        <p:spPr>
          <a:xfrm>
            <a:off x="6276960" y="58626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155"/>
          <a:stretch/>
        </p:blipFill>
        <p:spPr>
          <a:xfrm>
            <a:off x="6488280" y="59101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156"/>
          <a:stretch/>
        </p:blipFill>
        <p:spPr>
          <a:xfrm>
            <a:off x="6665760" y="5815080"/>
            <a:ext cx="198720" cy="10620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2487600" y="5462640"/>
            <a:ext cx="500040" cy="315720"/>
          </a:xfrm>
          <a:prstGeom prst="rightArrow">
            <a:avLst>
              <a:gd name="adj1" fmla="val 50000"/>
              <a:gd name="adj2" fmla="val 39595"/>
            </a:avLst>
          </a:prstGeom>
          <a:solidFill>
            <a:srgbClr val="f9f5e1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903240" y="4998960"/>
            <a:ext cx="1236600" cy="1179720"/>
            <a:chOff x="903240" y="4998960"/>
            <a:chExt cx="1236600" cy="1179720"/>
          </a:xfrm>
        </p:grpSpPr>
        <p:pic>
          <p:nvPicPr>
            <p:cNvPr id="624" name="" descr=""/>
            <p:cNvPicPr/>
            <p:nvPr/>
          </p:nvPicPr>
          <p:blipFill>
            <a:blip r:embed="rId157"/>
            <a:stretch/>
          </p:blipFill>
          <p:spPr>
            <a:xfrm>
              <a:off x="1281240" y="547380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" descr=""/>
            <p:cNvPicPr/>
            <p:nvPr/>
          </p:nvPicPr>
          <p:blipFill>
            <a:blip r:embed="rId158"/>
            <a:stretch/>
          </p:blipFill>
          <p:spPr>
            <a:xfrm>
              <a:off x="1389240" y="536400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" descr=""/>
            <p:cNvPicPr/>
            <p:nvPr/>
          </p:nvPicPr>
          <p:blipFill>
            <a:blip r:embed="rId159"/>
            <a:stretch/>
          </p:blipFill>
          <p:spPr>
            <a:xfrm>
              <a:off x="1119240" y="559440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160"/>
            <a:stretch/>
          </p:blipFill>
          <p:spPr>
            <a:xfrm>
              <a:off x="1492200" y="553248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161"/>
            <a:stretch/>
          </p:blipFill>
          <p:spPr>
            <a:xfrm>
              <a:off x="966960" y="532296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162"/>
            <a:stretch/>
          </p:blipFill>
          <p:spPr>
            <a:xfrm>
              <a:off x="1341360" y="563400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" descr=""/>
            <p:cNvPicPr/>
            <p:nvPr/>
          </p:nvPicPr>
          <p:blipFill>
            <a:blip r:embed="rId163"/>
            <a:stretch/>
          </p:blipFill>
          <p:spPr>
            <a:xfrm>
              <a:off x="1576440" y="565956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164"/>
            <a:stretch/>
          </p:blipFill>
          <p:spPr>
            <a:xfrm>
              <a:off x="903240" y="558972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165"/>
            <a:stretch/>
          </p:blipFill>
          <p:spPr>
            <a:xfrm>
              <a:off x="1746360" y="553716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166"/>
            <a:stretch/>
          </p:blipFill>
          <p:spPr>
            <a:xfrm>
              <a:off x="1604880" y="515628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167"/>
            <a:stretch/>
          </p:blipFill>
          <p:spPr>
            <a:xfrm>
              <a:off x="1587600" y="499896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" descr=""/>
            <p:cNvPicPr/>
            <p:nvPr/>
          </p:nvPicPr>
          <p:blipFill>
            <a:blip r:embed="rId168"/>
            <a:stretch/>
          </p:blipFill>
          <p:spPr>
            <a:xfrm>
              <a:off x="1859040" y="540540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" descr=""/>
            <p:cNvPicPr/>
            <p:nvPr/>
          </p:nvPicPr>
          <p:blipFill>
            <a:blip r:embed="rId169"/>
            <a:stretch/>
          </p:blipFill>
          <p:spPr>
            <a:xfrm>
              <a:off x="1701720" y="591516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" descr=""/>
            <p:cNvPicPr/>
            <p:nvPr/>
          </p:nvPicPr>
          <p:blipFill>
            <a:blip r:embed="rId170"/>
            <a:stretch/>
          </p:blipFill>
          <p:spPr>
            <a:xfrm>
              <a:off x="1941480" y="552780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" descr=""/>
            <p:cNvPicPr/>
            <p:nvPr/>
          </p:nvPicPr>
          <p:blipFill>
            <a:blip r:embed="rId171"/>
            <a:stretch/>
          </p:blipFill>
          <p:spPr>
            <a:xfrm>
              <a:off x="1892160" y="5813280"/>
              <a:ext cx="19872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172"/>
            <a:stretch/>
          </p:blipFill>
          <p:spPr>
            <a:xfrm>
              <a:off x="1808280" y="512136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173"/>
            <a:stretch/>
          </p:blipFill>
          <p:spPr>
            <a:xfrm>
              <a:off x="963720" y="571824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174"/>
            <a:stretch/>
          </p:blipFill>
          <p:spPr>
            <a:xfrm>
              <a:off x="1203480" y="573732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175"/>
            <a:stretch/>
          </p:blipFill>
          <p:spPr>
            <a:xfrm>
              <a:off x="1249200" y="5865840"/>
              <a:ext cx="19872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" descr=""/>
            <p:cNvPicPr/>
            <p:nvPr/>
          </p:nvPicPr>
          <p:blipFill>
            <a:blip r:embed="rId176"/>
            <a:stretch/>
          </p:blipFill>
          <p:spPr>
            <a:xfrm>
              <a:off x="1387440" y="510372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" descr=""/>
            <p:cNvPicPr/>
            <p:nvPr/>
          </p:nvPicPr>
          <p:blipFill>
            <a:blip r:embed="rId177"/>
            <a:stretch/>
          </p:blipFill>
          <p:spPr>
            <a:xfrm>
              <a:off x="1001880" y="582948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" descr=""/>
            <p:cNvPicPr/>
            <p:nvPr/>
          </p:nvPicPr>
          <p:blipFill>
            <a:blip r:embed="rId178"/>
            <a:stretch/>
          </p:blipFill>
          <p:spPr>
            <a:xfrm>
              <a:off x="1488960" y="5937120"/>
              <a:ext cx="19872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" descr=""/>
            <p:cNvPicPr/>
            <p:nvPr/>
          </p:nvPicPr>
          <p:blipFill>
            <a:blip r:embed="rId179"/>
            <a:stretch/>
          </p:blipFill>
          <p:spPr>
            <a:xfrm>
              <a:off x="1166760" y="510552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" descr=""/>
            <p:cNvPicPr/>
            <p:nvPr/>
          </p:nvPicPr>
          <p:blipFill>
            <a:blip r:embed="rId180"/>
            <a:stretch/>
          </p:blipFill>
          <p:spPr>
            <a:xfrm>
              <a:off x="1863720" y="568944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181"/>
            <a:stretch/>
          </p:blipFill>
          <p:spPr>
            <a:xfrm>
              <a:off x="1170000" y="533088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" descr=""/>
            <p:cNvPicPr/>
            <p:nvPr/>
          </p:nvPicPr>
          <p:blipFill>
            <a:blip r:embed="rId182"/>
            <a:stretch/>
          </p:blipFill>
          <p:spPr>
            <a:xfrm>
              <a:off x="1042920" y="546084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183"/>
            <a:stretch/>
          </p:blipFill>
          <p:spPr>
            <a:xfrm>
              <a:off x="1089000" y="522288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184"/>
            <a:stretch/>
          </p:blipFill>
          <p:spPr>
            <a:xfrm>
              <a:off x="1325520" y="522936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185"/>
            <a:stretch/>
          </p:blipFill>
          <p:spPr>
            <a:xfrm>
              <a:off x="1571760" y="527544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86"/>
            <a:stretch/>
          </p:blipFill>
          <p:spPr>
            <a:xfrm>
              <a:off x="1604880" y="540216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" descr=""/>
            <p:cNvPicPr/>
            <p:nvPr/>
          </p:nvPicPr>
          <p:blipFill>
            <a:blip r:embed="rId187"/>
            <a:stretch/>
          </p:blipFill>
          <p:spPr>
            <a:xfrm>
              <a:off x="1450800" y="5789520"/>
              <a:ext cx="19872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" descr=""/>
            <p:cNvPicPr/>
            <p:nvPr/>
          </p:nvPicPr>
          <p:blipFill>
            <a:blip r:embed="rId188"/>
            <a:stretch/>
          </p:blipFill>
          <p:spPr>
            <a:xfrm>
              <a:off x="1681200" y="579600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" descr=""/>
            <p:cNvPicPr/>
            <p:nvPr/>
          </p:nvPicPr>
          <p:blipFill>
            <a:blip r:embed="rId189"/>
            <a:stretch/>
          </p:blipFill>
          <p:spPr>
            <a:xfrm>
              <a:off x="1803240" y="5284800"/>
              <a:ext cx="19872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190"/>
            <a:stretch/>
          </p:blipFill>
          <p:spPr>
            <a:xfrm>
              <a:off x="1104840" y="598968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" descr=""/>
            <p:cNvPicPr/>
            <p:nvPr/>
          </p:nvPicPr>
          <p:blipFill>
            <a:blip r:embed="rId191"/>
            <a:stretch/>
          </p:blipFill>
          <p:spPr>
            <a:xfrm>
              <a:off x="1320840" y="603396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" descr=""/>
            <p:cNvPicPr/>
            <p:nvPr/>
          </p:nvPicPr>
          <p:blipFill>
            <a:blip r:embed="rId192"/>
            <a:stretch/>
          </p:blipFill>
          <p:spPr>
            <a:xfrm>
              <a:off x="1600200" y="607212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193"/>
            <a:stretch/>
          </p:blipFill>
          <p:spPr>
            <a:xfrm>
              <a:off x="1886040" y="6002280"/>
              <a:ext cx="198360" cy="10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244000" y="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II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50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500"/>
                            </p:stCondLst>
                            <p:childTnLst>
                              <p:par>
                                <p:cTn id="4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5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5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4500"/>
                            </p:stCondLst>
                            <p:childTnLst>
                              <p:par>
                                <p:cTn id="4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5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6000"/>
                            </p:stCondLst>
                            <p:childTnLst>
                              <p:par>
                                <p:cTn id="5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6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6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500"/>
                            </p:stCondLst>
                            <p:childTnLst>
                              <p:par>
                                <p:cTn id="5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65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5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7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70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7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7000"/>
                            </p:stCondLst>
                            <p:childTnLst>
                              <p:par>
                                <p:cTn id="59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7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70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7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7500"/>
                            </p:stCondLst>
                            <p:childTnLst>
                              <p:par>
                                <p:cTn id="6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7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7500"/>
                            </p:stCondLst>
                            <p:childTnLst>
                              <p:par>
                                <p:cTn id="6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7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7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75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7500"/>
                            </p:stCondLst>
                            <p:childTnLst>
                              <p:par>
                                <p:cTn id="6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75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7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75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750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7500"/>
                            </p:stCondLst>
                            <p:childTnLst>
                              <p:par>
                                <p:cTn id="6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7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7500"/>
                            </p:stCondLst>
                            <p:childTnLst>
                              <p:par>
                                <p:cTn id="6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75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75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7500"/>
                            </p:stCondLst>
                            <p:childTnLst>
                              <p:par>
                                <p:cTn id="6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7500"/>
                            </p:stCondLst>
                            <p:childTnLst>
                              <p:par>
                                <p:cTn id="6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7500"/>
                            </p:stCondLst>
                            <p:childTnLst>
                              <p:par>
                                <p:cTn id="6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7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75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75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75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75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80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0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0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80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8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80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0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800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850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5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8500"/>
                            </p:stCondLst>
                            <p:childTnLst>
                              <p:par>
                                <p:cTn id="7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850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85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8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850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85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8500"/>
                            </p:stCondLst>
                            <p:childTnLst>
                              <p:par>
                                <p:cTn id="7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85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90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900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9000"/>
                            </p:stCondLst>
                            <p:childTnLst>
                              <p:par>
                                <p:cTn id="7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9500"/>
                            </p:stCondLst>
                            <p:childTnLst>
                              <p:par>
                                <p:cTn id="7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9500"/>
                            </p:stCondLst>
                            <p:childTnLst>
                              <p:par>
                                <p:cTn id="7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9500"/>
                            </p:stCondLst>
                            <p:childTnLst>
                              <p:par>
                                <p:cTn id="7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2500"/>
                            </p:stCondLst>
                            <p:childTnLst>
                              <p:par>
                                <p:cTn id="8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8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3500"/>
                            </p:stCondLst>
                            <p:childTnLst>
                              <p:par>
                                <p:cTn id="8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9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3751200" y="4167360"/>
            <a:ext cx="5186520" cy="269064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s specific announce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30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3641 RIR allocations are advertised (resulting in 10904 routing advertisements), of thes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2938 Advertisements precisely match the RIR Allocation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80% are doing the right thing! </a:t>
            </a:r>
            <a:r>
              <a:rPr b="0" lang="en-US" sz="1800" spc="-1" strike="noStrike">
                <a:solidFill>
                  <a:srgbClr val="f9f5e1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7966 Advertisements are more specifics of 1206 allocations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20% of the RIR allocations generate more specifics 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at an average of 6.6 more specific advertisements per allocation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3"/>
          <a:stretch/>
        </p:blipFill>
        <p:spPr>
          <a:xfrm>
            <a:off x="8431200" y="2165400"/>
            <a:ext cx="405000" cy="58716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4"/>
          <a:stretch/>
        </p:blipFill>
        <p:spPr>
          <a:xfrm>
            <a:off x="1281240" y="54738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5"/>
          <a:stretch/>
        </p:blipFill>
        <p:spPr>
          <a:xfrm>
            <a:off x="1389240" y="53640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6"/>
          <a:stretch/>
        </p:blipFill>
        <p:spPr>
          <a:xfrm>
            <a:off x="1119240" y="55944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7"/>
          <a:stretch/>
        </p:blipFill>
        <p:spPr>
          <a:xfrm>
            <a:off x="1492200" y="553248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8"/>
          <a:stretch/>
        </p:blipFill>
        <p:spPr>
          <a:xfrm>
            <a:off x="966960" y="532296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9"/>
          <a:stretch/>
        </p:blipFill>
        <p:spPr>
          <a:xfrm>
            <a:off x="1341360" y="56340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10"/>
          <a:stretch/>
        </p:blipFill>
        <p:spPr>
          <a:xfrm>
            <a:off x="1576440" y="565956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11"/>
          <a:stretch/>
        </p:blipFill>
        <p:spPr>
          <a:xfrm>
            <a:off x="903240" y="55897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12"/>
          <a:stretch/>
        </p:blipFill>
        <p:spPr>
          <a:xfrm>
            <a:off x="1746360" y="55371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13"/>
          <a:stretch/>
        </p:blipFill>
        <p:spPr>
          <a:xfrm>
            <a:off x="1604880" y="515628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14"/>
          <a:stretch/>
        </p:blipFill>
        <p:spPr>
          <a:xfrm>
            <a:off x="1587600" y="49989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15"/>
          <a:stretch/>
        </p:blipFill>
        <p:spPr>
          <a:xfrm>
            <a:off x="1859040" y="54054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16"/>
          <a:stretch/>
        </p:blipFill>
        <p:spPr>
          <a:xfrm>
            <a:off x="1941480" y="55278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17"/>
          <a:stretch/>
        </p:blipFill>
        <p:spPr>
          <a:xfrm>
            <a:off x="1808280" y="512136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18"/>
          <a:stretch/>
        </p:blipFill>
        <p:spPr>
          <a:xfrm>
            <a:off x="963720" y="57182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19"/>
          <a:stretch/>
        </p:blipFill>
        <p:spPr>
          <a:xfrm>
            <a:off x="1203480" y="57373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20"/>
          <a:stretch/>
        </p:blipFill>
        <p:spPr>
          <a:xfrm>
            <a:off x="1249200" y="586584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21"/>
          <a:stretch/>
        </p:blipFill>
        <p:spPr>
          <a:xfrm>
            <a:off x="1387440" y="5103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2"/>
          <a:stretch/>
        </p:blipFill>
        <p:spPr>
          <a:xfrm>
            <a:off x="1001880" y="582948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23"/>
          <a:stretch/>
        </p:blipFill>
        <p:spPr>
          <a:xfrm>
            <a:off x="1166760" y="51055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24"/>
          <a:stretch/>
        </p:blipFill>
        <p:spPr>
          <a:xfrm>
            <a:off x="1170000" y="533088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25"/>
          <a:stretch/>
        </p:blipFill>
        <p:spPr>
          <a:xfrm>
            <a:off x="1042920" y="546084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26"/>
          <a:stretch/>
        </p:blipFill>
        <p:spPr>
          <a:xfrm>
            <a:off x="1089000" y="522288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27"/>
          <a:stretch/>
        </p:blipFill>
        <p:spPr>
          <a:xfrm>
            <a:off x="1325520" y="522936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28"/>
          <a:stretch/>
        </p:blipFill>
        <p:spPr>
          <a:xfrm>
            <a:off x="1571760" y="52754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29"/>
          <a:stretch/>
        </p:blipFill>
        <p:spPr>
          <a:xfrm>
            <a:off x="1604880" y="54021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30"/>
          <a:stretch/>
        </p:blipFill>
        <p:spPr>
          <a:xfrm>
            <a:off x="1450800" y="578952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1"/>
          <a:stretch/>
        </p:blipFill>
        <p:spPr>
          <a:xfrm>
            <a:off x="1803240" y="528480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32"/>
          <a:stretch/>
        </p:blipFill>
        <p:spPr>
          <a:xfrm>
            <a:off x="1104840" y="598968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33"/>
          <a:stretch/>
        </p:blipFill>
        <p:spPr>
          <a:xfrm>
            <a:off x="1320840" y="6033960"/>
            <a:ext cx="198360" cy="106560"/>
          </a:xfrm>
          <a:prstGeom prst="rect">
            <a:avLst/>
          </a:prstGeom>
          <a:ln w="0">
            <a:noFill/>
          </a:ln>
        </p:spPr>
      </p:pic>
      <p:grpSp>
        <p:nvGrpSpPr>
          <p:cNvPr id="696" name=""/>
          <p:cNvGrpSpPr/>
          <p:nvPr/>
        </p:nvGrpSpPr>
        <p:grpSpPr>
          <a:xfrm>
            <a:off x="1488960" y="5689440"/>
            <a:ext cx="601920" cy="489240"/>
            <a:chOff x="1488960" y="5689440"/>
            <a:chExt cx="601920" cy="489240"/>
          </a:xfrm>
        </p:grpSpPr>
        <p:pic>
          <p:nvPicPr>
            <p:cNvPr id="697" name="" descr=""/>
            <p:cNvPicPr/>
            <p:nvPr/>
          </p:nvPicPr>
          <p:blipFill>
            <a:blip r:embed="rId34"/>
            <a:stretch/>
          </p:blipFill>
          <p:spPr>
            <a:xfrm>
              <a:off x="1701720" y="591516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" descr=""/>
            <p:cNvPicPr/>
            <p:nvPr/>
          </p:nvPicPr>
          <p:blipFill>
            <a:blip r:embed="rId35"/>
            <a:stretch/>
          </p:blipFill>
          <p:spPr>
            <a:xfrm>
              <a:off x="1892160" y="5813280"/>
              <a:ext cx="19872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" descr=""/>
            <p:cNvPicPr/>
            <p:nvPr/>
          </p:nvPicPr>
          <p:blipFill>
            <a:blip r:embed="rId36"/>
            <a:stretch/>
          </p:blipFill>
          <p:spPr>
            <a:xfrm>
              <a:off x="1863720" y="568944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" descr=""/>
            <p:cNvPicPr/>
            <p:nvPr/>
          </p:nvPicPr>
          <p:blipFill>
            <a:blip r:embed="rId37"/>
            <a:stretch/>
          </p:blipFill>
          <p:spPr>
            <a:xfrm>
              <a:off x="1681200" y="579600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38"/>
            <a:stretch/>
          </p:blipFill>
          <p:spPr>
            <a:xfrm>
              <a:off x="1488960" y="5937120"/>
              <a:ext cx="19872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39"/>
            <a:stretch/>
          </p:blipFill>
          <p:spPr>
            <a:xfrm>
              <a:off x="1600200" y="607212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40"/>
            <a:stretch/>
          </p:blipFill>
          <p:spPr>
            <a:xfrm>
              <a:off x="1886040" y="6002280"/>
              <a:ext cx="198360" cy="10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4" name=""/>
          <p:cNvGrpSpPr/>
          <p:nvPr/>
        </p:nvGrpSpPr>
        <p:grpSpPr>
          <a:xfrm>
            <a:off x="898560" y="4992840"/>
            <a:ext cx="1239840" cy="1147680"/>
            <a:chOff x="898560" y="4992840"/>
            <a:chExt cx="1239840" cy="1147680"/>
          </a:xfrm>
        </p:grpSpPr>
        <p:sp>
          <p:nvSpPr>
            <p:cNvPr id="705" name=""/>
            <p:cNvSpPr/>
            <p:nvPr/>
          </p:nvSpPr>
          <p:spPr>
            <a:xfrm>
              <a:off x="1165320" y="509760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87440" y="509580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82520" y="5216400"/>
              <a:ext cx="19872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4080" y="522144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84360" y="499284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00200" y="514980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806480" y="511164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65160" y="531504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62080" y="531972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387440" y="535140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68520" y="5267160"/>
              <a:ext cx="198360" cy="1130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97120" y="527688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41480" y="545472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279440" y="546264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488960" y="5524560"/>
              <a:ext cx="19872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596960" y="538956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57240" y="5397480"/>
              <a:ext cx="19872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98560" y="558180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117440" y="5587920"/>
              <a:ext cx="19872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336680" y="562608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574640" y="5649840"/>
              <a:ext cx="19872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743120" y="5530680"/>
              <a:ext cx="198360" cy="1130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940040" y="552132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1920" y="5711760"/>
              <a:ext cx="19872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00240" y="573084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444680" y="578160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0080" y="581832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244520" y="585792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17600" y="602784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101600" y="5981760"/>
              <a:ext cx="19872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pic>
        <p:nvPicPr>
          <p:cNvPr id="735" name="" descr=""/>
          <p:cNvPicPr/>
          <p:nvPr/>
        </p:nvPicPr>
        <p:blipFill>
          <a:blip r:embed="rId41"/>
          <a:stretch/>
        </p:blipFill>
        <p:spPr>
          <a:xfrm>
            <a:off x="5470560" y="50878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42"/>
          <a:stretch/>
        </p:blipFill>
        <p:spPr>
          <a:xfrm>
            <a:off x="5429160" y="47419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43"/>
          <a:stretch/>
        </p:blipFill>
        <p:spPr>
          <a:xfrm>
            <a:off x="5796000" y="48690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44"/>
          <a:stretch/>
        </p:blipFill>
        <p:spPr>
          <a:xfrm>
            <a:off x="5989680" y="51004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45"/>
          <a:stretch/>
        </p:blipFill>
        <p:spPr>
          <a:xfrm>
            <a:off x="6012000" y="4941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46"/>
          <a:stretch/>
        </p:blipFill>
        <p:spPr>
          <a:xfrm>
            <a:off x="6227640" y="501336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47"/>
          <a:stretch/>
        </p:blipFill>
        <p:spPr>
          <a:xfrm>
            <a:off x="6588000" y="494172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48"/>
          <a:stretch/>
        </p:blipFill>
        <p:spPr>
          <a:xfrm>
            <a:off x="7020000" y="48690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49"/>
          <a:stretch/>
        </p:blipFill>
        <p:spPr>
          <a:xfrm>
            <a:off x="7236000" y="4941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50"/>
          <a:stretch/>
        </p:blipFill>
        <p:spPr>
          <a:xfrm>
            <a:off x="7380360" y="522936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51"/>
          <a:stretch/>
        </p:blipFill>
        <p:spPr>
          <a:xfrm>
            <a:off x="7326360" y="50515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52"/>
          <a:stretch/>
        </p:blipFill>
        <p:spPr>
          <a:xfrm>
            <a:off x="7702560" y="484344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53"/>
          <a:stretch/>
        </p:blipFill>
        <p:spPr>
          <a:xfrm>
            <a:off x="7596360" y="51228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54"/>
          <a:stretch/>
        </p:blipFill>
        <p:spPr>
          <a:xfrm>
            <a:off x="8244000" y="501336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55"/>
          <a:stretch/>
        </p:blipFill>
        <p:spPr>
          <a:xfrm>
            <a:off x="4788000" y="573408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56"/>
          <a:stretch/>
        </p:blipFill>
        <p:spPr>
          <a:xfrm>
            <a:off x="6886440" y="589104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57"/>
          <a:stretch/>
        </p:blipFill>
        <p:spPr>
          <a:xfrm>
            <a:off x="7164360" y="56610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58"/>
          <a:stretch/>
        </p:blipFill>
        <p:spPr>
          <a:xfrm>
            <a:off x="7451640" y="56610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59"/>
          <a:stretch/>
        </p:blipFill>
        <p:spPr>
          <a:xfrm>
            <a:off x="7667640" y="55897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60"/>
          <a:stretch/>
        </p:blipFill>
        <p:spPr>
          <a:xfrm>
            <a:off x="7596360" y="57862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61"/>
          <a:stretch/>
        </p:blipFill>
        <p:spPr>
          <a:xfrm>
            <a:off x="7020000" y="55166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62"/>
          <a:stretch/>
        </p:blipFill>
        <p:spPr>
          <a:xfrm>
            <a:off x="6300720" y="4581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63"/>
          <a:stretch/>
        </p:blipFill>
        <p:spPr>
          <a:xfrm>
            <a:off x="5581800" y="54054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64"/>
          <a:stretch/>
        </p:blipFill>
        <p:spPr>
          <a:xfrm>
            <a:off x="5851440" y="54072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65"/>
          <a:stretch/>
        </p:blipFill>
        <p:spPr>
          <a:xfrm>
            <a:off x="6029280" y="52754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66"/>
          <a:stretch/>
        </p:blipFill>
        <p:spPr>
          <a:xfrm>
            <a:off x="6443640" y="530064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67"/>
          <a:stretch/>
        </p:blipFill>
        <p:spPr>
          <a:xfrm>
            <a:off x="6630840" y="524016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68"/>
          <a:stretch/>
        </p:blipFill>
        <p:spPr>
          <a:xfrm>
            <a:off x="6877080" y="522936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69"/>
          <a:stretch/>
        </p:blipFill>
        <p:spPr>
          <a:xfrm>
            <a:off x="7164360" y="5157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70"/>
          <a:stretch/>
        </p:blipFill>
        <p:spPr>
          <a:xfrm>
            <a:off x="7236000" y="53737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71"/>
          <a:stretch/>
        </p:blipFill>
        <p:spPr>
          <a:xfrm>
            <a:off x="7885080" y="5157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72"/>
          <a:stretch/>
        </p:blipFill>
        <p:spPr>
          <a:xfrm>
            <a:off x="7956720" y="53737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73"/>
          <a:stretch/>
        </p:blipFill>
        <p:spPr>
          <a:xfrm>
            <a:off x="8172360" y="5157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74"/>
          <a:stretch/>
        </p:blipFill>
        <p:spPr>
          <a:xfrm>
            <a:off x="6443640" y="5157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75"/>
          <a:stretch/>
        </p:blipFill>
        <p:spPr>
          <a:xfrm>
            <a:off x="4572000" y="5805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76"/>
          <a:stretch/>
        </p:blipFill>
        <p:spPr>
          <a:xfrm>
            <a:off x="4788000" y="595008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77"/>
          <a:stretch/>
        </p:blipFill>
        <p:spPr>
          <a:xfrm>
            <a:off x="5003640" y="616572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78"/>
          <a:stretch/>
        </p:blipFill>
        <p:spPr>
          <a:xfrm>
            <a:off x="4994280" y="57625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79"/>
          <a:stretch/>
        </p:blipFill>
        <p:spPr>
          <a:xfrm>
            <a:off x="7308720" y="587700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80"/>
          <a:stretch/>
        </p:blipFill>
        <p:spPr>
          <a:xfrm>
            <a:off x="7527960" y="5913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81"/>
          <a:stretch/>
        </p:blipFill>
        <p:spPr>
          <a:xfrm>
            <a:off x="7885080" y="573408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82"/>
          <a:stretch/>
        </p:blipFill>
        <p:spPr>
          <a:xfrm>
            <a:off x="6948360" y="630864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83"/>
          <a:stretch/>
        </p:blipFill>
        <p:spPr>
          <a:xfrm>
            <a:off x="7380360" y="6021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84"/>
          <a:stretch/>
        </p:blipFill>
        <p:spPr>
          <a:xfrm>
            <a:off x="4500720" y="6021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85"/>
          <a:stretch/>
        </p:blipFill>
        <p:spPr>
          <a:xfrm>
            <a:off x="5362560" y="595944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86"/>
          <a:stretch/>
        </p:blipFill>
        <p:spPr>
          <a:xfrm>
            <a:off x="5432400" y="52484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87"/>
          <a:stretch/>
        </p:blipFill>
        <p:spPr>
          <a:xfrm>
            <a:off x="5688000" y="55879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88"/>
          <a:stretch/>
        </p:blipFill>
        <p:spPr>
          <a:xfrm>
            <a:off x="5680080" y="52624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89"/>
          <a:stretch/>
        </p:blipFill>
        <p:spPr>
          <a:xfrm>
            <a:off x="5850000" y="4743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90"/>
          <a:stretch/>
        </p:blipFill>
        <p:spPr>
          <a:xfrm>
            <a:off x="6058080" y="45180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91"/>
          <a:stretch/>
        </p:blipFill>
        <p:spPr>
          <a:xfrm>
            <a:off x="6554880" y="55180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92"/>
          <a:stretch/>
        </p:blipFill>
        <p:spPr>
          <a:xfrm>
            <a:off x="6703920" y="540396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93"/>
          <a:stretch/>
        </p:blipFill>
        <p:spPr>
          <a:xfrm>
            <a:off x="6948360" y="537372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94"/>
          <a:stretch/>
        </p:blipFill>
        <p:spPr>
          <a:xfrm>
            <a:off x="7310520" y="55180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95"/>
          <a:stretch/>
        </p:blipFill>
        <p:spPr>
          <a:xfrm>
            <a:off x="7524720" y="53737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96"/>
          <a:stretch/>
        </p:blipFill>
        <p:spPr>
          <a:xfrm>
            <a:off x="7740720" y="530064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97"/>
          <a:stretch/>
        </p:blipFill>
        <p:spPr>
          <a:xfrm>
            <a:off x="7966080" y="55180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98"/>
          <a:stretch/>
        </p:blipFill>
        <p:spPr>
          <a:xfrm>
            <a:off x="8172360" y="53737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99"/>
          <a:stretch/>
        </p:blipFill>
        <p:spPr>
          <a:xfrm>
            <a:off x="7740720" y="54450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100"/>
          <a:stretch/>
        </p:blipFill>
        <p:spPr>
          <a:xfrm>
            <a:off x="4716360" y="623736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101"/>
          <a:stretch/>
        </p:blipFill>
        <p:spPr>
          <a:xfrm>
            <a:off x="5076720" y="638172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102"/>
          <a:stretch/>
        </p:blipFill>
        <p:spPr>
          <a:xfrm>
            <a:off x="5219640" y="623736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103"/>
          <a:stretch/>
        </p:blipFill>
        <p:spPr>
          <a:xfrm>
            <a:off x="5086440" y="5913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104"/>
          <a:stretch/>
        </p:blipFill>
        <p:spPr>
          <a:xfrm>
            <a:off x="5435640" y="6381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105"/>
          <a:stretch/>
        </p:blipFill>
        <p:spPr>
          <a:xfrm>
            <a:off x="5724360" y="630864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106"/>
          <a:stretch/>
        </p:blipFill>
        <p:spPr>
          <a:xfrm>
            <a:off x="5522760" y="609120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107"/>
          <a:stretch/>
        </p:blipFill>
        <p:spPr>
          <a:xfrm>
            <a:off x="5883120" y="601488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108"/>
          <a:stretch/>
        </p:blipFill>
        <p:spPr>
          <a:xfrm>
            <a:off x="6516720" y="623736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109"/>
          <a:stretch/>
        </p:blipFill>
        <p:spPr>
          <a:xfrm>
            <a:off x="6372360" y="60930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110"/>
          <a:stretch/>
        </p:blipFill>
        <p:spPr>
          <a:xfrm>
            <a:off x="6872400" y="61308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111"/>
          <a:stretch/>
        </p:blipFill>
        <p:spPr>
          <a:xfrm>
            <a:off x="7093080" y="6021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112"/>
          <a:stretch/>
        </p:blipFill>
        <p:spPr>
          <a:xfrm>
            <a:off x="6732720" y="62420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113"/>
          <a:stretch/>
        </p:blipFill>
        <p:spPr>
          <a:xfrm>
            <a:off x="7093080" y="6165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114"/>
          <a:stretch/>
        </p:blipFill>
        <p:spPr>
          <a:xfrm>
            <a:off x="6659640" y="6021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115"/>
          <a:stretch/>
        </p:blipFill>
        <p:spPr>
          <a:xfrm>
            <a:off x="5940360" y="6165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116"/>
          <a:stretch/>
        </p:blipFill>
        <p:spPr>
          <a:xfrm>
            <a:off x="7380360" y="6165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117"/>
          <a:stretch/>
        </p:blipFill>
        <p:spPr>
          <a:xfrm>
            <a:off x="6732720" y="63817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118"/>
          <a:stretch/>
        </p:blipFill>
        <p:spPr>
          <a:xfrm>
            <a:off x="5364000" y="450864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119"/>
          <a:stretch/>
        </p:blipFill>
        <p:spPr>
          <a:xfrm>
            <a:off x="5651640" y="44370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120"/>
          <a:stretch/>
        </p:blipFill>
        <p:spPr>
          <a:xfrm>
            <a:off x="5940360" y="43657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121"/>
          <a:stretch/>
        </p:blipFill>
        <p:spPr>
          <a:xfrm>
            <a:off x="6227640" y="436572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122"/>
          <a:stretch/>
        </p:blipFill>
        <p:spPr>
          <a:xfrm>
            <a:off x="6516720" y="44370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123"/>
          <a:stretch/>
        </p:blipFill>
        <p:spPr>
          <a:xfrm>
            <a:off x="5651640" y="46530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124"/>
          <a:stretch/>
        </p:blipFill>
        <p:spPr>
          <a:xfrm>
            <a:off x="6084720" y="465300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819" name="" descr=""/>
          <p:cNvPicPr/>
          <p:nvPr/>
        </p:nvPicPr>
        <p:blipFill>
          <a:blip r:embed="rId125"/>
          <a:stretch/>
        </p:blipFill>
        <p:spPr>
          <a:xfrm>
            <a:off x="6659640" y="46530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126"/>
          <a:stretch/>
        </p:blipFill>
        <p:spPr>
          <a:xfrm>
            <a:off x="6877080" y="47242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127"/>
          <a:stretch/>
        </p:blipFill>
        <p:spPr>
          <a:xfrm>
            <a:off x="7164360" y="46530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128"/>
          <a:stretch/>
        </p:blipFill>
        <p:spPr>
          <a:xfrm>
            <a:off x="7451640" y="4581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129"/>
          <a:stretch/>
        </p:blipFill>
        <p:spPr>
          <a:xfrm>
            <a:off x="7740720" y="45086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130"/>
          <a:stretch/>
        </p:blipFill>
        <p:spPr>
          <a:xfrm>
            <a:off x="8028000" y="4581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131"/>
          <a:stretch/>
        </p:blipFill>
        <p:spPr>
          <a:xfrm>
            <a:off x="7667640" y="469116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132"/>
          <a:stretch/>
        </p:blipFill>
        <p:spPr>
          <a:xfrm>
            <a:off x="8101080" y="47242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133"/>
          <a:stretch/>
        </p:blipFill>
        <p:spPr>
          <a:xfrm>
            <a:off x="5567400" y="48690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134"/>
          <a:stretch/>
        </p:blipFill>
        <p:spPr>
          <a:xfrm>
            <a:off x="5724360" y="508464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135"/>
          <a:stretch/>
        </p:blipFill>
        <p:spPr>
          <a:xfrm>
            <a:off x="5867280" y="458136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136"/>
          <a:stretch/>
        </p:blipFill>
        <p:spPr>
          <a:xfrm>
            <a:off x="6084720" y="479736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137"/>
          <a:stretch/>
        </p:blipFill>
        <p:spPr>
          <a:xfrm>
            <a:off x="6443640" y="47242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138"/>
          <a:stretch/>
        </p:blipFill>
        <p:spPr>
          <a:xfrm>
            <a:off x="6372360" y="48690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139"/>
          <a:stretch/>
        </p:blipFill>
        <p:spPr>
          <a:xfrm>
            <a:off x="6659640" y="4797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140"/>
          <a:stretch/>
        </p:blipFill>
        <p:spPr>
          <a:xfrm>
            <a:off x="6732720" y="508464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141"/>
          <a:stretch/>
        </p:blipFill>
        <p:spPr>
          <a:xfrm>
            <a:off x="6948360" y="501336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142"/>
          <a:stretch/>
        </p:blipFill>
        <p:spPr>
          <a:xfrm>
            <a:off x="7451640" y="4797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143"/>
          <a:stretch/>
        </p:blipFill>
        <p:spPr>
          <a:xfrm>
            <a:off x="7542360" y="49784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144"/>
          <a:stretch/>
        </p:blipFill>
        <p:spPr>
          <a:xfrm>
            <a:off x="7958160" y="48099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145"/>
          <a:stretch/>
        </p:blipFill>
        <p:spPr>
          <a:xfrm>
            <a:off x="8190000" y="486900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146"/>
          <a:stretch/>
        </p:blipFill>
        <p:spPr>
          <a:xfrm>
            <a:off x="7885080" y="505152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147"/>
          <a:stretch/>
        </p:blipFill>
        <p:spPr>
          <a:xfrm>
            <a:off x="6300720" y="54529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148"/>
          <a:stretch/>
        </p:blipFill>
        <p:spPr>
          <a:xfrm>
            <a:off x="5665680" y="590220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149"/>
          <a:stretch/>
        </p:blipFill>
        <p:spPr>
          <a:xfrm>
            <a:off x="6046920" y="584208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150"/>
          <a:stretch/>
        </p:blipFill>
        <p:spPr>
          <a:xfrm>
            <a:off x="6267600" y="560088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151"/>
          <a:stretch/>
        </p:blipFill>
        <p:spPr>
          <a:xfrm>
            <a:off x="6411960" y="575316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152"/>
          <a:stretch/>
        </p:blipFill>
        <p:spPr>
          <a:xfrm>
            <a:off x="6846840" y="56959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153"/>
          <a:stretch/>
        </p:blipFill>
        <p:spPr>
          <a:xfrm>
            <a:off x="5338800" y="53863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154"/>
          <a:stretch/>
        </p:blipFill>
        <p:spPr>
          <a:xfrm>
            <a:off x="5945040" y="5627520"/>
            <a:ext cx="198720" cy="10656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155"/>
          <a:stretch/>
        </p:blipFill>
        <p:spPr>
          <a:xfrm>
            <a:off x="6024600" y="551808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156"/>
          <a:stretch/>
        </p:blipFill>
        <p:spPr>
          <a:xfrm>
            <a:off x="6554880" y="56275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157"/>
          <a:stretch/>
        </p:blipFill>
        <p:spPr>
          <a:xfrm>
            <a:off x="6789600" y="555156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158"/>
          <a:stretch/>
        </p:blipFill>
        <p:spPr>
          <a:xfrm>
            <a:off x="5305320" y="5745240"/>
            <a:ext cx="198720" cy="10620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159"/>
          <a:stretch/>
        </p:blipFill>
        <p:spPr>
          <a:xfrm>
            <a:off x="5562720" y="575136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160"/>
          <a:stretch/>
        </p:blipFill>
        <p:spPr>
          <a:xfrm>
            <a:off x="5418000" y="5599080"/>
            <a:ext cx="198720" cy="106560"/>
          </a:xfrm>
          <a:prstGeom prst="rect">
            <a:avLst/>
          </a:prstGeom>
          <a:ln w="0">
            <a:noFill/>
          </a:ln>
        </p:spPr>
      </p:pic>
      <p:grpSp>
        <p:nvGrpSpPr>
          <p:cNvPr id="855" name=""/>
          <p:cNvGrpSpPr/>
          <p:nvPr/>
        </p:nvGrpSpPr>
        <p:grpSpPr>
          <a:xfrm>
            <a:off x="3990960" y="4797360"/>
            <a:ext cx="1446120" cy="970200"/>
            <a:chOff x="3990960" y="4797360"/>
            <a:chExt cx="1446120" cy="970200"/>
          </a:xfrm>
        </p:grpSpPr>
        <p:pic>
          <p:nvPicPr>
            <p:cNvPr id="856" name="" descr=""/>
            <p:cNvPicPr/>
            <p:nvPr/>
          </p:nvPicPr>
          <p:blipFill>
            <a:blip r:embed="rId161"/>
            <a:stretch/>
          </p:blipFill>
          <p:spPr>
            <a:xfrm>
              <a:off x="4140360" y="544500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" descr=""/>
            <p:cNvPicPr/>
            <p:nvPr/>
          </p:nvPicPr>
          <p:blipFill>
            <a:blip r:embed="rId162"/>
            <a:stretch/>
          </p:blipFill>
          <p:spPr>
            <a:xfrm>
              <a:off x="4710240" y="507528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" descr=""/>
            <p:cNvPicPr/>
            <p:nvPr/>
          </p:nvPicPr>
          <p:blipFill>
            <a:blip r:embed="rId163"/>
            <a:stretch/>
          </p:blipFill>
          <p:spPr>
            <a:xfrm>
              <a:off x="5003640" y="5084640"/>
              <a:ext cx="19872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" descr=""/>
            <p:cNvPicPr/>
            <p:nvPr/>
          </p:nvPicPr>
          <p:blipFill>
            <a:blip r:embed="rId164"/>
            <a:stretch/>
          </p:blipFill>
          <p:spPr>
            <a:xfrm>
              <a:off x="5238720" y="498168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" descr=""/>
            <p:cNvPicPr/>
            <p:nvPr/>
          </p:nvPicPr>
          <p:blipFill>
            <a:blip r:embed="rId165"/>
            <a:stretch/>
          </p:blipFill>
          <p:spPr>
            <a:xfrm>
              <a:off x="4284720" y="566100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" descr=""/>
            <p:cNvPicPr/>
            <p:nvPr/>
          </p:nvPicPr>
          <p:blipFill>
            <a:blip r:embed="rId166"/>
            <a:stretch/>
          </p:blipFill>
          <p:spPr>
            <a:xfrm>
              <a:off x="4830840" y="520236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" descr=""/>
            <p:cNvPicPr/>
            <p:nvPr/>
          </p:nvPicPr>
          <p:blipFill>
            <a:blip r:embed="rId167"/>
            <a:stretch/>
          </p:blipFill>
          <p:spPr>
            <a:xfrm>
              <a:off x="4937040" y="555948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" descr=""/>
            <p:cNvPicPr/>
            <p:nvPr/>
          </p:nvPicPr>
          <p:blipFill>
            <a:blip r:embed="rId168"/>
            <a:stretch/>
          </p:blipFill>
          <p:spPr>
            <a:xfrm>
              <a:off x="4541760" y="480384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" descr=""/>
            <p:cNvPicPr/>
            <p:nvPr/>
          </p:nvPicPr>
          <p:blipFill>
            <a:blip r:embed="rId169"/>
            <a:stretch/>
          </p:blipFill>
          <p:spPr>
            <a:xfrm>
              <a:off x="4376880" y="538164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" descr=""/>
            <p:cNvPicPr/>
            <p:nvPr/>
          </p:nvPicPr>
          <p:blipFill>
            <a:blip r:embed="rId170"/>
            <a:stretch/>
          </p:blipFill>
          <p:spPr>
            <a:xfrm>
              <a:off x="4964040" y="529416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" descr=""/>
            <p:cNvPicPr/>
            <p:nvPr/>
          </p:nvPicPr>
          <p:blipFill>
            <a:blip r:embed="rId171"/>
            <a:stretch/>
          </p:blipFill>
          <p:spPr>
            <a:xfrm>
              <a:off x="4896000" y="544032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7" name="" descr=""/>
            <p:cNvPicPr/>
            <p:nvPr/>
          </p:nvPicPr>
          <p:blipFill>
            <a:blip r:embed="rId172"/>
            <a:stretch/>
          </p:blipFill>
          <p:spPr>
            <a:xfrm>
              <a:off x="5160960" y="525132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" descr=""/>
            <p:cNvPicPr/>
            <p:nvPr/>
          </p:nvPicPr>
          <p:blipFill>
            <a:blip r:embed="rId173"/>
            <a:stretch/>
          </p:blipFill>
          <p:spPr>
            <a:xfrm>
              <a:off x="5226120" y="512460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" descr=""/>
            <p:cNvPicPr/>
            <p:nvPr/>
          </p:nvPicPr>
          <p:blipFill>
            <a:blip r:embed="rId174"/>
            <a:stretch/>
          </p:blipFill>
          <p:spPr>
            <a:xfrm>
              <a:off x="4475160" y="523080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" descr=""/>
            <p:cNvPicPr/>
            <p:nvPr/>
          </p:nvPicPr>
          <p:blipFill>
            <a:blip r:embed="rId175"/>
            <a:stretch/>
          </p:blipFill>
          <p:spPr>
            <a:xfrm>
              <a:off x="4471920" y="551340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" descr=""/>
            <p:cNvPicPr/>
            <p:nvPr/>
          </p:nvPicPr>
          <p:blipFill>
            <a:blip r:embed="rId176"/>
            <a:stretch/>
          </p:blipFill>
          <p:spPr>
            <a:xfrm>
              <a:off x="4695840" y="550872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" descr=""/>
            <p:cNvPicPr/>
            <p:nvPr/>
          </p:nvPicPr>
          <p:blipFill>
            <a:blip r:embed="rId177"/>
            <a:stretch/>
          </p:blipFill>
          <p:spPr>
            <a:xfrm>
              <a:off x="3990960" y="528624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" descr=""/>
            <p:cNvPicPr/>
            <p:nvPr/>
          </p:nvPicPr>
          <p:blipFill>
            <a:blip r:embed="rId178"/>
            <a:stretch/>
          </p:blipFill>
          <p:spPr>
            <a:xfrm>
              <a:off x="4284720" y="494172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" descr=""/>
            <p:cNvPicPr/>
            <p:nvPr/>
          </p:nvPicPr>
          <p:blipFill>
            <a:blip r:embed="rId179"/>
            <a:stretch/>
          </p:blipFill>
          <p:spPr>
            <a:xfrm>
              <a:off x="4500720" y="508464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5" name="" descr=""/>
            <p:cNvPicPr/>
            <p:nvPr/>
          </p:nvPicPr>
          <p:blipFill>
            <a:blip r:embed="rId180"/>
            <a:stretch/>
          </p:blipFill>
          <p:spPr>
            <a:xfrm>
              <a:off x="4773600" y="484200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6" name="" descr=""/>
            <p:cNvPicPr/>
            <p:nvPr/>
          </p:nvPicPr>
          <p:blipFill>
            <a:blip r:embed="rId181"/>
            <a:stretch/>
          </p:blipFill>
          <p:spPr>
            <a:xfrm>
              <a:off x="4253040" y="510696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" descr=""/>
            <p:cNvPicPr/>
            <p:nvPr/>
          </p:nvPicPr>
          <p:blipFill>
            <a:blip r:embed="rId182"/>
            <a:stretch/>
          </p:blipFill>
          <p:spPr>
            <a:xfrm>
              <a:off x="4540320" y="494820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" descr=""/>
            <p:cNvPicPr/>
            <p:nvPr/>
          </p:nvPicPr>
          <p:blipFill>
            <a:blip r:embed="rId183"/>
            <a:stretch/>
          </p:blipFill>
          <p:spPr>
            <a:xfrm>
              <a:off x="5003640" y="4797360"/>
              <a:ext cx="19872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" descr=""/>
            <p:cNvPicPr/>
            <p:nvPr/>
          </p:nvPicPr>
          <p:blipFill>
            <a:blip r:embed="rId184"/>
            <a:stretch/>
          </p:blipFill>
          <p:spPr>
            <a:xfrm>
              <a:off x="5227560" y="485460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" descr=""/>
            <p:cNvPicPr/>
            <p:nvPr/>
          </p:nvPicPr>
          <p:blipFill>
            <a:blip r:embed="rId185"/>
            <a:stretch/>
          </p:blipFill>
          <p:spPr>
            <a:xfrm>
              <a:off x="5181480" y="5594400"/>
              <a:ext cx="19872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" descr=""/>
            <p:cNvPicPr/>
            <p:nvPr/>
          </p:nvPicPr>
          <p:blipFill>
            <a:blip r:embed="rId186"/>
            <a:stretch/>
          </p:blipFill>
          <p:spPr>
            <a:xfrm>
              <a:off x="4052880" y="506412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" descr=""/>
            <p:cNvPicPr/>
            <p:nvPr/>
          </p:nvPicPr>
          <p:blipFill>
            <a:blip r:embed="rId187"/>
            <a:stretch/>
          </p:blipFill>
          <p:spPr>
            <a:xfrm>
              <a:off x="5113440" y="5442120"/>
              <a:ext cx="19836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" descr=""/>
            <p:cNvPicPr/>
            <p:nvPr/>
          </p:nvPicPr>
          <p:blipFill>
            <a:blip r:embed="rId188"/>
            <a:stretch/>
          </p:blipFill>
          <p:spPr>
            <a:xfrm>
              <a:off x="4670280" y="5342040"/>
              <a:ext cx="198720" cy="1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" descr=""/>
            <p:cNvPicPr/>
            <p:nvPr/>
          </p:nvPicPr>
          <p:blipFill>
            <a:blip r:embed="rId189"/>
            <a:stretch/>
          </p:blipFill>
          <p:spPr>
            <a:xfrm>
              <a:off x="4894200" y="4979880"/>
              <a:ext cx="19836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5" name="" descr=""/>
            <p:cNvPicPr/>
            <p:nvPr/>
          </p:nvPicPr>
          <p:blipFill>
            <a:blip r:embed="rId190"/>
            <a:stretch/>
          </p:blipFill>
          <p:spPr>
            <a:xfrm>
              <a:off x="4214880" y="5253120"/>
              <a:ext cx="198360" cy="10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6" name="" descr=""/>
          <p:cNvPicPr/>
          <p:nvPr/>
        </p:nvPicPr>
        <p:blipFill>
          <a:blip r:embed="rId191"/>
          <a:stretch/>
        </p:blipFill>
        <p:spPr>
          <a:xfrm>
            <a:off x="5824440" y="577044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192"/>
          <a:stretch/>
        </p:blipFill>
        <p:spPr>
          <a:xfrm>
            <a:off x="6276960" y="586260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193"/>
          <a:stretch/>
        </p:blipFill>
        <p:spPr>
          <a:xfrm>
            <a:off x="6488280" y="5910120"/>
            <a:ext cx="198360" cy="10656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194"/>
          <a:stretch/>
        </p:blipFill>
        <p:spPr>
          <a:xfrm>
            <a:off x="6665760" y="5815080"/>
            <a:ext cx="198720" cy="106200"/>
          </a:xfrm>
          <a:prstGeom prst="rect">
            <a:avLst/>
          </a:prstGeom>
          <a:ln w="0">
            <a:noFill/>
          </a:ln>
        </p:spPr>
      </p:pic>
      <p:grpSp>
        <p:nvGrpSpPr>
          <p:cNvPr id="890" name=""/>
          <p:cNvGrpSpPr/>
          <p:nvPr/>
        </p:nvGrpSpPr>
        <p:grpSpPr>
          <a:xfrm>
            <a:off x="3987720" y="4789440"/>
            <a:ext cx="1444680" cy="981000"/>
            <a:chOff x="3987720" y="4789440"/>
            <a:chExt cx="1444680" cy="981000"/>
          </a:xfrm>
        </p:grpSpPr>
        <p:sp>
          <p:nvSpPr>
            <p:cNvPr id="891" name=""/>
            <p:cNvSpPr/>
            <p:nvPr/>
          </p:nvSpPr>
          <p:spPr>
            <a:xfrm>
              <a:off x="4537080" y="4802040"/>
              <a:ext cx="198360" cy="1130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72160" y="4836960"/>
              <a:ext cx="198360" cy="1130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991040" y="478944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224320" y="4846680"/>
              <a:ext cx="19872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234040" y="497052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276800" y="493704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533840" y="4941720"/>
              <a:ext cx="198360" cy="1130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052880" y="505620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248000" y="5099040"/>
              <a:ext cx="19872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987720" y="528156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468680" y="5219640"/>
              <a:ext cx="19872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06960" y="524340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502160" y="507672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11680" y="507204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892760" y="497196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135320" y="5433840"/>
              <a:ext cx="198720" cy="1130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363920" y="5372280"/>
              <a:ext cx="19872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664160" y="533880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21120" y="5191200"/>
              <a:ext cx="19872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97520" y="508176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221440" y="511488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154480" y="5248440"/>
              <a:ext cx="19872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959360" y="528624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697280" y="5505480"/>
              <a:ext cx="19872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468680" y="5505480"/>
              <a:ext cx="19872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78240" y="565776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897440" y="542916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111640" y="5433840"/>
              <a:ext cx="198720" cy="1130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930920" y="554832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178600" y="5591160"/>
              <a:ext cx="198360" cy="112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2487600" y="5462640"/>
            <a:ext cx="500040" cy="315720"/>
          </a:xfrm>
          <a:prstGeom prst="rightArrow">
            <a:avLst>
              <a:gd name="adj1" fmla="val 50000"/>
              <a:gd name="adj2" fmla="val 39595"/>
            </a:avLst>
          </a:prstGeom>
          <a:solidFill>
            <a:srgbClr val="f9f5e1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71400" y="466740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95600" y="6208560"/>
            <a:ext cx="78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8244000" y="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II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5" dur="500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2" dur="1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1033" dur="1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034" dur="1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7500"/>
                            </p:stCondLst>
                            <p:childTnLst>
                              <p:par>
                                <p:cTn id="1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7500"/>
                            </p:stCondLst>
                            <p:childTnLst>
                              <p:par>
                                <p:cTn id="1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7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8500"/>
                            </p:stCondLst>
                            <p:childTnLst>
                              <p:par>
                                <p:cTn id="1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8500"/>
                            </p:stCondLst>
                            <p:childTnLst>
                              <p:par>
                                <p:cTn id="1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1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8500"/>
                            </p:stCondLst>
                            <p:childTnLst>
                              <p:par>
                                <p:cTn id="1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8500"/>
                            </p:stCondLst>
                            <p:childTnLst>
                              <p:par>
                                <p:cTn id="1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8500"/>
                            </p:stCondLst>
                            <p:childTnLst>
                              <p:par>
                                <p:cTn id="1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8500"/>
                            </p:stCondLst>
                            <p:childTnLst>
                              <p:par>
                                <p:cTn id="1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8500"/>
                            </p:stCondLst>
                            <p:childTnLst>
                              <p:par>
                                <p:cTn id="1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8500"/>
                            </p:stCondLst>
                            <p:childTnLst>
                              <p:par>
                                <p:cTn id="1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8500"/>
                            </p:stCondLst>
                            <p:childTnLst>
                              <p:par>
                                <p:cTn id="1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9000"/>
                            </p:stCondLst>
                            <p:childTnLst>
                              <p:par>
                                <p:cTn id="1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9500"/>
                            </p:stCondLst>
                            <p:childTnLst>
                              <p:par>
                                <p:cTn id="1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alysis and conclu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9f5e1"/>
                </a:solidFill>
                <a:latin typeface="Arial"/>
              </a:rPr>
              <a:t>Major contribution to growing routing table is the amount of advertisement fragmentation in allocation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A broader data set shows an improvement in levels of fragmentation since Aug 2000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9f5e1"/>
                </a:solidFill>
                <a:latin typeface="Arial"/>
              </a:rPr>
              <a:t>Which is good news!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Common to advertise more specific /24s within an alloc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Many of these more specifics appear to be loca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Use the BGP community ‘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no-export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’!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Advertisements of more (local) fragmented specifics could be masked using the ‘</a:t>
            </a:r>
            <a:r>
              <a:rPr b="1" lang="en-AU" sz="1800" spc="-1" strike="noStrike">
                <a:solidFill>
                  <a:srgbClr val="f9f5e1"/>
                </a:solidFill>
                <a:latin typeface="Arial"/>
              </a:rPr>
              <a:t>no-export</a:t>
            </a: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’ BGP community tag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8244000" y="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II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  <a:ea typeface="굴림"/>
              </a:rPr>
              <a:t>APNIC allocation poli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  <a:ea typeface="굴림"/>
              </a:rPr>
              <a:t>Aggregation of alloc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  <a:ea typeface="굴림"/>
              </a:rPr>
              <a:t>Provider responsible for aggrega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  <a:ea typeface="굴림"/>
              </a:rPr>
              <a:t>Customer assignments /sub-allocations must be non-portabl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llocations based on demonstrated ne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etailed documentation require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All address space held to be declared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ddress space to be obtained from one sourc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routing considerations may apply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tockpiling not permitte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8244000" y="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PNIC allocation poli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ransfer of address spac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ot automatically recognise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Return unused address space to appropriate IR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ffects of mergers, acquisitions &amp; take-over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Will require contact with IR (APNIC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contact details may chang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new agreement may be required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ay require re-examination of allocation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requirement depends on new network structur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44000" y="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6269040" y="4249800"/>
            <a:ext cx="2714760" cy="1001520"/>
          </a:xfrm>
          <a:prstGeom prst="ellipse">
            <a:avLst/>
          </a:prstGeom>
          <a:solidFill>
            <a:srgbClr val="3366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  <a:ea typeface="굴림"/>
              </a:rPr>
              <a:t>Initial IPv4 allo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nitial (portable) allocation size and criteria have been lowered: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Allocation size: /21 (2048 addresses)*.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The allocation can be used for further assignments to customers or your own infrastructure.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8400" y="3257640"/>
            <a:ext cx="548028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9f5e1"/>
                </a:solidFill>
                <a:uFillTx/>
                <a:latin typeface="Arial"/>
              </a:rPr>
              <a:t>Criteria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25592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1a.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Have used a /23 from upstream provider 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Demonstrated efficient address usage 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1b.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how immediate need for /23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400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Can include customer projections &amp; 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infrastructure equipment</a:t>
            </a:r>
            <a:r>
              <a:rPr b="0" lang="en-US" sz="1600" spc="-1" strike="noStrike">
                <a:solidFill>
                  <a:srgbClr val="f9f5e1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Detailed plan for use of /22 within 1 year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Renumber to new space within 1 year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064200" y="3395520"/>
            <a:ext cx="2014560" cy="389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657840" y="4503600"/>
            <a:ext cx="1278000" cy="23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412040" y="4416480"/>
            <a:ext cx="6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/21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6041880" y="3387600"/>
            <a:ext cx="2838600" cy="2468520"/>
            <a:chOff x="6041880" y="3387600"/>
            <a:chExt cx="2838600" cy="2468520"/>
          </a:xfrm>
        </p:grpSpPr>
        <p:sp>
          <p:nvSpPr>
            <p:cNvPr id="942" name=""/>
            <p:cNvSpPr/>
            <p:nvPr/>
          </p:nvSpPr>
          <p:spPr>
            <a:xfrm flipH="1">
              <a:off x="6665760" y="3767040"/>
              <a:ext cx="354240" cy="7495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174080" y="3762360"/>
              <a:ext cx="745920" cy="7491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701120" y="3387600"/>
              <a:ext cx="61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/8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041880" y="3411360"/>
              <a:ext cx="125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 Unicode MS"/>
                </a:rPr>
                <a:t>APNIC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16200000">
              <a:off x="8337600" y="3241080"/>
              <a:ext cx="392040" cy="690840"/>
            </a:xfrm>
            <a:prstGeom prst="flowChartDocumen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002360" y="3387600"/>
              <a:ext cx="204840" cy="3844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814800" y="4719600"/>
              <a:ext cx="73080" cy="68436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959520" y="4740120"/>
              <a:ext cx="114480" cy="66204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92920" y="4502160"/>
              <a:ext cx="61920" cy="21924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413920" y="3402000"/>
              <a:ext cx="52200" cy="3747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321760" y="5402160"/>
              <a:ext cx="272880" cy="96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8327880" y="3773520"/>
              <a:ext cx="82800" cy="163188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467560" y="3774960"/>
              <a:ext cx="114480" cy="162900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500880" y="5557680"/>
              <a:ext cx="92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ff"/>
                  </a:solidFill>
                  <a:latin typeface="Arial"/>
                </a:rPr>
                <a:t>Non-portable </a:t>
              </a:r>
              <a:endParaRPr b="0" lang="en-US" sz="12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ff"/>
                  </a:solidFill>
                  <a:latin typeface="Arial"/>
                </a:rPr>
                <a:t>assignment</a:t>
              </a:r>
              <a:endParaRPr b="0" lang="en-US" sz="12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008920" y="5564160"/>
              <a:ext cx="8715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ff"/>
                  </a:solidFill>
                  <a:latin typeface="Arial"/>
                </a:rPr>
                <a:t>Portable </a:t>
              </a:r>
              <a:endParaRPr b="0" lang="en-US" sz="12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ff"/>
                  </a:solidFill>
                  <a:latin typeface="Arial"/>
                </a:rPr>
                <a:t>assignment</a:t>
              </a:r>
              <a:endParaRPr b="0" lang="en-US" sz="12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808680" y="5398920"/>
              <a:ext cx="273240" cy="96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958" name=""/>
          <p:cNvSpPr/>
          <p:nvPr/>
        </p:nvSpPr>
        <p:spPr>
          <a:xfrm>
            <a:off x="7021440" y="4789800"/>
            <a:ext cx="19558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mber allocation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8407440" y="6049800"/>
            <a:ext cx="503280" cy="478080"/>
          </a:xfrm>
          <a:prstGeom prst="rightArrow">
            <a:avLst>
              <a:gd name="adj1" fmla="val 50000"/>
              <a:gd name="adj2" fmla="val 26318"/>
            </a:avLst>
          </a:prstGeom>
          <a:solidFill>
            <a:srgbClr val="cc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473960" y="682560"/>
            <a:ext cx="1409760" cy="85896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Unicode MS"/>
              </a:rPr>
              <a:t>New policy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87520" y="6362640"/>
            <a:ext cx="47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New policy will be implemented 14 Aug 2004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2"/>
          <a:stretch/>
        </p:blipFill>
        <p:spPr>
          <a:xfrm>
            <a:off x="541440" y="1171440"/>
            <a:ext cx="950760" cy="72576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8244000" y="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1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indefinite"/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mph" presetID="27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autoRev="1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1437" dur="500" autoRev="1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438" dur="500" autoRev="1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ress assignment poli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ssignments based on requirements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Demonstrated through detailed documentation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Assignment should maximise utilisation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minimise wastage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lassless assignment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showing use of VLSM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ize of alloc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ufficient for up to 12 months requiremen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8244000" y="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7620120" y="5056200"/>
            <a:ext cx="1523880" cy="843120"/>
          </a:xfrm>
          <a:prstGeom prst="ellipse">
            <a:avLst/>
          </a:prstGeom>
          <a:solidFill>
            <a:srgbClr val="3366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ortable assign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Small multihoming assignment polic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9f5e1"/>
                </a:solidFill>
                <a:latin typeface="Arial"/>
              </a:rPr>
              <a:t>For (small) organisations who require a portable assignment for multi-homing purpos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41240" y="2963880"/>
            <a:ext cx="533412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9f5e1"/>
                </a:solidFill>
                <a:uFillTx/>
                <a:latin typeface="Arial"/>
              </a:rPr>
              <a:t>Criteria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1a. Applicants currently multihomed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1b. Demonstrate a plan to multihome within 1 month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2. Agree to renumber out of previously assigned space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9f5e1"/>
                </a:solidFill>
                <a:latin typeface="Arial"/>
              </a:rPr>
              <a:t>Demonstrate need to use 25% of requested space immediately and 50% within 1 year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342280" y="5213520"/>
            <a:ext cx="273240" cy="9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997760" y="5365440"/>
            <a:ext cx="10749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able 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ignment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6062760" y="3198960"/>
            <a:ext cx="2836800" cy="2462040"/>
            <a:chOff x="6062760" y="3198960"/>
            <a:chExt cx="2836800" cy="2462040"/>
          </a:xfrm>
        </p:grpSpPr>
        <p:sp>
          <p:nvSpPr>
            <p:cNvPr id="974" name=""/>
            <p:cNvSpPr/>
            <p:nvPr/>
          </p:nvSpPr>
          <p:spPr>
            <a:xfrm>
              <a:off x="6084720" y="3206880"/>
              <a:ext cx="2014560" cy="388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6686280" y="3578400"/>
              <a:ext cx="353880" cy="7491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94600" y="3573360"/>
              <a:ext cx="745920" cy="7495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721640" y="3198960"/>
              <a:ext cx="61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/8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062760" y="3222720"/>
              <a:ext cx="125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 Unicode MS"/>
                </a:rPr>
                <a:t>APNIC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678720" y="4314960"/>
              <a:ext cx="1278000" cy="231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432560" y="4227480"/>
              <a:ext cx="61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/21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013520" y="4595760"/>
              <a:ext cx="1506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ember allocation</a:t>
              </a:r>
              <a:endParaRPr b="0" lang="en-US" sz="12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rot="16200000">
              <a:off x="8358120" y="3052800"/>
              <a:ext cx="392400" cy="690480"/>
            </a:xfrm>
            <a:prstGeom prst="flowChartDocumen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023240" y="3198960"/>
              <a:ext cx="185760" cy="37440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6835320" y="4530600"/>
              <a:ext cx="73080" cy="68436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980400" y="4551480"/>
              <a:ext cx="114120" cy="66204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913440" y="4327560"/>
              <a:ext cx="61920" cy="2188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434440" y="3213000"/>
              <a:ext cx="52200" cy="37476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8348400" y="3584520"/>
              <a:ext cx="82440" cy="163188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488440" y="3586320"/>
              <a:ext cx="114120" cy="162864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521400" y="5369040"/>
              <a:ext cx="92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n-portable </a:t>
              </a:r>
              <a:endParaRPr b="0" lang="en-US" sz="12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ssignment</a:t>
              </a:r>
              <a:endParaRPr b="0" lang="en-US" sz="12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829560" y="5210280"/>
              <a:ext cx="272880" cy="96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992" name=""/>
          <p:cNvSpPr/>
          <p:nvPr/>
        </p:nvSpPr>
        <p:spPr>
          <a:xfrm>
            <a:off x="8244000" y="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indefinite"/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7" dur="500" autoRev="1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1458" dur="500" autoRev="1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459" dur="500" autoRev="1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01880" y="1523520"/>
            <a:ext cx="37605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Intro to APNIC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Policies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A BREAK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10:15 – 10:45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Whois DB intro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Whois database protection and updat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CH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12:00 – 13:00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3280" y="1348920"/>
            <a:ext cx="4500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Reverse DNS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Spam &amp; abus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A BREAK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15:00 – 15:30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ASN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IPv6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IPv6 reverse DN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rtable assignments for IX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9f5e1"/>
                </a:solidFill>
                <a:uFillTx/>
                <a:latin typeface="Arial"/>
              </a:rPr>
              <a:t>Criteria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3 or more pee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Demonstrate “open peering policy”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xception of routing restriction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estriction upon routability of the assigned block is lifted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an announce this address space to the interne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PNIC has a reserved block of space from which to make IXP assignment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pporting historical resource transf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llow transfers of historical resources to APNIC members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o technical review or approval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historical resource holder must be verified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he recipient of the transfer must be an APNIC memb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esources will then be considered "current" 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xisting historical resource holders will still be able to update their information as previously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pporting historical resource transf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Bring historical resource registrations into the current policy framework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validation and registration of the existing hold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verification of their intention to transfer a resourc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verification of the recipient's consent to receive a transfer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egistration of the transferred resourc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moving lame deleg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o repair or remove persistently lame DNS delegation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DNS delegations are lame if: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Some or all of the registered DNS nameservers are unreachable or badly configur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lems caused by lame deleg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Delays in service binding for clients using affected address rang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Refusal of service due to failures during DNS processing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Increased DNS traffic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Lame DNS reverse delegations affect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The users of the network in ques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Unrelated third parti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5e1"/>
                </a:solidFill>
                <a:latin typeface="Arial"/>
              </a:rPr>
              <a:t>Recovery of address spa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o recover unused historical IPv4 addresses in the AP reg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Unused address space – increasingly the target for hijacking or squatting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Maybe used for illegal or antisocial purpos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i.e. Hacking and spamming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Reclaim such address space for protec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To be Implemented 14 Dec 2004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tecting historical resource recor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Protecting historical resource records in the APNIC Whois Database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o protect historical inetnum and aut-num object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o prevent unverified transfer of resources.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xisting custodians that wish to maintain records should sign a formal agreement with APNIC and pay service fees (capped at US$100)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To be implemented 14 Dec 2004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PNIC 18 upd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Expansion of IPv6 initial alloca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To allow existing IPv6 initial allocation address holders to expand their address spac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Without satisfying subsequent allocation criteria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Consensus at APNIC 18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Current status: Starting 8 weeks comment perio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PNIC 18 upd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IANA policy for allocation of IPv6 blocks to RIR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Minimum and initial allocation unit from IANA to RIRs: /12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To support needs for at least a 36 month perio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To allow each RIR to apply its own allocation and reservation strategi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Consensus at APNIC 18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Current status: Starting 8 weeks comment perio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olicy upd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Policies are constantly reviewed and revise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Keep up with most recent developmen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apnic.net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/docs/policy/proposals/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roduction to APN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9520" y="3886200"/>
            <a:ext cx="8750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sia Pacific Network Information Centr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295280" y="228600"/>
            <a:ext cx="76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276200" y="252360"/>
            <a:ext cx="76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Questions ?</a:t>
            </a:r>
            <a:endParaRPr b="0" lang="en-US" sz="3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619280" y="6572160"/>
            <a:ext cx="57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erial available at: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</a:rPr>
              <a:t>www.apnic.net/training/recent/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APNIC Databa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Introduction and Usag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the APNIC databas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Public network management databas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Operated by IR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Tracks network resourc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P addresses, ASNs, Reverse Domains, Routing polici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cords administrative informa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ontact information (persons/roles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uthorisa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 typ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889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9f5e1"/>
                </a:solidFill>
                <a:uFillTx/>
                <a:latin typeface="Arial"/>
              </a:rPr>
              <a:t>OBJECT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9f5e1"/>
                </a:solidFill>
                <a:uFillTx/>
                <a:latin typeface="Arial"/>
              </a:rPr>
              <a:t>PURPOS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person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contact persons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role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contact groups/rol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inetnum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IPv4 address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inet6num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IPv6 address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aut-num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Autonomous System numb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domain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reverse domain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route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prefixes being announce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mntner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(maintainer) data protec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316160" y="6162840"/>
            <a:ext cx="81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565000" y="594216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ttp://www.apnic.net/db/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028" name="" descr=""/>
          <p:cNvPicPr/>
          <p:nvPr/>
        </p:nvPicPr>
        <p:blipFill>
          <a:blip r:embed="rId2"/>
          <a:stretch/>
        </p:blipFill>
        <p:spPr>
          <a:xfrm>
            <a:off x="2886120" y="4853160"/>
            <a:ext cx="660240" cy="360360"/>
          </a:xfrm>
          <a:prstGeom prst="rect">
            <a:avLst/>
          </a:prstGeom>
          <a:ln w="0">
            <a:noFill/>
          </a:ln>
        </p:spPr>
      </p:pic>
      <p:pic>
        <p:nvPicPr>
          <p:cNvPr id="1029" name="" descr=""/>
          <p:cNvPicPr/>
          <p:nvPr/>
        </p:nvPicPr>
        <p:blipFill>
          <a:blip r:embed="rId3"/>
          <a:stretch/>
        </p:blipFill>
        <p:spPr>
          <a:xfrm>
            <a:off x="2886120" y="3619440"/>
            <a:ext cx="660240" cy="360360"/>
          </a:xfrm>
          <a:prstGeom prst="rect">
            <a:avLst/>
          </a:prstGeom>
          <a:ln w="0">
            <a:noFill/>
          </a:ln>
        </p:spPr>
      </p:pic>
      <p:pic>
        <p:nvPicPr>
          <p:cNvPr id="1030" name="" descr=""/>
          <p:cNvPicPr/>
          <p:nvPr/>
        </p:nvPicPr>
        <p:blipFill>
          <a:blip r:embed="rId4"/>
          <a:stretch/>
        </p:blipFill>
        <p:spPr>
          <a:xfrm>
            <a:off x="2886120" y="1978200"/>
            <a:ext cx="663480" cy="36036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5"/>
          <a:stretch/>
        </p:blipFill>
        <p:spPr>
          <a:xfrm>
            <a:off x="2886120" y="2798640"/>
            <a:ext cx="662040" cy="36036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/>
          <p:cNvPicPr/>
          <p:nvPr/>
        </p:nvPicPr>
        <p:blipFill>
          <a:blip r:embed="rId6"/>
          <a:stretch/>
        </p:blipFill>
        <p:spPr>
          <a:xfrm>
            <a:off x="2886120" y="4441680"/>
            <a:ext cx="662040" cy="36036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/>
          <p:cNvPicPr/>
          <p:nvPr/>
        </p:nvPicPr>
        <p:blipFill>
          <a:blip r:embed="rId7"/>
          <a:stretch/>
        </p:blipFill>
        <p:spPr>
          <a:xfrm>
            <a:off x="2886120" y="4030560"/>
            <a:ext cx="662040" cy="36036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8"/>
          <a:stretch/>
        </p:blipFill>
        <p:spPr>
          <a:xfrm>
            <a:off x="2886120" y="2387520"/>
            <a:ext cx="660240" cy="36036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9"/>
          <a:stretch/>
        </p:blipFill>
        <p:spPr>
          <a:xfrm>
            <a:off x="2886120" y="3209760"/>
            <a:ext cx="658800" cy="3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ttributes &amp; Valu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n object is a set of attributes and valu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Each attribute of an object...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Has a value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Has a specific syntax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Is mandatory or optiona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Is single- or multi-valued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ome attributes ...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Are primary (unique) key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Are lookup keys for querie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Are inverse keys for querie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Object “templates” illustrate this structur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 templat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2018880" y="1590840"/>
            <a:ext cx="712476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whois  -t &lt;object type&gt;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52400" y="2851200"/>
            <a:ext cx="806292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erson: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[mandatory]  [single]     [primary/look-up key]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address: [mandatory]  [multiple]   [ ]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country: [mandatory]  [single]     [ ]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phone:   [mandatory]  [multiple]   [ ]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fax-no:  [optional]   [multiple]   [ ]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e-mail:  [mandatory]  [multiple]   [look-up key]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nic-hdl: [mandatory]  [single]     [primary/look-up key]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remarks: [optional]   [multiple]   [ ]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notify:  [optional]   [multiple]   [inverse key]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nt-by:  [mandatory]  [multiple]   [inverse key]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changed: [mandatory]  [multiple]   [ ]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source:  [mandatory]  [single]     [ ]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22160" y="2300400"/>
            <a:ext cx="8083800" cy="70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Courier New"/>
              </a:rPr>
              <a:t>% whois -h whois.apnic.net </a:t>
            </a:r>
            <a:r>
              <a:rPr b="1" lang="en-US" sz="2400" spc="-1" strike="noStrike" u="sng">
                <a:solidFill>
                  <a:srgbClr val="292929"/>
                </a:solidFill>
                <a:uFillTx/>
                <a:latin typeface="Courier New"/>
              </a:rPr>
              <a:t>-t</a:t>
            </a:r>
            <a:r>
              <a:rPr b="1" lang="en-US" sz="2400" spc="-1" strike="noStrike">
                <a:solidFill>
                  <a:srgbClr val="292929"/>
                </a:solidFill>
                <a:latin typeface="Courier New"/>
              </a:rPr>
              <a:t> person</a:t>
            </a:r>
            <a:r>
              <a:rPr b="1" lang="en-US" sz="1600" spc="-1" strike="noStrike">
                <a:solidFill>
                  <a:srgbClr val="808080"/>
                </a:solidFill>
                <a:latin typeface="Courier New"/>
              </a:rPr>
              <a:t>                   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2640" y="1199520"/>
            <a:ext cx="57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o obtain template structure*, use :</a:t>
            </a:r>
            <a:endParaRPr b="0" lang="en-US" sz="2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045" name="">
            <a:hlinkClick r:id="rId2" action="ppaction://hlinksldjump"/>
          </p:cNvPr>
          <p:cNvSpPr/>
          <p:nvPr/>
        </p:nvSpPr>
        <p:spPr>
          <a:xfrm>
            <a:off x="8028000" y="6380280"/>
            <a:ext cx="503280" cy="477720"/>
          </a:xfrm>
          <a:prstGeom prst="rightArrow">
            <a:avLst>
              <a:gd name="adj1" fmla="val 50000"/>
              <a:gd name="adj2" fmla="val 26338"/>
            </a:avLst>
          </a:prstGeom>
          <a:solidFill>
            <a:srgbClr val="cc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516400" y="6419880"/>
            <a:ext cx="52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*Recognised by the RIPE whois client/server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rson object exa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Person objects contain contact inform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311120" y="1411560"/>
            <a:ext cx="2041560" cy="5947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erson: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address: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address: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address: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country: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hone: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ax-no: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e-mail: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nic-hdl: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nt-by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changed: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75480" y="221580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904520" y="220788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f5e1"/>
                </a:solidFill>
                <a:latin typeface="Arial"/>
              </a:rPr>
              <a:t>Values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95600" y="2511360"/>
            <a:ext cx="4564080" cy="375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y Xander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ExampleNet Service Provider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2 Pandora St Boxville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Wallis and Futuna Islan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680-368-084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680-367-1797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kxander@example.c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X17-A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T-WF-EX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kxander@example.com 2002073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PNIC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2"/>
          <a:stretch/>
        </p:blipFill>
        <p:spPr>
          <a:xfrm>
            <a:off x="7197840" y="485640"/>
            <a:ext cx="662040" cy="3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nic-hdl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0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Unique identifier for a pers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presents a person objec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ferenced in objects for contact details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(         ,        ,         ,        …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format: &lt;XXXX-AP&gt;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Eg: KX17-AP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203640" y="5013360"/>
            <a:ext cx="44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076720" y="4365720"/>
            <a:ext cx="3889440" cy="2226600"/>
          </a:xfrm>
          <a:prstGeom prst="rect">
            <a:avLst/>
          </a:prstGeom>
          <a:noFill/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erson: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Ky Xander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Courier New"/>
              </a:rPr>
              <a:t>address:     ExampleNet Service Provider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Courier New"/>
              </a:rPr>
              <a:t>address:     2 Pandora St Boxville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Courier New"/>
              </a:rPr>
              <a:t>address:     Wallis and Futuna Islands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Courier New"/>
              </a:rPr>
              <a:t>country:     WF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Courier New"/>
              </a:rPr>
              <a:t>phone:       +680-368-0844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Courier New"/>
              </a:rPr>
              <a:t>fax-no:      +680-367-1797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Courier New"/>
              </a:rPr>
              <a:t>e-mail:      kxander@example.com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ic-hdl: KX17-AP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Courier New"/>
              </a:rPr>
              <a:t>mnt-by:      MAINT-WF-EX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Courier New"/>
              </a:rPr>
              <a:t>changed:     kxander@example.com 20020731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Courier New"/>
              </a:rPr>
              <a:t>source:      APNIC</a:t>
            </a:r>
            <a:endParaRPr b="0" lang="en-US" sz="1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348000" y="5734080"/>
            <a:ext cx="1584360" cy="431640"/>
          </a:xfrm>
          <a:prstGeom prst="rightArrow">
            <a:avLst>
              <a:gd name="adj1" fmla="val 50000"/>
              <a:gd name="adj2" fmla="val 91764"/>
            </a:avLst>
          </a:prstGeom>
          <a:solidFill>
            <a:srgbClr val="f9f5e1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7197840" y="485640"/>
            <a:ext cx="662040" cy="35892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/>
          <p:cNvPicPr/>
          <p:nvPr/>
        </p:nvPicPr>
        <p:blipFill>
          <a:blip r:embed="rId3"/>
          <a:stretch/>
        </p:blipFill>
        <p:spPr>
          <a:xfrm>
            <a:off x="3678120" y="3084480"/>
            <a:ext cx="660600" cy="360360"/>
          </a:xfrm>
          <a:prstGeom prst="rect">
            <a:avLst/>
          </a:prstGeom>
          <a:ln w="0">
            <a:noFill/>
          </a:ln>
        </p:spPr>
      </p:pic>
      <p:pic>
        <p:nvPicPr>
          <p:cNvPr id="1063" name="" descr=""/>
          <p:cNvPicPr/>
          <p:nvPr/>
        </p:nvPicPr>
        <p:blipFill>
          <a:blip r:embed="rId4"/>
          <a:stretch/>
        </p:blipFill>
        <p:spPr>
          <a:xfrm>
            <a:off x="2060640" y="3084480"/>
            <a:ext cx="662040" cy="36036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5"/>
          <a:stretch/>
        </p:blipFill>
        <p:spPr>
          <a:xfrm>
            <a:off x="4457880" y="3084480"/>
            <a:ext cx="661680" cy="360360"/>
          </a:xfrm>
          <a:prstGeom prst="rect">
            <a:avLst/>
          </a:prstGeom>
          <a:ln w="0">
            <a:noFill/>
          </a:ln>
        </p:spPr>
      </p:pic>
      <p:pic>
        <p:nvPicPr>
          <p:cNvPr id="1065" name="" descr=""/>
          <p:cNvPicPr/>
          <p:nvPr/>
        </p:nvPicPr>
        <p:blipFill>
          <a:blip r:embed="rId6"/>
          <a:stretch/>
        </p:blipFill>
        <p:spPr>
          <a:xfrm>
            <a:off x="2854440" y="3086280"/>
            <a:ext cx="65880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7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etnum object exa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947520" y="85680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ontain IP address allocations / assignment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822240" y="1492560"/>
            <a:ext cx="2041560" cy="5182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etnum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name: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scr: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scr: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ry: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min-c: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ch-c: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nt-by: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nt-lower: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marks: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marks: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marks: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marks: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marks: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marks: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nged: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: 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ource: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067200" y="1459080"/>
            <a:ext cx="5844960" cy="5186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02.51.64.0 - 202.51.95.25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CNEP-NP-AP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unication &amp; Communicate Nepal Lt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SAT Service Provider, Kathmand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7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75-AP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PNIC-H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T-NP-ARUN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+-+-+-+-+-+-+-+-+-+-+-++-+-+-+-+-+-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is object can only be updated by APNIC hostmasters.To update this object, please contact APNIC hostmasters and include your organisation's account name in the subject line.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+-+-+-+-+-+-+-+-+-+-+-++-+-+-+-+-+-hostmaster@apnic.net 200102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OCATED PORT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PNIC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071" name="" descr=""/>
          <p:cNvPicPr/>
          <p:nvPr/>
        </p:nvPicPr>
        <p:blipFill>
          <a:blip r:embed="rId2"/>
          <a:stretch/>
        </p:blipFill>
        <p:spPr>
          <a:xfrm>
            <a:off x="7197840" y="485640"/>
            <a:ext cx="66204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8" dur="indefinite" restart="never" nodeType="tmRoot">
          <p:childTnLst>
            <p:seq>
              <p:cTn id="1519" dur="indefinite" nodeType="mainSeq">
                <p:childTnLst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r-related obje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3160800" y="2433600"/>
            <a:ext cx="3587760" cy="2323080"/>
            <a:chOff x="3160800" y="2433600"/>
            <a:chExt cx="3587760" cy="2323080"/>
          </a:xfrm>
        </p:grpSpPr>
        <p:grpSp>
          <p:nvGrpSpPr>
            <p:cNvPr id="1074" name=""/>
            <p:cNvGrpSpPr/>
            <p:nvPr/>
          </p:nvGrpSpPr>
          <p:grpSpPr>
            <a:xfrm>
              <a:off x="3160800" y="2433600"/>
              <a:ext cx="3587760" cy="1938240"/>
              <a:chOff x="3160800" y="2433600"/>
              <a:chExt cx="3587760" cy="1938240"/>
            </a:xfrm>
          </p:grpSpPr>
          <p:pic>
            <p:nvPicPr>
              <p:cNvPr id="10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0800" y="2433600"/>
                <a:ext cx="3587760" cy="193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6" name=""/>
              <p:cNvSpPr/>
              <p:nvPr/>
            </p:nvSpPr>
            <p:spPr>
              <a:xfrm>
                <a:off x="3306600" y="2989440"/>
                <a:ext cx="3111840" cy="11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202.64.10.0 – 202.64.10.25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325592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99"/>
                    </a:solidFill>
                    <a:latin typeface="Arial"/>
                  </a:rPr>
                  <a:t>…</a:t>
                </a:r>
                <a:endParaRPr b="0" lang="en-US" sz="800" spc="-1" strike="noStrike">
                  <a:solidFill>
                    <a:srgbClr val="325592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admin-c: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KX17-AP</a:t>
                </a:r>
                <a:endParaRPr b="0" lang="en-US" sz="1600" spc="-1" strike="noStrike">
                  <a:solidFill>
                    <a:srgbClr val="325592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tech-c: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ZU3-AP</a:t>
                </a:r>
                <a:br>
                  <a:rPr sz="1600"/>
                </a:br>
                <a:r>
                  <a:rPr b="0" lang="en-US" sz="700" spc="-1" strike="noStrike">
                    <a:solidFill>
                      <a:srgbClr val="ff0000"/>
                    </a:solidFill>
                    <a:latin typeface="Arial"/>
                  </a:rPr>
                  <a:t>…</a:t>
                </a:r>
                <a:endParaRPr b="0" lang="en-US" sz="700" spc="-1" strike="noStrike">
                  <a:solidFill>
                    <a:srgbClr val="325592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mnt-by: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660066"/>
                    </a:solidFill>
                    <a:latin typeface="Arial"/>
                  </a:rPr>
                  <a:t>MAINT-WF-EX</a:t>
                </a:r>
                <a:endParaRPr b="0" lang="en-US" sz="16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3736800" y="4357800"/>
              <a:ext cx="201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IPv4 addresses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1078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800680" y="1754280"/>
            <a:ext cx="3224160" cy="1668240"/>
            <a:chOff x="5800680" y="1754280"/>
            <a:chExt cx="3224160" cy="1668240"/>
          </a:xfrm>
        </p:grpSpPr>
        <p:sp>
          <p:nvSpPr>
            <p:cNvPr id="1080" name=""/>
            <p:cNvSpPr/>
            <p:nvPr/>
          </p:nvSpPr>
          <p:spPr>
            <a:xfrm>
              <a:off x="7007400" y="2776680"/>
              <a:ext cx="201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Contact info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800680" y="2454120"/>
              <a:ext cx="1109520" cy="968400"/>
              <a:chOff x="5800680" y="2454120"/>
              <a:chExt cx="1109520" cy="968400"/>
            </a:xfrm>
          </p:grpSpPr>
          <p:sp>
            <p:nvSpPr>
              <p:cNvPr id="1082" name=""/>
              <p:cNvSpPr/>
              <p:nvPr/>
            </p:nvSpPr>
            <p:spPr>
              <a:xfrm flipH="1">
                <a:off x="6487920" y="2454120"/>
                <a:ext cx="4222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513480" y="2463840"/>
                <a:ext cx="0" cy="958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>
                <a:off x="5800680" y="3403440"/>
                <a:ext cx="72576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pic>
          <p:nvPicPr>
            <p:cNvPr id="1085" name="" descr=""/>
            <p:cNvPicPr/>
            <p:nvPr/>
          </p:nvPicPr>
          <p:blipFill>
            <a:blip r:embed="rId3"/>
            <a:stretch/>
          </p:blipFill>
          <p:spPr>
            <a:xfrm>
              <a:off x="6910560" y="1754280"/>
              <a:ext cx="199692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"/>
            <p:cNvSpPr/>
            <p:nvPr/>
          </p:nvSpPr>
          <p:spPr>
            <a:xfrm>
              <a:off x="7031160" y="224964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nic-hdl: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KX17-AP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5796000" y="3587760"/>
            <a:ext cx="3090960" cy="1821240"/>
            <a:chOff x="5796000" y="3587760"/>
            <a:chExt cx="3090960" cy="1821240"/>
          </a:xfrm>
        </p:grpSpPr>
        <p:sp>
          <p:nvSpPr>
            <p:cNvPr id="1088" name=""/>
            <p:cNvSpPr/>
            <p:nvPr/>
          </p:nvSpPr>
          <p:spPr>
            <a:xfrm>
              <a:off x="6794640" y="5010120"/>
              <a:ext cx="201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Contact info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1089" name=""/>
            <p:cNvGrpSpPr/>
            <p:nvPr/>
          </p:nvGrpSpPr>
          <p:grpSpPr>
            <a:xfrm>
              <a:off x="5796000" y="3587760"/>
              <a:ext cx="1109160" cy="1117440"/>
              <a:chOff x="5796000" y="3587760"/>
              <a:chExt cx="1109160" cy="1117440"/>
            </a:xfrm>
          </p:grpSpPr>
          <p:sp>
            <p:nvSpPr>
              <p:cNvPr id="1090" name=""/>
              <p:cNvSpPr/>
              <p:nvPr/>
            </p:nvSpPr>
            <p:spPr>
              <a:xfrm flipH="1">
                <a:off x="5796000" y="3612960"/>
                <a:ext cx="72504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6483240" y="4692240"/>
                <a:ext cx="4219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508440" y="3587760"/>
                <a:ext cx="0" cy="11174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pic>
          <p:nvPicPr>
            <p:cNvPr id="1093" name="" descr=""/>
            <p:cNvPicPr/>
            <p:nvPr/>
          </p:nvPicPr>
          <p:blipFill>
            <a:blip r:embed="rId4"/>
            <a:stretch/>
          </p:blipFill>
          <p:spPr>
            <a:xfrm>
              <a:off x="6889680" y="3959280"/>
              <a:ext cx="19972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6918480" y="45100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nic-hdl: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KX17-AP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695160" y="3622680"/>
            <a:ext cx="2684520" cy="1502280"/>
            <a:chOff x="695160" y="3622680"/>
            <a:chExt cx="2684520" cy="1502280"/>
          </a:xfrm>
        </p:grpSpPr>
        <p:sp>
          <p:nvSpPr>
            <p:cNvPr id="1096" name=""/>
            <p:cNvSpPr/>
            <p:nvPr/>
          </p:nvSpPr>
          <p:spPr>
            <a:xfrm>
              <a:off x="744480" y="4726080"/>
              <a:ext cx="201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Data protection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1097" name=""/>
            <p:cNvGrpSpPr/>
            <p:nvPr/>
          </p:nvGrpSpPr>
          <p:grpSpPr>
            <a:xfrm>
              <a:off x="2682720" y="3995640"/>
              <a:ext cx="696960" cy="23760"/>
              <a:chOff x="2682720" y="3995640"/>
              <a:chExt cx="696960" cy="23760"/>
            </a:xfrm>
          </p:grpSpPr>
          <p:sp>
            <p:nvSpPr>
              <p:cNvPr id="1098" name=""/>
              <p:cNvSpPr/>
              <p:nvPr/>
            </p:nvSpPr>
            <p:spPr>
              <a:xfrm flipV="1">
                <a:off x="2692440" y="4017960"/>
                <a:ext cx="68256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682720" y="3995640"/>
                <a:ext cx="696960" cy="12600"/>
              </a:xfrm>
              <a:prstGeom prst="line">
                <a:avLst/>
              </a:prstGeom>
              <a:ln w="38160">
                <a:solidFill>
                  <a:srgbClr val="9900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pic>
          <p:nvPicPr>
            <p:cNvPr id="1100" name="" descr=""/>
            <p:cNvPicPr/>
            <p:nvPr/>
          </p:nvPicPr>
          <p:blipFill>
            <a:blip r:embed="rId5"/>
            <a:stretch/>
          </p:blipFill>
          <p:spPr>
            <a:xfrm>
              <a:off x="695160" y="3622680"/>
              <a:ext cx="19972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1" name=""/>
            <p:cNvSpPr/>
            <p:nvPr/>
          </p:nvSpPr>
          <p:spPr>
            <a:xfrm>
              <a:off x="766800" y="3933720"/>
              <a:ext cx="173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MAINT-WF-EX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  <a:ea typeface="굴림"/>
              </a:rPr>
              <a:t>What is APNIC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  <a:ea typeface="굴림"/>
              </a:rPr>
              <a:t>RIR for the Asia Pacific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  <a:ea typeface="굴림"/>
              </a:rPr>
              <a:t>Regional Internet Registry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  <a:ea typeface="굴림"/>
              </a:rPr>
              <a:t>Regional authority for Internet Resource distribu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굴림"/>
              </a:rPr>
              <a:t>IPv4 &amp; IPv6 addresses</a:t>
            </a:r>
            <a:r>
              <a:rPr b="0" lang="en-AU" sz="2400" spc="-1" strike="noStrike">
                <a:solidFill>
                  <a:srgbClr val="f9f5e1"/>
                </a:solidFill>
                <a:latin typeface="Arial"/>
                <a:ea typeface="굴림"/>
              </a:rPr>
              <a:t>, ASNs, reverse dns delega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  <a:ea typeface="굴림"/>
              </a:rPr>
              <a:t>Industry self-regulatory body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  <a:ea typeface="굴림"/>
              </a:rPr>
              <a:t> </a:t>
            </a:r>
            <a:r>
              <a:rPr b="0" lang="en-AU" sz="2400" spc="-1" strike="noStrike">
                <a:solidFill>
                  <a:srgbClr val="f9f5e1"/>
                </a:solidFill>
                <a:latin typeface="Arial"/>
                <a:ea typeface="굴림"/>
              </a:rPr>
              <a:t>Non-profit, neutral 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  <a:ea typeface="굴림"/>
              </a:rPr>
              <a:t>and </a:t>
            </a:r>
            <a:r>
              <a:rPr b="0" lang="en-AU" sz="2400" spc="-1" strike="noStrike">
                <a:solidFill>
                  <a:srgbClr val="f9f5e1"/>
                </a:solidFill>
                <a:latin typeface="Arial"/>
                <a:ea typeface="굴림"/>
              </a:rPr>
              <a:t>independen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  <a:ea typeface="굴림"/>
              </a:rPr>
              <a:t>Open m</a:t>
            </a:r>
            <a:r>
              <a:rPr b="0" lang="en-AU" sz="3200" spc="-1" strike="noStrike">
                <a:solidFill>
                  <a:srgbClr val="f9f5e1"/>
                </a:solidFill>
                <a:latin typeface="Arial"/>
                <a:ea typeface="굴림"/>
              </a:rPr>
              <a:t>embership-based 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  <a:ea typeface="굴림"/>
              </a:rPr>
              <a:t>structur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07600" y="0"/>
            <a:ext cx="5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170920" y="5796000"/>
            <a:ext cx="662040" cy="723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72280" y="4259160"/>
            <a:ext cx="755640" cy="8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452520" y="484200"/>
            <a:ext cx="7315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57080" y="1243080"/>
            <a:ext cx="8115480" cy="1428840"/>
          </a:xfrm>
          <a:prstGeom prst="rect">
            <a:avLst/>
          </a:prstGeom>
          <a:solidFill>
            <a:srgbClr val="000080">
              <a:alpha val="50000"/>
            </a:srgbClr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790560" y="1260360"/>
            <a:ext cx="7827840" cy="1324080"/>
            <a:chOff x="790560" y="1260360"/>
            <a:chExt cx="7827840" cy="1324080"/>
          </a:xfrm>
        </p:grpSpPr>
        <p:sp>
          <p:nvSpPr>
            <p:cNvPr id="1105" name=""/>
            <p:cNvSpPr/>
            <p:nvPr/>
          </p:nvSpPr>
          <p:spPr>
            <a:xfrm>
              <a:off x="790560" y="1260360"/>
              <a:ext cx="782784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181160" y="1848600"/>
              <a:ext cx="2635920" cy="477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ois.apnic.net</a:t>
              </a:r>
              <a:endParaRPr b="0" lang="en-US" sz="2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380840" y="1888200"/>
              <a:ext cx="175212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ois.ripe.net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643080" y="1888200"/>
              <a:ext cx="175212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ois.arin.net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14680" y="1261080"/>
              <a:ext cx="122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Server</a:t>
              </a:r>
              <a:endParaRPr b="0" lang="en-US" sz="2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785880" y="3929040"/>
            <a:ext cx="8086680" cy="2543040"/>
          </a:xfrm>
          <a:prstGeom prst="rect">
            <a:avLst/>
          </a:pr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916920" y="4071240"/>
            <a:ext cx="7571160" cy="2222640"/>
            <a:chOff x="916920" y="4071240"/>
            <a:chExt cx="7571160" cy="2222640"/>
          </a:xfrm>
        </p:grpSpPr>
        <p:sp>
          <p:nvSpPr>
            <p:cNvPr id="1112" name=""/>
            <p:cNvSpPr/>
            <p:nvPr/>
          </p:nvSpPr>
          <p:spPr>
            <a:xfrm>
              <a:off x="1941120" y="4661640"/>
              <a:ext cx="14122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nix Client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409640" y="4661640"/>
              <a:ext cx="11836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’ Client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046320" y="5895000"/>
              <a:ext cx="404100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and Prompt / Web Interface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551640" y="4661640"/>
              <a:ext cx="193644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ndows Client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007280" y="523908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TTP/CGI</a:t>
              </a:r>
              <a:endParaRPr b="0" lang="en-US" sz="1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916920" y="407124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Client</a:t>
              </a:r>
              <a:endParaRPr b="0" lang="en-US" sz="2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2362320" y="5035680"/>
            <a:ext cx="0" cy="531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315200" y="5051520"/>
            <a:ext cx="0" cy="531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768920" y="5041800"/>
            <a:ext cx="0" cy="65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351160" y="5567400"/>
            <a:ext cx="4971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96960" y="3857760"/>
            <a:ext cx="7827840" cy="25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2514600" y="5187960"/>
            <a:ext cx="4952880" cy="662040"/>
            <a:chOff x="2514600" y="5187960"/>
            <a:chExt cx="4952880" cy="662040"/>
          </a:xfrm>
        </p:grpSpPr>
        <p:sp>
          <p:nvSpPr>
            <p:cNvPr id="1124" name=""/>
            <p:cNvSpPr/>
            <p:nvPr/>
          </p:nvSpPr>
          <p:spPr>
            <a:xfrm>
              <a:off x="2514600" y="5187960"/>
              <a:ext cx="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467480" y="5203800"/>
              <a:ext cx="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921200" y="5194440"/>
              <a:ext cx="0" cy="65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2503440" y="5719680"/>
            <a:ext cx="497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2783880" y="2979360"/>
            <a:ext cx="5787000" cy="779400"/>
            <a:chOff x="2783880" y="2979360"/>
            <a:chExt cx="5787000" cy="779400"/>
          </a:xfrm>
        </p:grpSpPr>
        <p:grpSp>
          <p:nvGrpSpPr>
            <p:cNvPr id="1129" name=""/>
            <p:cNvGrpSpPr/>
            <p:nvPr/>
          </p:nvGrpSpPr>
          <p:grpSpPr>
            <a:xfrm>
              <a:off x="2783880" y="2979360"/>
              <a:ext cx="2670840" cy="779400"/>
              <a:chOff x="2783880" y="2979360"/>
              <a:chExt cx="2670840" cy="779400"/>
            </a:xfrm>
          </p:grpSpPr>
          <p:sp>
            <p:nvSpPr>
              <p:cNvPr id="1130" name=""/>
              <p:cNvSpPr/>
              <p:nvPr/>
            </p:nvSpPr>
            <p:spPr>
              <a:xfrm>
                <a:off x="2783880" y="3255480"/>
                <a:ext cx="867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WHOIS</a:t>
                </a:r>
                <a:endParaRPr b="0" lang="en-US" sz="16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16200000">
                <a:off x="4378320" y="2682360"/>
                <a:ext cx="779400" cy="1373400"/>
              </a:xfrm>
              <a:custGeom>
                <a:avLst/>
                <a:gdLst>
                  <a:gd name="textAreaLeft" fmla="*/ 121680 w 779400"/>
                  <a:gd name="textAreaRight" fmla="*/ 682200 w 779400"/>
                  <a:gd name="textAreaTop" fmla="*/ 343440 h 1373400"/>
                  <a:gd name="textAreaBottom" fmla="*/ 1030320 h 1373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9f5e1"/>
              </a:solidFill>
              <a:ln w="936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1132" name=""/>
            <p:cNvSpPr/>
            <p:nvPr/>
          </p:nvSpPr>
          <p:spPr>
            <a:xfrm>
              <a:off x="5842080" y="3152880"/>
              <a:ext cx="27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Queries &amp; responses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tabase query - architectu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5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8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9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500"/>
                            </p:stCondLst>
                            <p:childTnLst>
                              <p:par>
                                <p:cTn id="15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500"/>
                            </p:stCondLst>
                            <p:childTnLst>
                              <p:par>
                                <p:cTn id="15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4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Database query - cli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tandard whois clien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ncluded with many Unix distribution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IPE extended whois clien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http://ftp.apnic.net/apnic/dbase/tools/ripe-dbase-client.tar.gz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Query via the APNIC websit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http://www.apnic.net/apnic-bin/whois2.pl 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Query clients - MS-Windows etc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any availabl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use the databas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gister use of Internet Resourc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P assignments,  reverse DNS, etc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scertain custodianship of a resourc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Fulfill responsibilities as resource holder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Obtain details of technical contacts for a network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Investigate security incident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rack source of network abuse or “spam” emai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ic database quer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Unix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whois –h whois.apnic.net &lt;lookup key&gt;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Web interfac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apnic.net/apnic-bin/whois2.pl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Look-up keys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usually the object nam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heck template for look-up key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143" name="">
            <a:hlinkClick r:id="rId3" action="ppaction://hlinksldjump"/>
          </p:cNvPr>
          <p:cNvSpPr/>
          <p:nvPr/>
        </p:nvSpPr>
        <p:spPr>
          <a:xfrm rot="10800000">
            <a:off x="7956360" y="6165720"/>
            <a:ext cx="502920" cy="478080"/>
          </a:xfrm>
          <a:prstGeom prst="rightArrow">
            <a:avLst>
              <a:gd name="adj1" fmla="val 50000"/>
              <a:gd name="adj2" fmla="val 26299"/>
            </a:avLst>
          </a:prstGeom>
          <a:solidFill>
            <a:srgbClr val="cc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565200" y="635040"/>
            <a:ext cx="7289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1434960" y="2590920"/>
            <a:ext cx="6556680" cy="3884400"/>
            <a:chOff x="1434960" y="2590920"/>
            <a:chExt cx="6556680" cy="3884400"/>
          </a:xfrm>
        </p:grpSpPr>
        <p:sp>
          <p:nvSpPr>
            <p:cNvPr id="1147" name=""/>
            <p:cNvSpPr/>
            <p:nvPr/>
          </p:nvSpPr>
          <p:spPr>
            <a:xfrm>
              <a:off x="1434960" y="2590920"/>
              <a:ext cx="6556680" cy="388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730520" y="43228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1434960" y="1447920"/>
            <a:ext cx="6556680" cy="102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346400" y="141192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5592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</a:rPr>
              <a:t>% whois zulrich@example.com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81040" y="17722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urier New"/>
              </a:rPr>
              <a:t>% whois zu3-ap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476360" y="209628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urier New"/>
              </a:rPr>
              <a:t>% whois “zane ulrich”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403280" y="2637000"/>
            <a:ext cx="6858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:      Zane Ulrich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ress:     ExampleNet Service Provider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ress:     2 Pandora St Boxville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ress:     Wallis and Futuna Islands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ry:     WF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one:       +680-368-0844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x-no:      +680-367-1797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-mail:      zulrich@example.com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ic-hdl:     ZU3-AP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nt-by:      MAINT-WF-EX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nged:     zulrich@example.com 20020731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Database query - UNI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2"/>
          <a:stretch/>
        </p:blipFill>
        <p:spPr>
          <a:xfrm>
            <a:off x="7197840" y="485640"/>
            <a:ext cx="66348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6" dur="indefinite" restart="never" nodeType="tmRoot">
          <p:childTnLst>
            <p:seq>
              <p:cTn id="1607" dur="indefinite" nodeType="mainSeq">
                <p:childTnLst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500"/>
                            </p:stCondLst>
                            <p:childTnLst>
                              <p:par>
                                <p:cTn id="16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500"/>
                            </p:stCondLst>
                            <p:childTnLst>
                              <p:par>
                                <p:cTn id="16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tabase query - web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2"/>
          <a:stretch/>
        </p:blipFill>
        <p:spPr>
          <a:xfrm>
            <a:off x="1077840" y="1447920"/>
            <a:ext cx="7151760" cy="518148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1473120" y="2016000"/>
            <a:ext cx="6210360" cy="266760"/>
          </a:xfrm>
          <a:prstGeom prst="rect">
            <a:avLst/>
          </a:prstGeom>
          <a:solidFill>
            <a:srgbClr val="ffcc00"/>
          </a:solidFill>
          <a:ln w="12600">
            <a:solidFill>
              <a:srgbClr val="d3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Query the APNIC Whois Database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297320" y="1231920"/>
            <a:ext cx="4846680" cy="42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http://www.apnic.net/apnic-bin/whois2.pl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3396960" y="1538280"/>
            <a:ext cx="842760" cy="203040"/>
          </a:xfrm>
          <a:prstGeom prst="line">
            <a:avLst/>
          </a:prstGeom>
          <a:ln w="38160">
            <a:solidFill>
              <a:srgbClr val="9900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641600" y="2889360"/>
            <a:ext cx="304560" cy="231840"/>
          </a:xfrm>
          <a:prstGeom prst="line">
            <a:avLst/>
          </a:prstGeom>
          <a:ln w="38160">
            <a:solidFill>
              <a:srgbClr val="9900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408400" y="5640480"/>
            <a:ext cx="2031840" cy="66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2.Search options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(flags)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H="1" flipV="1">
            <a:off x="2081160" y="4797000"/>
            <a:ext cx="881280" cy="841320"/>
          </a:xfrm>
          <a:prstGeom prst="line">
            <a:avLst/>
          </a:prstGeom>
          <a:ln w="38160">
            <a:solidFill>
              <a:srgbClr val="9900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3460680" y="4220640"/>
            <a:ext cx="1138320" cy="1398600"/>
          </a:xfrm>
          <a:prstGeom prst="line">
            <a:avLst/>
          </a:prstGeom>
          <a:ln w="38160">
            <a:solidFill>
              <a:srgbClr val="9900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52520" y="2567160"/>
            <a:ext cx="2394000" cy="30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1.Type in search key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326280" y="2998800"/>
            <a:ext cx="214776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3. ‘Search Whois’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5078520" y="3160800"/>
            <a:ext cx="124776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170" name="" descr=""/>
          <p:cNvPicPr/>
          <p:nvPr/>
        </p:nvPicPr>
        <p:blipFill>
          <a:blip r:embed="rId3"/>
          <a:stretch/>
        </p:blipFill>
        <p:spPr>
          <a:xfrm>
            <a:off x="7197840" y="485640"/>
            <a:ext cx="6602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atabase query - inetnu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6761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752480" y="2351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360440" y="5511600"/>
            <a:ext cx="597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592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9f5e1"/>
                </a:solidFill>
                <a:latin typeface="Arial"/>
              </a:rPr>
              <a:t>Note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f5e1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9f5e1"/>
                </a:solidFill>
                <a:latin typeface="Arial"/>
              </a:rPr>
              <a:t>Incomplete addresses padded with “.0”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f5e1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9f5e1"/>
                </a:solidFill>
                <a:latin typeface="Arial"/>
              </a:rPr>
              <a:t>Address without prefix interpreted as “/32”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362240" y="1401840"/>
            <a:ext cx="6654600" cy="108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413000" y="1500480"/>
            <a:ext cx="627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urier New"/>
              </a:rPr>
              <a:t>% whois 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Courier New"/>
              </a:rPr>
              <a:t>203.127.128.0 - 203.127.159.255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430280" y="209916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urier New"/>
              </a:rPr>
              <a:t>% whois SINGNET-SG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427040" y="180900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urier New"/>
              </a:rPr>
              <a:t>% whois 203.127.128.0/19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336680" y="2538360"/>
            <a:ext cx="6672240" cy="3111480"/>
            <a:chOff x="1336680" y="2538360"/>
            <a:chExt cx="6672240" cy="3111480"/>
          </a:xfrm>
        </p:grpSpPr>
        <p:sp>
          <p:nvSpPr>
            <p:cNvPr id="1180" name=""/>
            <p:cNvSpPr/>
            <p:nvPr/>
          </p:nvSpPr>
          <p:spPr>
            <a:xfrm>
              <a:off x="1336680" y="2589120"/>
              <a:ext cx="6672240" cy="2992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40520" y="2538360"/>
              <a:ext cx="620064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etnum:   203.127.128.0 - 203.127.159.255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etname:   SINGNET-S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scr: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Singapore Telecommunications Ltd 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scr: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1, Exeter Road, #02-00, Podium Block</a:t>
              </a:r>
              <a:br>
                <a:rPr sz="1600"/>
              </a:b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scr: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Comcentre, 0923 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ry:   S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dmin-c:   CWL3-AP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ech-c:    CWL3-AP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nt-by:    APNIC-HM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hanged:   hostmaster@apnic.net 1999080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ource:    APNIC</a:t>
              </a:r>
              <a:r>
                <a:rPr b="0" lang="en-US" sz="1800" spc="-1" strike="noStrike">
                  <a:solidFill>
                    <a:srgbClr val="325592"/>
                  </a:solidFill>
                  <a:latin typeface="Courier New"/>
                  <a:ea typeface="Courier New"/>
                </a:rPr>
                <a:t> 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183" name="" descr=""/>
          <p:cNvPicPr/>
          <p:nvPr/>
        </p:nvPicPr>
        <p:blipFill>
          <a:blip r:embed="rId2"/>
          <a:stretch/>
        </p:blipFill>
        <p:spPr>
          <a:xfrm>
            <a:off x="7197840" y="485640"/>
            <a:ext cx="66204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00"/>
                            </p:stCondLst>
                            <p:childTnLst>
                              <p:par>
                                <p:cTn id="1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500"/>
                            </p:stCondLst>
                            <p:childTnLst>
                              <p:par>
                                <p:cTn id="1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eating a person obje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9f5e1"/>
                </a:solidFill>
                <a:uFillTx/>
                <a:latin typeface="Arial"/>
              </a:rPr>
              <a:t>Whois Database Guide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578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apnic.net/services/whois_guide.htm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Fill out person object form on web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302840" indent="-43416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Name, e-mail, phone, address etc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302840" indent="-43416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Tick ‘MNT-NEW’ for temporary protection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2. Completed template is sent to you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3. Forward template to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4. Person object created and nic-hdl is generat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30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  <p:pic>
        <p:nvPicPr>
          <p:cNvPr id="1186" name="" descr=""/>
          <p:cNvPicPr/>
          <p:nvPr/>
        </p:nvPicPr>
        <p:blipFill>
          <a:blip r:embed="rId4"/>
          <a:stretch/>
        </p:blipFill>
        <p:spPr>
          <a:xfrm>
            <a:off x="7126200" y="2720880"/>
            <a:ext cx="1843200" cy="1335240"/>
          </a:xfrm>
          <a:prstGeom prst="rect">
            <a:avLst/>
          </a:prstGeom>
          <a:ln w="0">
            <a:noFill/>
          </a:ln>
        </p:spPr>
      </p:pic>
      <p:sp>
        <p:nvSpPr>
          <p:cNvPr id="1187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834080" y="5340240"/>
            <a:ext cx="2815920" cy="392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&lt;auto-dbm@apnic.net&gt;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189" name="" descr=""/>
          <p:cNvPicPr/>
          <p:nvPr/>
        </p:nvPicPr>
        <p:blipFill>
          <a:blip r:embed="rId5"/>
          <a:stretch/>
        </p:blipFill>
        <p:spPr>
          <a:xfrm>
            <a:off x="7197840" y="485640"/>
            <a:ext cx="66348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500"/>
                                        <p:tgtEl>
                                          <p:spTgt spid="1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3" dur="500"/>
                                        <p:tgtEl>
                                          <p:spTgt spid="1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1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5" dur="500"/>
                                        <p:tgtEl>
                                          <p:spTgt spid="1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0" dur="500"/>
                                        <p:tgtEl>
                                          <p:spTgt spid="1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3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1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R registration responsibilit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reate person objects for contact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o provide contact info in other object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reate mntner object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o provide protection of object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(To be discussed later)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9f5e1"/>
                </a:solidFill>
                <a:latin typeface="Arial"/>
              </a:rPr>
              <a:t>Create inetnum objects for all customer address assignment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(Allocation object created by APNIC)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193" name="" descr=""/>
          <p:cNvPicPr/>
          <p:nvPr/>
        </p:nvPicPr>
        <p:blipFill>
          <a:blip r:embed="rId2"/>
          <a:stretch/>
        </p:blipFill>
        <p:spPr>
          <a:xfrm>
            <a:off x="8001000" y="2647800"/>
            <a:ext cx="660240" cy="360360"/>
          </a:xfrm>
          <a:prstGeom prst="rect">
            <a:avLst/>
          </a:prstGeom>
          <a:ln w="0">
            <a:noFill/>
          </a:ln>
        </p:spPr>
      </p:pic>
      <p:pic>
        <p:nvPicPr>
          <p:cNvPr id="1194" name="" descr=""/>
          <p:cNvPicPr/>
          <p:nvPr/>
        </p:nvPicPr>
        <p:blipFill>
          <a:blip r:embed="rId3"/>
          <a:stretch/>
        </p:blipFill>
        <p:spPr>
          <a:xfrm>
            <a:off x="8001000" y="1620720"/>
            <a:ext cx="663480" cy="360360"/>
          </a:xfrm>
          <a:prstGeom prst="rect">
            <a:avLst/>
          </a:prstGeom>
          <a:ln w="0">
            <a:noFill/>
          </a:ln>
        </p:spPr>
      </p:pic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8001000" y="4041720"/>
            <a:ext cx="6620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bject templ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To protect privacy if customer record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New attribute – “public” be added to: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inetnum and inet6num object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public”: YES = public data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public”: No = private data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(not to be revealed by whois queries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Default (missing attribute) = private data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Customer assignments registration is still mandator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049800" y="343080"/>
            <a:ext cx="2059200" cy="12556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o be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mplemented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Arial"/>
              </a:rPr>
              <a:t>Sept 2004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the APNIC community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9f5e1"/>
                </a:solidFill>
                <a:latin typeface="Arial"/>
              </a:rPr>
              <a:t>Open forum in the Asia Pacific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Open to any interested parti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9f5e1"/>
                </a:solidFill>
                <a:latin typeface="Arial"/>
              </a:rPr>
              <a:t>Voluntary participation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9f5e1"/>
                </a:solidFill>
                <a:latin typeface="Arial"/>
              </a:rPr>
              <a:t>Decisions made by consensu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9f5e1"/>
                </a:solidFill>
                <a:latin typeface="Arial"/>
              </a:rPr>
              <a:t>Public meeting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Next APNIC meeting in Kyoto Japan, Feb 2005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9f5e1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web archive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29040" indent="-329040">
              <a:spcBef>
                <a:spcPts val="14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9f5e1"/>
                </a:solidFill>
                <a:latin typeface="Arial"/>
              </a:rPr>
              <a:t>A voice in regional Internet operations through participation in APNIC activiti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461440" y="44280"/>
            <a:ext cx="68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dev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"/>
          <p:cNvGrpSpPr/>
          <p:nvPr/>
        </p:nvGrpSpPr>
        <p:grpSpPr>
          <a:xfrm>
            <a:off x="1836720" y="1193760"/>
            <a:ext cx="6838920" cy="2074680"/>
            <a:chOff x="1836720" y="1193760"/>
            <a:chExt cx="6838920" cy="2074680"/>
          </a:xfrm>
        </p:grpSpPr>
        <p:grpSp>
          <p:nvGrpSpPr>
            <p:cNvPr id="1200" name=""/>
            <p:cNvGrpSpPr/>
            <p:nvPr/>
          </p:nvGrpSpPr>
          <p:grpSpPr>
            <a:xfrm>
              <a:off x="2340000" y="1397160"/>
              <a:ext cx="6335640" cy="1871280"/>
              <a:chOff x="2340000" y="1397160"/>
              <a:chExt cx="6335640" cy="1871280"/>
            </a:xfrm>
          </p:grpSpPr>
          <p:sp>
            <p:nvSpPr>
              <p:cNvPr id="1201" name=""/>
              <p:cNvSpPr/>
              <p:nvPr/>
            </p:nvSpPr>
            <p:spPr>
              <a:xfrm>
                <a:off x="2340000" y="1413000"/>
                <a:ext cx="6335640" cy="1079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340000" y="1397160"/>
                <a:ext cx="22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Courier New"/>
                  </a:rPr>
                  <a:t>inetnum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Courier New"/>
                  </a:rPr>
                  <a:t>:</a:t>
                </a:r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340000" y="2565360"/>
                <a:ext cx="3744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Arial"/>
                  </a:rPr>
                  <a:t>Allocation </a:t>
                </a:r>
                <a:br>
                  <a:rPr sz="2400"/>
                </a:br>
                <a:r>
                  <a:rPr b="0" i="1" lang="en-US" sz="1600" spc="-1" strike="noStrike">
                    <a:solidFill>
                      <a:srgbClr val="ffffff"/>
                    </a:solidFill>
                    <a:latin typeface="Arial"/>
                  </a:rPr>
                  <a:t>(Created by APNIC)</a:t>
                </a:r>
                <a:endParaRPr b="0" lang="en-US" sz="16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>
              <a:off x="1836720" y="119376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urier New"/>
                </a:rPr>
                <a:t>3</a:t>
              </a:r>
              <a:endParaRPr b="0" lang="en-US" sz="32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the db – step by ste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716360" y="5877000"/>
            <a:ext cx="31672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ustomer Assignments</a:t>
            </a:r>
            <a:br>
              <a:rPr sz="20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Created by LIR)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7019640" y="2492280"/>
            <a:ext cx="1729080" cy="1368360"/>
            <a:chOff x="7019640" y="2492280"/>
            <a:chExt cx="1729080" cy="1368360"/>
          </a:xfrm>
        </p:grpSpPr>
        <p:sp>
          <p:nvSpPr>
            <p:cNvPr id="1208" name=""/>
            <p:cNvSpPr/>
            <p:nvPr/>
          </p:nvSpPr>
          <p:spPr>
            <a:xfrm>
              <a:off x="8675640" y="2492280"/>
              <a:ext cx="73080" cy="13683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7019640" y="2492280"/>
              <a:ext cx="1368360" cy="13683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5148000" y="2492280"/>
            <a:ext cx="1729080" cy="1368360"/>
            <a:chOff x="5148000" y="2492280"/>
            <a:chExt cx="1729080" cy="1368360"/>
          </a:xfrm>
        </p:grpSpPr>
        <p:sp>
          <p:nvSpPr>
            <p:cNvPr id="1211" name=""/>
            <p:cNvSpPr/>
            <p:nvPr/>
          </p:nvSpPr>
          <p:spPr>
            <a:xfrm flipH="1">
              <a:off x="5148000" y="2492280"/>
              <a:ext cx="1439640" cy="13683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77080" y="2492280"/>
              <a:ext cx="0" cy="13683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3203280" y="2492280"/>
            <a:ext cx="3097080" cy="1368360"/>
            <a:chOff x="3203280" y="2492280"/>
            <a:chExt cx="3097080" cy="1368360"/>
          </a:xfrm>
        </p:grpSpPr>
        <p:sp>
          <p:nvSpPr>
            <p:cNvPr id="1214" name=""/>
            <p:cNvSpPr/>
            <p:nvPr/>
          </p:nvSpPr>
          <p:spPr>
            <a:xfrm flipH="1">
              <a:off x="4932000" y="2492280"/>
              <a:ext cx="1368360" cy="13683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3203280" y="2492280"/>
              <a:ext cx="2808360" cy="13683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6012000" y="1413000"/>
            <a:ext cx="28872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588000" y="1413000"/>
            <a:ext cx="28908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8386920" y="1413000"/>
            <a:ext cx="28872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2109960" y="3789360"/>
            <a:ext cx="1079640" cy="1584360"/>
            <a:chOff x="2109960" y="3789360"/>
            <a:chExt cx="1079640" cy="1584360"/>
          </a:xfrm>
        </p:grpSpPr>
        <p:cxnSp>
          <p:nvCxnSpPr>
            <p:cNvPr id="1220" name=""/>
            <p:cNvCxnSpPr/>
            <p:nvPr/>
          </p:nvCxnSpPr>
          <p:spPr>
            <a:xfrm>
              <a:off x="2109960" y="3789360"/>
              <a:ext cx="1080000" cy="975600"/>
            </a:xfrm>
            <a:prstGeom prst="bentConnector3">
              <a:avLst>
                <a:gd name="adj1" fmla="val 49983"/>
              </a:avLst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</p:cxnSp>
        <p:sp>
          <p:nvSpPr>
            <p:cNvPr id="1221" name=""/>
            <p:cNvSpPr/>
            <p:nvPr/>
          </p:nvSpPr>
          <p:spPr>
            <a:xfrm>
              <a:off x="2325600" y="5373720"/>
              <a:ext cx="86328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468360" y="2781360"/>
            <a:ext cx="2158920" cy="2018160"/>
            <a:chOff x="468360" y="2781360"/>
            <a:chExt cx="2158920" cy="2018160"/>
          </a:xfrm>
        </p:grpSpPr>
        <p:grpSp>
          <p:nvGrpSpPr>
            <p:cNvPr id="1223" name=""/>
            <p:cNvGrpSpPr/>
            <p:nvPr/>
          </p:nvGrpSpPr>
          <p:grpSpPr>
            <a:xfrm>
              <a:off x="468360" y="3294000"/>
              <a:ext cx="2158920" cy="1505520"/>
              <a:chOff x="468360" y="3294000"/>
              <a:chExt cx="2158920" cy="1505520"/>
            </a:xfrm>
          </p:grpSpPr>
          <p:grpSp>
            <p:nvGrpSpPr>
              <p:cNvPr id="1224" name=""/>
              <p:cNvGrpSpPr/>
              <p:nvPr/>
            </p:nvGrpSpPr>
            <p:grpSpPr>
              <a:xfrm>
                <a:off x="900000" y="3294000"/>
                <a:ext cx="1584360" cy="1106640"/>
                <a:chOff x="900000" y="3294000"/>
                <a:chExt cx="1584360" cy="1106640"/>
              </a:xfrm>
            </p:grpSpPr>
            <p:sp>
              <p:nvSpPr>
                <p:cNvPr id="1225" name=""/>
                <p:cNvSpPr/>
                <p:nvPr/>
              </p:nvSpPr>
              <p:spPr>
                <a:xfrm>
                  <a:off x="900000" y="3319560"/>
                  <a:ext cx="1368360" cy="1081080"/>
                </a:xfrm>
                <a:prstGeom prst="rect">
                  <a:avLst/>
                </a:prstGeom>
                <a:solidFill>
                  <a:srgbClr val="f9f5e1"/>
                </a:solidFill>
                <a:ln w="284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900000" y="3294000"/>
                  <a:ext cx="1584360" cy="107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800000"/>
                      </a:solidFill>
                      <a:latin typeface="Courier New"/>
                    </a:rPr>
                    <a:t>person:</a:t>
                  </a:r>
                  <a:br>
                    <a:rPr sz="2400"/>
                  </a:br>
                  <a:r>
                    <a:rPr b="1" lang="en-US" sz="1600" spc="-1" strike="noStrike">
                      <a:solidFill>
                        <a:srgbClr val="800000"/>
                      </a:solidFill>
                      <a:latin typeface="Courier New"/>
                    </a:rPr>
                    <a:t>nic-hdl:</a:t>
                  </a:r>
                  <a:endParaRPr b="0" lang="en-US" sz="1600" spc="-1" strike="noStrike">
                    <a:solidFill>
                      <a:srgbClr val="325592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800000"/>
                      </a:solidFill>
                      <a:latin typeface="Courier New"/>
                    </a:rPr>
                    <a:t>KX17-AP</a:t>
                  </a:r>
                  <a:endParaRPr b="0" lang="en-US" sz="1600" spc="-1" strike="noStrike">
                    <a:solidFill>
                      <a:srgbClr val="32559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7" name=""/>
              <p:cNvSpPr/>
              <p:nvPr/>
            </p:nvSpPr>
            <p:spPr>
              <a:xfrm>
                <a:off x="468360" y="4400640"/>
                <a:ext cx="21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Arial"/>
                  </a:rPr>
                  <a:t>Contact info</a:t>
                </a:r>
                <a:endParaRPr b="0" lang="en-US" sz="20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538200" y="278136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32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539640" y="4797360"/>
            <a:ext cx="2089440" cy="1875240"/>
            <a:chOff x="539640" y="4797360"/>
            <a:chExt cx="2089440" cy="1875240"/>
          </a:xfrm>
        </p:grpSpPr>
        <p:grpSp>
          <p:nvGrpSpPr>
            <p:cNvPr id="1230" name=""/>
            <p:cNvGrpSpPr/>
            <p:nvPr/>
          </p:nvGrpSpPr>
          <p:grpSpPr>
            <a:xfrm>
              <a:off x="684360" y="5157720"/>
              <a:ext cx="1944720" cy="1514880"/>
              <a:chOff x="684360" y="5157720"/>
              <a:chExt cx="1944720" cy="1514880"/>
            </a:xfrm>
          </p:grpSpPr>
          <p:sp>
            <p:nvSpPr>
              <p:cNvPr id="1231" name=""/>
              <p:cNvSpPr/>
              <p:nvPr/>
            </p:nvSpPr>
            <p:spPr>
              <a:xfrm>
                <a:off x="971640" y="5211720"/>
                <a:ext cx="1368360" cy="108108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84360" y="6273720"/>
                <a:ext cx="194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Arial"/>
                  </a:rPr>
                  <a:t>Data Protection </a:t>
                </a:r>
                <a:endParaRPr b="0" lang="en-US" sz="20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971640" y="5157720"/>
                <a:ext cx="15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80"/>
                    </a:solidFill>
                    <a:latin typeface="Courier New"/>
                  </a:rPr>
                  <a:t>mntner:</a:t>
                </a:r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1234" name=""/>
            <p:cNvSpPr/>
            <p:nvPr/>
          </p:nvSpPr>
          <p:spPr>
            <a:xfrm>
              <a:off x="539640" y="479736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urier New"/>
                </a:rPr>
                <a:t>2</a:t>
              </a:r>
              <a:endParaRPr b="0" lang="en-US" sz="32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203640" y="3357720"/>
            <a:ext cx="1944720" cy="2441520"/>
            <a:chOff x="3203640" y="3357720"/>
            <a:chExt cx="1944720" cy="2441520"/>
          </a:xfrm>
        </p:grpSpPr>
        <p:grpSp>
          <p:nvGrpSpPr>
            <p:cNvPr id="1236" name=""/>
            <p:cNvGrpSpPr/>
            <p:nvPr/>
          </p:nvGrpSpPr>
          <p:grpSpPr>
            <a:xfrm>
              <a:off x="3203640" y="3860640"/>
              <a:ext cx="1728720" cy="1938600"/>
              <a:chOff x="3203640" y="3860640"/>
              <a:chExt cx="1728720" cy="1938600"/>
            </a:xfrm>
          </p:grpSpPr>
          <p:sp>
            <p:nvSpPr>
              <p:cNvPr id="1237" name=""/>
              <p:cNvSpPr/>
              <p:nvPr/>
            </p:nvSpPr>
            <p:spPr>
              <a:xfrm>
                <a:off x="3203640" y="3860640"/>
                <a:ext cx="1728720" cy="187344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203640" y="3933720"/>
                <a:ext cx="1655640" cy="186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Courier New"/>
                  </a:rPr>
                  <a:t>inetnum:</a:t>
                </a:r>
                <a:br>
                  <a:rPr sz="24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...</a:t>
                </a:r>
                <a:br>
                  <a:rPr sz="1600"/>
                </a:br>
                <a:r>
                  <a:rPr b="1" lang="en-US" sz="1800" spc="-1" strike="noStrike">
                    <a:solidFill>
                      <a:srgbClr val="800000"/>
                    </a:solidFill>
                    <a:latin typeface="Courier New"/>
                  </a:rPr>
                  <a:t>KX17-AP</a:t>
                </a:r>
                <a:endParaRPr b="0" lang="en-US" sz="1800" spc="-1" strike="noStrike">
                  <a:solidFill>
                    <a:srgbClr val="325592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...</a:t>
                </a:r>
                <a:br>
                  <a:rPr sz="1600"/>
                </a:br>
                <a:r>
                  <a:rPr b="1" lang="en-US" sz="1800" spc="-1" strike="noStrike">
                    <a:solidFill>
                      <a:srgbClr val="800080"/>
                    </a:solidFill>
                    <a:latin typeface="Courier New"/>
                  </a:rPr>
                  <a:t>mnt-by: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...</a:t>
                </a:r>
                <a:endParaRPr b="0" lang="en-US" sz="16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1239" name=""/>
            <p:cNvSpPr/>
            <p:nvPr/>
          </p:nvSpPr>
          <p:spPr>
            <a:xfrm>
              <a:off x="4500720" y="3357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urier New"/>
                </a:rPr>
                <a:t>4</a:t>
              </a:r>
              <a:endParaRPr b="0" lang="en-US" sz="32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5148360" y="3357720"/>
            <a:ext cx="1871640" cy="2441520"/>
            <a:chOff x="5148360" y="3357720"/>
            <a:chExt cx="1871640" cy="2441520"/>
          </a:xfrm>
        </p:grpSpPr>
        <p:grpSp>
          <p:nvGrpSpPr>
            <p:cNvPr id="1241" name=""/>
            <p:cNvGrpSpPr/>
            <p:nvPr/>
          </p:nvGrpSpPr>
          <p:grpSpPr>
            <a:xfrm>
              <a:off x="5148360" y="3860640"/>
              <a:ext cx="1728720" cy="1938600"/>
              <a:chOff x="5148360" y="3860640"/>
              <a:chExt cx="1728720" cy="1938600"/>
            </a:xfrm>
          </p:grpSpPr>
          <p:sp>
            <p:nvSpPr>
              <p:cNvPr id="1242" name=""/>
              <p:cNvSpPr/>
              <p:nvPr/>
            </p:nvSpPr>
            <p:spPr>
              <a:xfrm>
                <a:off x="5148360" y="3860640"/>
                <a:ext cx="1728720" cy="187344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148360" y="3933720"/>
                <a:ext cx="1655640" cy="186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Courier New"/>
                  </a:rPr>
                  <a:t>inetnum:</a:t>
                </a:r>
                <a:br>
                  <a:rPr sz="24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...</a:t>
                </a:r>
                <a:br>
                  <a:rPr sz="1600"/>
                </a:br>
                <a:r>
                  <a:rPr b="1" lang="en-US" sz="1800" spc="-1" strike="noStrike">
                    <a:solidFill>
                      <a:srgbClr val="800000"/>
                    </a:solidFill>
                    <a:latin typeface="Courier New"/>
                  </a:rPr>
                  <a:t>KX17-AP</a:t>
                </a:r>
                <a:endParaRPr b="0" lang="en-US" sz="1800" spc="-1" strike="noStrike">
                  <a:solidFill>
                    <a:srgbClr val="325592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...</a:t>
                </a:r>
                <a:br>
                  <a:rPr sz="1600"/>
                </a:br>
                <a:r>
                  <a:rPr b="1" lang="en-US" sz="1800" spc="-1" strike="noStrike">
                    <a:solidFill>
                      <a:srgbClr val="800080"/>
                    </a:solidFill>
                    <a:latin typeface="Courier New"/>
                  </a:rPr>
                  <a:t>mnt-by:</a:t>
                </a:r>
                <a:br>
                  <a:rPr sz="18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...</a:t>
                </a:r>
                <a:endParaRPr b="0" lang="en-US" sz="16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6372360" y="3357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urier New"/>
                </a:rPr>
                <a:t>5</a:t>
              </a:r>
              <a:endParaRPr b="0" lang="en-US" sz="32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4716360" y="4724280"/>
            <a:ext cx="360360" cy="649440"/>
            <a:chOff x="4716360" y="4724280"/>
            <a:chExt cx="360360" cy="649440"/>
          </a:xfrm>
        </p:grpSpPr>
        <p:sp>
          <p:nvSpPr>
            <p:cNvPr id="1246" name=""/>
            <p:cNvSpPr/>
            <p:nvPr/>
          </p:nvSpPr>
          <p:spPr>
            <a:xfrm>
              <a:off x="4716360" y="4724280"/>
              <a:ext cx="360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16360" y="5373720"/>
              <a:ext cx="36036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7020000" y="3354480"/>
            <a:ext cx="1944720" cy="2444760"/>
            <a:chOff x="7020000" y="3354480"/>
            <a:chExt cx="1944720" cy="2444760"/>
          </a:xfrm>
        </p:grpSpPr>
        <p:grpSp>
          <p:nvGrpSpPr>
            <p:cNvPr id="1249" name=""/>
            <p:cNvGrpSpPr/>
            <p:nvPr/>
          </p:nvGrpSpPr>
          <p:grpSpPr>
            <a:xfrm>
              <a:off x="7020000" y="3860640"/>
              <a:ext cx="1728720" cy="1938600"/>
              <a:chOff x="7020000" y="3860640"/>
              <a:chExt cx="1728720" cy="1938600"/>
            </a:xfrm>
          </p:grpSpPr>
          <p:sp>
            <p:nvSpPr>
              <p:cNvPr id="1250" name=""/>
              <p:cNvSpPr/>
              <p:nvPr/>
            </p:nvSpPr>
            <p:spPr>
              <a:xfrm>
                <a:off x="7020000" y="3860640"/>
                <a:ext cx="1728720" cy="187344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020000" y="3933720"/>
                <a:ext cx="1655640" cy="186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inetnum:</a:t>
                </a:r>
                <a:br>
                  <a:rPr sz="24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...</a:t>
                </a:r>
                <a:br>
                  <a:rPr sz="1600"/>
                </a:br>
                <a:r>
                  <a:rPr b="1" lang="en-US" sz="1800" spc="-1" strike="noStrike">
                    <a:solidFill>
                      <a:srgbClr val="800000"/>
                    </a:solidFill>
                    <a:latin typeface="Courier New"/>
                  </a:rPr>
                  <a:t>KX17-AP</a:t>
                </a:r>
                <a:endParaRPr b="0" lang="en-US" sz="1800" spc="-1" strike="noStrike">
                  <a:solidFill>
                    <a:srgbClr val="325592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...</a:t>
                </a:r>
                <a:br>
                  <a:rPr sz="1600"/>
                </a:br>
                <a:r>
                  <a:rPr b="1" lang="en-US" sz="1800" spc="-1" strike="noStrike">
                    <a:solidFill>
                      <a:srgbClr val="800080"/>
                    </a:solidFill>
                    <a:latin typeface="Courier New"/>
                  </a:rPr>
                  <a:t>mnt-by:</a:t>
                </a:r>
                <a:br>
                  <a:rPr sz="18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...</a:t>
                </a:r>
                <a:endParaRPr b="0" lang="en-US" sz="16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sp>
          <p:nvSpPr>
            <p:cNvPr id="1252" name=""/>
            <p:cNvSpPr/>
            <p:nvPr/>
          </p:nvSpPr>
          <p:spPr>
            <a:xfrm>
              <a:off x="8317080" y="33544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urier New"/>
                </a:rPr>
                <a:t>6</a:t>
              </a:r>
              <a:endParaRPr b="0" lang="en-US" sz="32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6659640" y="4724280"/>
            <a:ext cx="360360" cy="649440"/>
            <a:chOff x="6659640" y="4724280"/>
            <a:chExt cx="360360" cy="649440"/>
          </a:xfrm>
        </p:grpSpPr>
        <p:sp>
          <p:nvSpPr>
            <p:cNvPr id="1254" name=""/>
            <p:cNvSpPr/>
            <p:nvPr/>
          </p:nvSpPr>
          <p:spPr>
            <a:xfrm>
              <a:off x="6659640" y="5373720"/>
              <a:ext cx="36036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659640" y="4724280"/>
              <a:ext cx="360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1256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9" dur="indefinite" restart="never" nodeType="tmRoot">
          <p:childTnLst>
            <p:seq>
              <p:cTn id="1710" dur="indefinite" nodeType="mainSeq">
                <p:childTnLst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5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0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0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1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5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500"/>
                            </p:stCondLst>
                            <p:childTnLst>
                              <p:par>
                                <p:cTn id="1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4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2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7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500"/>
                            </p:stCondLst>
                            <p:childTnLst>
                              <p:par>
                                <p:cTn id="1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1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9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tabase auto-respon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Successful update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UCCEEDED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Objects accepted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Warning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Objects accepted but ambiguous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Objects corrected and accepted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Errors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AILED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Objects NOT accepted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9f5e1"/>
                </a:solidFill>
                <a:latin typeface="Arial"/>
              </a:rPr>
              <a:t>Don’t understand the error message?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Help documentation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apnic.net/docs/database-update-info.html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2. Contact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Include the error message</a:t>
            </a:r>
            <a:endParaRPr b="0" lang="en-US" sz="1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740720" y="3213000"/>
            <a:ext cx="1073160" cy="696960"/>
          </a:xfrm>
          <a:prstGeom prst="cloudCallout">
            <a:avLst>
              <a:gd name="adj1" fmla="val -43787"/>
              <a:gd name="adj2" fmla="val 101023"/>
            </a:avLst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857680" y="5610240"/>
            <a:ext cx="2801880" cy="4334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&lt;helpdesk@apnic.net&gt;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3637080" y="1727280"/>
            <a:ext cx="1066680" cy="1066680"/>
          </a:xfrm>
          <a:prstGeom prst="diamond">
            <a:avLst/>
          </a:prstGeom>
          <a:solidFill>
            <a:srgbClr val="ffffcc"/>
          </a:solidFill>
          <a:ln w="936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25592"/>
                </a:solidFill>
                <a:latin typeface="Arial"/>
              </a:rPr>
              <a:t>Parse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tabase mailbox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68000" y="1523520"/>
            <a:ext cx="3941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Automatic request processing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Automatic “robot” for all db updat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Email template for create/update/delet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5148000" y="1523520"/>
            <a:ext cx="3948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Database service suppor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E-mails answered by APNIC staff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1 day response tim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808200" y="2989440"/>
            <a:ext cx="3454200" cy="550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&lt;auto-dbm@apnic.net&gt;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253120" y="2981160"/>
            <a:ext cx="3454200" cy="5511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&lt;helpdesk@apnic.net&gt;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268" name="" descr=""/>
          <p:cNvPicPr/>
          <p:nvPr/>
        </p:nvPicPr>
        <p:blipFill>
          <a:blip r:embed="rId2"/>
          <a:stretch/>
        </p:blipFill>
        <p:spPr>
          <a:xfrm>
            <a:off x="7400880" y="2019240"/>
            <a:ext cx="816120" cy="876240"/>
          </a:xfrm>
          <a:prstGeom prst="rect">
            <a:avLst/>
          </a:prstGeom>
          <a:ln w="0">
            <a:noFill/>
          </a:ln>
        </p:spPr>
      </p:pic>
      <p:sp>
        <p:nvSpPr>
          <p:cNvPr id="1269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295280" y="228600"/>
            <a:ext cx="76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276200" y="252360"/>
            <a:ext cx="76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Questions ?</a:t>
            </a:r>
            <a:endParaRPr b="0" lang="en-US" sz="3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619280" y="6572160"/>
            <a:ext cx="57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erial available at: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</a:rPr>
              <a:t>www.apnic.net/training/recent/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APNIC Databa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Protection and Updating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tabase protectio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  maintainer obje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200240" y="1773360"/>
            <a:ext cx="6900480" cy="4107960"/>
            <a:chOff x="1200240" y="1773360"/>
            <a:chExt cx="6900480" cy="4107960"/>
          </a:xfrm>
        </p:grpSpPr>
        <p:sp>
          <p:nvSpPr>
            <p:cNvPr id="1279" name=""/>
            <p:cNvSpPr/>
            <p:nvPr/>
          </p:nvSpPr>
          <p:spPr>
            <a:xfrm>
              <a:off x="1200240" y="1773360"/>
              <a:ext cx="6900480" cy="380196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288080" y="1823400"/>
              <a:ext cx="6506280" cy="40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mntner: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MAINT-WF-EX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descr:   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aintainer for ExampleNet Service Provider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country: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WF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admin-c: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ZU3-AP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tech-c:  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KX17-AP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upd-to:  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kxander@example.com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mnt-nfy: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kxander@example.com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auth:     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CRYPT-PW apHJ9zF3o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mnt-by:  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MAINT-WF-EX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referral-by:         MAINT-APNIC-AP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changed: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kxander@example.com 20020731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source:      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APNIC </a:t>
              </a: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1281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00000" y="5734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protects other objects in the APNIC database</a:t>
            </a:r>
            <a:endParaRPr b="0" lang="en-US" sz="28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283" name="" descr=""/>
          <p:cNvPicPr/>
          <p:nvPr/>
        </p:nvPicPr>
        <p:blipFill>
          <a:blip r:embed="rId2"/>
          <a:stretch/>
        </p:blipFill>
        <p:spPr>
          <a:xfrm>
            <a:off x="7197840" y="485640"/>
            <a:ext cx="6602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eating a maintainer obje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9f5e1"/>
                </a:solidFill>
                <a:latin typeface="Arial"/>
              </a:rPr>
              <a:t>Fill out webform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f5e1"/>
                </a:solidFill>
                <a:latin typeface="Arial"/>
              </a:rPr>
              <a:t>Provide: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9f5e1"/>
                </a:solidFill>
                <a:latin typeface="Arial"/>
              </a:rPr>
              <a:t>Admin-c &amp; tech-c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9f5e1"/>
                </a:solidFill>
                <a:latin typeface="Arial"/>
              </a:rPr>
              <a:t>password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9f5e1"/>
                </a:solidFill>
                <a:latin typeface="Arial"/>
              </a:rPr>
              <a:t>email address etc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9f5e1"/>
                </a:solidFill>
                <a:latin typeface="Arial"/>
              </a:rPr>
              <a:t>Completed form will be sent to you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9f5e1"/>
                </a:solidFill>
                <a:latin typeface="Arial"/>
              </a:rPr>
              <a:t>Forward request to </a:t>
            </a:r>
            <a:r>
              <a:rPr b="0" lang="en-US" sz="2400" spc="-1" strike="noStrike" u="sng">
                <a:solidFill>
                  <a:srgbClr val="f9f5e1"/>
                </a:solidFill>
                <a:uFillTx/>
                <a:latin typeface="Arial"/>
              </a:rPr>
              <a:t>maint-request@apnic.ne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aintainer will be created </a:t>
            </a:r>
            <a:r>
              <a:rPr b="0" i="1" lang="en-US" sz="2800" spc="-1" strike="noStrike">
                <a:solidFill>
                  <a:srgbClr val="f9f5e1"/>
                </a:solidFill>
                <a:latin typeface="Arial"/>
              </a:rPr>
              <a:t>manually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Manual verification by APNIC Hostmaster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f9f5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Update your person object with mntner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pic>
        <p:nvPicPr>
          <p:cNvPr id="1286" name="" descr=""/>
          <p:cNvPicPr/>
          <p:nvPr/>
        </p:nvPicPr>
        <p:blipFill>
          <a:blip r:embed="rId2"/>
          <a:stretch/>
        </p:blipFill>
        <p:spPr>
          <a:xfrm>
            <a:off x="5289480" y="1492200"/>
            <a:ext cx="3041640" cy="1771560"/>
          </a:xfrm>
          <a:prstGeom prst="rect">
            <a:avLst/>
          </a:prstGeom>
          <a:ln w="0">
            <a:noFill/>
          </a:ln>
        </p:spPr>
      </p:pic>
      <p:sp>
        <p:nvSpPr>
          <p:cNvPr id="1287" name=""/>
          <p:cNvSpPr/>
          <p:nvPr/>
        </p:nvSpPr>
        <p:spPr>
          <a:xfrm>
            <a:off x="1116000" y="6308640"/>
            <a:ext cx="711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apnic.net/services/whois_guide.html</a:t>
            </a:r>
            <a:endParaRPr b="0" lang="en-US" sz="22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288" name="" descr=""/>
          <p:cNvPicPr/>
          <p:nvPr/>
        </p:nvPicPr>
        <p:blipFill>
          <a:blip r:embed="rId5"/>
          <a:stretch/>
        </p:blipFill>
        <p:spPr>
          <a:xfrm>
            <a:off x="7375680" y="485640"/>
            <a:ext cx="660240" cy="360360"/>
          </a:xfrm>
          <a:prstGeom prst="rect">
            <a:avLst/>
          </a:prstGeom>
          <a:ln w="0">
            <a:noFill/>
          </a:ln>
        </p:spPr>
      </p:pic>
      <p:sp>
        <p:nvSpPr>
          <p:cNvPr id="1289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tabase prote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Authorisa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mnt-by” references a mntner object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Can be found in all database object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mnt-by” should be used with every object!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Updates to an object must pass authentication rule specified by its maintainer objec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293" name="" descr=""/>
          <p:cNvPicPr/>
          <p:nvPr/>
        </p:nvPicPr>
        <p:blipFill>
          <a:blip r:embed="rId2"/>
          <a:stretch/>
        </p:blipFill>
        <p:spPr>
          <a:xfrm>
            <a:off x="7197840" y="485640"/>
            <a:ext cx="66024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horisation mechanism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1187280" y="2924280"/>
            <a:ext cx="7561440" cy="360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ntner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INT-WF-EX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scr: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aintainer for ExampleNet Service Provider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untry: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F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dmin-c: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ZU3-AP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ech-c: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X17-AP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pd-to: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xander@example.com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nt-nfy: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xander@example.com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uth: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RYPT-PW apHJ9zF3o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nt-by: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AINT-WF-EX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anged: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xander@example.com 20020731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ource: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NIC 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187280" y="1066680"/>
            <a:ext cx="7488360" cy="1752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etnum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02.137.181.0 – 202.137.185.255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tname: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NET-WF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scr: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ampleNet Service Provider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………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mnt-by:   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MAINT-WF-EX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298" name=""/>
          <p:cNvGrpSpPr/>
          <p:nvPr/>
        </p:nvGrpSpPr>
        <p:grpSpPr>
          <a:xfrm>
            <a:off x="698400" y="2521080"/>
            <a:ext cx="576000" cy="718560"/>
            <a:chOff x="698400" y="2521080"/>
            <a:chExt cx="576000" cy="718560"/>
          </a:xfrm>
        </p:grpSpPr>
        <p:grpSp>
          <p:nvGrpSpPr>
            <p:cNvPr id="1299" name=""/>
            <p:cNvGrpSpPr/>
            <p:nvPr/>
          </p:nvGrpSpPr>
          <p:grpSpPr>
            <a:xfrm>
              <a:off x="722160" y="2528640"/>
              <a:ext cx="552240" cy="711000"/>
              <a:chOff x="722160" y="2528640"/>
              <a:chExt cx="552240" cy="711000"/>
            </a:xfrm>
          </p:grpSpPr>
          <p:sp>
            <p:nvSpPr>
              <p:cNvPr id="1300" name=""/>
              <p:cNvSpPr/>
              <p:nvPr/>
            </p:nvSpPr>
            <p:spPr>
              <a:xfrm>
                <a:off x="741240" y="2553840"/>
                <a:ext cx="0" cy="6854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22160" y="2528640"/>
                <a:ext cx="5331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41240" y="3239640"/>
                <a:ext cx="5331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698400" y="2521080"/>
              <a:ext cx="552240" cy="711000"/>
              <a:chOff x="698400" y="2521080"/>
              <a:chExt cx="552240" cy="711000"/>
            </a:xfrm>
          </p:grpSpPr>
          <p:sp>
            <p:nvSpPr>
              <p:cNvPr id="1304" name=""/>
              <p:cNvSpPr/>
              <p:nvPr/>
            </p:nvSpPr>
            <p:spPr>
              <a:xfrm>
                <a:off x="717480" y="2546280"/>
                <a:ext cx="0" cy="685440"/>
              </a:xfrm>
              <a:prstGeom prst="line">
                <a:avLst/>
              </a:prstGeom>
              <a:ln w="507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98400" y="2521080"/>
                <a:ext cx="533160" cy="0"/>
              </a:xfrm>
              <a:prstGeom prst="line">
                <a:avLst/>
              </a:prstGeom>
              <a:ln w="50760">
                <a:solidFill>
                  <a:srgbClr val="99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17480" y="3232080"/>
                <a:ext cx="533160" cy="0"/>
              </a:xfrm>
              <a:prstGeom prst="line">
                <a:avLst/>
              </a:prstGeom>
              <a:ln w="50760">
                <a:solidFill>
                  <a:srgbClr val="99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07" name="" descr=""/>
          <p:cNvPicPr/>
          <p:nvPr/>
        </p:nvPicPr>
        <p:blipFill>
          <a:blip r:embed="rId2"/>
          <a:stretch/>
        </p:blipFill>
        <p:spPr>
          <a:xfrm>
            <a:off x="7977240" y="2987640"/>
            <a:ext cx="660240" cy="360360"/>
          </a:xfrm>
          <a:prstGeom prst="rect">
            <a:avLst/>
          </a:prstGeom>
          <a:ln w="0">
            <a:noFill/>
          </a:ln>
        </p:spPr>
      </p:pic>
      <p:pic>
        <p:nvPicPr>
          <p:cNvPr id="1308" name="" descr=""/>
          <p:cNvPicPr/>
          <p:nvPr/>
        </p:nvPicPr>
        <p:blipFill>
          <a:blip r:embed="rId3"/>
          <a:stretch/>
        </p:blipFill>
        <p:spPr>
          <a:xfrm>
            <a:off x="7897680" y="1120680"/>
            <a:ext cx="6620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hentication metho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‘</a:t>
            </a: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auth’ attribute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Crypt-PW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Crypt (Unix) password encryp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Use web page to create your maintain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PGP – GNUPG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Strong authentica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Requires PGP key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MD5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Strong authenticatio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Easy to us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312" name="" descr=""/>
          <p:cNvPicPr/>
          <p:nvPr/>
        </p:nvPicPr>
        <p:blipFill>
          <a:blip r:embed="rId2"/>
          <a:stretch/>
        </p:blipFill>
        <p:spPr>
          <a:xfrm>
            <a:off x="7197840" y="485640"/>
            <a:ext cx="66024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policy development proc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62160" y="2874960"/>
            <a:ext cx="76168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4840" y="2779560"/>
            <a:ext cx="179280" cy="179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60560" y="2779560"/>
            <a:ext cx="179280" cy="179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6280" y="2779560"/>
            <a:ext cx="179280" cy="179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72000" y="2779560"/>
            <a:ext cx="179280" cy="179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27720" y="2779560"/>
            <a:ext cx="179280" cy="179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51680" y="2779560"/>
            <a:ext cx="179640" cy="179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09200" y="2779560"/>
            <a:ext cx="179280" cy="179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84880" y="2779560"/>
            <a:ext cx="179280" cy="179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0600" y="2779560"/>
            <a:ext cx="179280" cy="179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95960" y="2779560"/>
            <a:ext cx="179640" cy="179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8900000">
            <a:off x="-289080" y="3234600"/>
            <a:ext cx="256068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Proposal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(4 w before meeting)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8900000">
            <a:off x="1320840" y="3124080"/>
            <a:ext cx="12524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ML 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discussion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8900000">
            <a:off x="2076480" y="3173760"/>
            <a:ext cx="11764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Meeting discussion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8900000">
            <a:off x="2844360" y="3283920"/>
            <a:ext cx="11764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Consensus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8900000">
            <a:off x="3989520" y="3100320"/>
            <a:ext cx="8953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Report 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to AMM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8900000">
            <a:off x="7429320" y="3401280"/>
            <a:ext cx="225576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Implementation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(3 months)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0000">
            <a:off x="4572000" y="3344760"/>
            <a:ext cx="11764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Consensus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8900000">
            <a:off x="5964120" y="3328560"/>
            <a:ext cx="17496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Consensus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8900000">
            <a:off x="6629400" y="3488760"/>
            <a:ext cx="18921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EC endorsement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8900000">
            <a:off x="4997160" y="3369600"/>
            <a:ext cx="189216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Comment period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(8 weeks)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8760" y="150480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eed</a:t>
            </a:r>
            <a:endParaRPr b="0" lang="en-US" sz="2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71920" y="150480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iscuss</a:t>
            </a:r>
            <a:endParaRPr b="0" lang="en-US" sz="2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08320" y="1504800"/>
            <a:ext cx="20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nsensus</a:t>
            </a:r>
            <a:endParaRPr b="0" lang="en-US" sz="2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39000" y="1504800"/>
            <a:ext cx="20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mplement</a:t>
            </a:r>
            <a:endParaRPr b="0" lang="en-US" sz="2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30320" y="5100480"/>
            <a:ext cx="7531200" cy="1090800"/>
          </a:xfrm>
          <a:prstGeom prst="rect">
            <a:avLst/>
          </a:prstGeom>
          <a:solidFill>
            <a:srgbClr val="24467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You can participate!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Unicode MS"/>
              </a:rPr>
              <a:t>More information about policy development can be found at: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25592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Unicode MS"/>
              </a:rPr>
              <a:t>http://www.apnic.net/docs/policy/dev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03400" y="2778120"/>
            <a:ext cx="179280" cy="179280"/>
          </a:xfrm>
          <a:prstGeom prst="ellipse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60560" y="2778120"/>
            <a:ext cx="179280" cy="179280"/>
          </a:xfrm>
          <a:prstGeom prst="ellipse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7720" y="2778120"/>
            <a:ext cx="179640" cy="179280"/>
          </a:xfrm>
          <a:prstGeom prst="ellipse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70200" y="2778120"/>
            <a:ext cx="179640" cy="179280"/>
          </a:xfrm>
          <a:prstGeom prst="ellipse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06560" y="2778120"/>
            <a:ext cx="179640" cy="179280"/>
          </a:xfrm>
          <a:prstGeom prst="ellipse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83080" y="2778120"/>
            <a:ext cx="179640" cy="179280"/>
          </a:xfrm>
          <a:prstGeom prst="ellipse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95960" y="2778120"/>
            <a:ext cx="179640" cy="179280"/>
          </a:xfrm>
          <a:prstGeom prst="ellipse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38800" y="2778120"/>
            <a:ext cx="179640" cy="179280"/>
          </a:xfrm>
          <a:prstGeom prst="ellipse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remove" presetClass="emph" presetID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2" dur="5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6" dur="5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0" dur="5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2" dur="5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" dur="5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933480" y="390240"/>
            <a:ext cx="6681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nt-by &amp; mnt-low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75920" y="1466640"/>
            <a:ext cx="86677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‘</a:t>
            </a: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mnt-by’ attribut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Can be used to protect any object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Changes to protected object must satisfy authentication rules of ‘mntner’ object.</a:t>
            </a:r>
            <a:br>
              <a:rPr sz="2000"/>
            </a:b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‘</a:t>
            </a: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mnt-lower’ attribute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Also references mntner object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Hierarchical authorisation for inetnum &amp; domain object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The creation of child objects must satisfy this mntner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Protects against unauthorised updates to an allocated range - highly recommended!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2"/>
          <a:stretch/>
        </p:blipFill>
        <p:spPr>
          <a:xfrm>
            <a:off x="7197840" y="485640"/>
            <a:ext cx="66024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/>
          <p:nvPr/>
        </p:nvSpPr>
        <p:spPr>
          <a:xfrm>
            <a:off x="1533600" y="2305080"/>
            <a:ext cx="6916680" cy="375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Inetnum: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203.146.96.0 - 203.146.127.255 netname: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LOXINFO-TH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descr: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Loxley Information Company Ltd.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Descr: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304 Suapah Rd, Promprab,Bangkok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country: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TH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admin-c: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KS32-AP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tech-c: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CT2-AP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mnt-by: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  <a:ea typeface="Courier New"/>
              </a:rPr>
              <a:t>APNIC-HM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mnt-lower: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  <a:ea typeface="Courier New"/>
              </a:rPr>
              <a:t>MAINT-TH-LOXINFO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changed: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hostmaster@apnic.net 19990714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Status: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ALLOCATED PORTABLE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source: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APNIC</a:t>
            </a:r>
            <a:r>
              <a:rPr b="0" lang="en-US" sz="2000" spc="-1" strike="noStrike">
                <a:solidFill>
                  <a:srgbClr val="000066"/>
                </a:solidFill>
                <a:latin typeface="Arial Unicode MS"/>
                <a:ea typeface="Courier New"/>
              </a:rPr>
              <a:t> 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hentication/Authoris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1218960" y="1377720"/>
            <a:ext cx="792468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APNIC allocation to member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reated and maintained by APNIC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514160" y="6216120"/>
            <a:ext cx="62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1. Only APNIC can change this object</a:t>
            </a:r>
            <a:br>
              <a:rPr sz="1800"/>
            </a:br>
            <a:r>
              <a:rPr b="0" lang="en-US" sz="1800" spc="-1" strike="noStrike">
                <a:solidFill>
                  <a:srgbClr val="f9f5e1"/>
                </a:solidFill>
                <a:latin typeface="Arial"/>
              </a:rPr>
              <a:t>2. Only Loxinfo can create assignments within this allocation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933480" y="4653000"/>
            <a:ext cx="647640" cy="288720"/>
          </a:xfrm>
          <a:prstGeom prst="rightArrow">
            <a:avLst>
              <a:gd name="adj1" fmla="val 50000"/>
              <a:gd name="adj2" fmla="val 56079"/>
            </a:avLst>
          </a:prstGeom>
          <a:solidFill>
            <a:srgbClr val="ffffff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933480" y="4940280"/>
            <a:ext cx="647640" cy="289080"/>
          </a:xfrm>
          <a:prstGeom prst="rightArrow">
            <a:avLst>
              <a:gd name="adj1" fmla="val 50000"/>
              <a:gd name="adj2" fmla="val 56009"/>
            </a:avLst>
          </a:prstGeom>
          <a:solidFill>
            <a:srgbClr val="ffffff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47640" y="4686480"/>
            <a:ext cx="228600" cy="228600"/>
          </a:xfrm>
          <a:prstGeom prst="ellipse">
            <a:avLst/>
          </a:prstGeom>
          <a:solidFill>
            <a:srgbClr val="f9f5e1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47640" y="4978440"/>
            <a:ext cx="228600" cy="228600"/>
          </a:xfrm>
          <a:prstGeom prst="ellipse">
            <a:avLst/>
          </a:prstGeom>
          <a:solidFill>
            <a:srgbClr val="f9f5e1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326" name="" descr=""/>
          <p:cNvPicPr/>
          <p:nvPr/>
        </p:nvPicPr>
        <p:blipFill>
          <a:blip r:embed="rId2"/>
          <a:stretch/>
        </p:blipFill>
        <p:spPr>
          <a:xfrm>
            <a:off x="776160" y="2325600"/>
            <a:ext cx="6620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"/>
          <p:cNvSpPr/>
          <p:nvPr/>
        </p:nvSpPr>
        <p:spPr>
          <a:xfrm>
            <a:off x="1514520" y="2670120"/>
            <a:ext cx="6873840" cy="3204000"/>
          </a:xfrm>
          <a:prstGeom prst="rect">
            <a:avLst/>
          </a:prstGeom>
          <a:solidFill>
            <a:srgbClr val="ffffcc"/>
          </a:solidFill>
          <a:ln w="2844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Inetnum: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203.146.113.64 - 203.146.113.127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 netname: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SCC-TH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descr: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Sukhothai Commercial Colleg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Country: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TH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admin-c: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SI10-AP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tech-c: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VP5-AP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mnt-by: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  <a:ea typeface="Courier New"/>
              </a:rPr>
              <a:t>MAINT-TH-LOXINFO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changed: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voraluck@loxinfo.co.th 19990930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Status: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ASSIGNED NON-PORTABLE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source: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APNIC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hentication/Authoris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138320" y="1523520"/>
            <a:ext cx="8005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ember assignment to customer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Created and maintained by APNIC membe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396080" y="5888520"/>
            <a:ext cx="58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559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Only LOXINFO-IS can change this object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55640" y="4581360"/>
            <a:ext cx="647640" cy="289080"/>
          </a:xfrm>
          <a:prstGeom prst="rightArrow">
            <a:avLst>
              <a:gd name="adj1" fmla="val 50000"/>
              <a:gd name="adj2" fmla="val 56009"/>
            </a:avLst>
          </a:prstGeom>
          <a:solidFill>
            <a:srgbClr val="ffffff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333" name="" descr=""/>
          <p:cNvPicPr/>
          <p:nvPr/>
        </p:nvPicPr>
        <p:blipFill>
          <a:blip r:embed="rId2"/>
          <a:stretch/>
        </p:blipFill>
        <p:spPr>
          <a:xfrm>
            <a:off x="776160" y="2681280"/>
            <a:ext cx="6620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tabase update proc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867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Email requests to &lt;auto-dbm@apnic.net&gt;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Each request contains an object templat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836640" y="3156120"/>
            <a:ext cx="1725120" cy="1493280"/>
            <a:chOff x="836640" y="3156120"/>
            <a:chExt cx="1725120" cy="1493280"/>
          </a:xfrm>
        </p:grpSpPr>
        <p:sp>
          <p:nvSpPr>
            <p:cNvPr id="1337" name=""/>
            <p:cNvSpPr/>
            <p:nvPr/>
          </p:nvSpPr>
          <p:spPr>
            <a:xfrm>
              <a:off x="840240" y="3156120"/>
              <a:ext cx="172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Arial"/>
                </a:rPr>
                <a:t>Update Request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36640" y="3735360"/>
              <a:ext cx="939960" cy="914040"/>
            </a:xfrm>
            <a:prstGeom prst="flowChartDocument">
              <a:avLst/>
            </a:prstGeom>
            <a:solidFill>
              <a:srgbClr val="ffffcc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1775880" y="3159000"/>
            <a:ext cx="4337280" cy="1566720"/>
            <a:chOff x="1775880" y="3159000"/>
            <a:chExt cx="4337280" cy="1566720"/>
          </a:xfrm>
        </p:grpSpPr>
        <p:sp>
          <p:nvSpPr>
            <p:cNvPr id="1340" name=""/>
            <p:cNvSpPr/>
            <p:nvPr/>
          </p:nvSpPr>
          <p:spPr>
            <a:xfrm>
              <a:off x="3687480" y="315900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Arial"/>
                </a:rPr>
                <a:t>&lt;auto-dbm@apnic.net&gt;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206520" y="3659040"/>
              <a:ext cx="1066680" cy="1066680"/>
            </a:xfrm>
            <a:prstGeom prst="diamond">
              <a:avLst/>
            </a:prstGeom>
            <a:solidFill>
              <a:srgbClr val="ffffcc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800" spc="-1" strike="noStrike">
                  <a:solidFill>
                    <a:srgbClr val="000000"/>
                  </a:solidFill>
                  <a:latin typeface="Arial"/>
                </a:rPr>
                <a:t>Parse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cxnSp>
          <p:nvCxnSpPr>
            <p:cNvPr id="1342" name=""/>
            <p:cNvCxnSpPr>
              <a:stCxn id="1338" idx="3"/>
              <a:endCxn id="1341" idx="1"/>
            </p:cNvCxnSpPr>
            <p:nvPr/>
          </p:nvCxnSpPr>
          <p:spPr>
            <a:xfrm>
              <a:off x="1775880" y="4192200"/>
              <a:ext cx="1430640" cy="1080"/>
            </a:xfrm>
            <a:prstGeom prst="straightConnector1">
              <a:avLst/>
            </a:prstGeom>
            <a:ln w="57240">
              <a:solidFill>
                <a:srgbClr val="f9f5e1"/>
              </a:solidFill>
              <a:miter/>
              <a:tailEnd len="med" type="triangle" w="med"/>
            </a:ln>
          </p:spPr>
        </p:cxnSp>
      </p:grpSp>
      <p:grpSp>
        <p:nvGrpSpPr>
          <p:cNvPr id="1343" name=""/>
          <p:cNvGrpSpPr/>
          <p:nvPr/>
        </p:nvGrpSpPr>
        <p:grpSpPr>
          <a:xfrm>
            <a:off x="836640" y="4622760"/>
            <a:ext cx="2903400" cy="1845360"/>
            <a:chOff x="836640" y="4622760"/>
            <a:chExt cx="2903400" cy="1845360"/>
          </a:xfrm>
        </p:grpSpPr>
        <p:sp>
          <p:nvSpPr>
            <p:cNvPr id="1344" name=""/>
            <p:cNvSpPr/>
            <p:nvPr/>
          </p:nvSpPr>
          <p:spPr>
            <a:xfrm>
              <a:off x="841320" y="6130800"/>
              <a:ext cx="264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9f5e1"/>
                  </a:solidFill>
                  <a:latin typeface="Arial"/>
                </a:rPr>
                <a:t>Warnings/Errors returned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cxnSp>
          <p:nvCxnSpPr>
            <p:cNvPr id="1345" name=""/>
            <p:cNvCxnSpPr>
              <a:stCxn id="1341" idx="2"/>
              <a:endCxn id="1346" idx="3"/>
            </p:cNvCxnSpPr>
            <p:nvPr/>
          </p:nvCxnSpPr>
          <p:spPr>
            <a:xfrm rot="5400000">
              <a:off x="2326320" y="4175640"/>
              <a:ext cx="864360" cy="1963800"/>
            </a:xfrm>
            <a:prstGeom prst="bentConnector2">
              <a:avLst/>
            </a:prstGeom>
            <a:ln w="57240">
              <a:solidFill>
                <a:srgbClr val="f9f5e1"/>
              </a:solidFill>
              <a:miter/>
              <a:tailEnd len="med" type="triangle" w="med"/>
            </a:ln>
          </p:spPr>
        </p:cxnSp>
        <p:sp>
          <p:nvSpPr>
            <p:cNvPr id="1346" name=""/>
            <p:cNvSpPr/>
            <p:nvPr/>
          </p:nvSpPr>
          <p:spPr>
            <a:xfrm>
              <a:off x="836640" y="5132160"/>
              <a:ext cx="939960" cy="914400"/>
            </a:xfrm>
            <a:prstGeom prst="flowChartDocument">
              <a:avLst/>
            </a:prstGeom>
            <a:solidFill>
              <a:srgbClr val="ffcc66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endParaRPr b="0" lang="en-US" sz="16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5400000">
              <a:off x="3156120" y="4622760"/>
              <a:ext cx="457200" cy="45720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3693960" y="4622760"/>
            <a:ext cx="2403000" cy="992160"/>
            <a:chOff x="3693960" y="4622760"/>
            <a:chExt cx="2403000" cy="992160"/>
          </a:xfrm>
        </p:grpSpPr>
        <p:sp>
          <p:nvSpPr>
            <p:cNvPr id="1349" name=""/>
            <p:cNvSpPr/>
            <p:nvPr/>
          </p:nvSpPr>
          <p:spPr>
            <a:xfrm>
              <a:off x="3693960" y="5540400"/>
              <a:ext cx="74520" cy="74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cxnSp>
          <p:nvCxnSpPr>
            <p:cNvPr id="1350" name=""/>
            <p:cNvCxnSpPr/>
            <p:nvPr/>
          </p:nvCxnSpPr>
          <p:spPr>
            <a:xfrm rot="5400000">
              <a:off x="4505760" y="3987360"/>
              <a:ext cx="853200" cy="2329560"/>
            </a:xfrm>
            <a:prstGeom prst="bentConnector2">
              <a:avLst/>
            </a:prstGeom>
            <a:ln w="57240">
              <a:solidFill>
                <a:srgbClr val="f9f5e1"/>
              </a:solidFill>
              <a:miter/>
              <a:tailEnd len="med" type="triangle" w="med"/>
            </a:ln>
          </p:spPr>
        </p:cxnSp>
        <p:sp>
          <p:nvSpPr>
            <p:cNvPr id="1351" name=""/>
            <p:cNvSpPr/>
            <p:nvPr/>
          </p:nvSpPr>
          <p:spPr>
            <a:xfrm rot="5400000">
              <a:off x="5517720" y="4622760"/>
              <a:ext cx="457200" cy="45720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4273200" y="3432240"/>
            <a:ext cx="2718000" cy="1293840"/>
            <a:chOff x="4273200" y="3432240"/>
            <a:chExt cx="2718000" cy="1293840"/>
          </a:xfrm>
        </p:grpSpPr>
        <p:sp>
          <p:nvSpPr>
            <p:cNvPr id="1353" name=""/>
            <p:cNvSpPr/>
            <p:nvPr/>
          </p:nvSpPr>
          <p:spPr>
            <a:xfrm>
              <a:off x="5564160" y="3659400"/>
              <a:ext cx="1066680" cy="1066680"/>
            </a:xfrm>
            <a:prstGeom prst="diamond">
              <a:avLst/>
            </a:prstGeom>
            <a:solidFill>
              <a:srgbClr val="ffffcc"/>
            </a:solidFill>
            <a:ln w="9360">
              <a:solidFill>
                <a:srgbClr val="325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800" spc="-1" strike="noStrike">
                  <a:solidFill>
                    <a:srgbClr val="000000"/>
                  </a:solidFill>
                  <a:latin typeface="Arial"/>
                </a:rPr>
                <a:t>Auth.</a:t>
              </a:r>
              <a:endParaRPr b="0" lang="en-US" sz="18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cxnSp>
          <p:nvCxnSpPr>
            <p:cNvPr id="1354" name=""/>
            <p:cNvCxnSpPr>
              <a:stCxn id="1341" idx="3"/>
              <a:endCxn id="1353" idx="1"/>
            </p:cNvCxnSpPr>
            <p:nvPr/>
          </p:nvCxnSpPr>
          <p:spPr>
            <a:xfrm>
              <a:off x="4273200" y="4192560"/>
              <a:ext cx="1291320" cy="1080"/>
            </a:xfrm>
            <a:prstGeom prst="straightConnector1">
              <a:avLst/>
            </a:prstGeom>
            <a:ln w="57240">
              <a:solidFill>
                <a:srgbClr val="f9f5e1"/>
              </a:solidFill>
              <a:miter/>
              <a:tailEnd len="med" type="triangle" w="med"/>
            </a:ln>
          </p:spPr>
        </p:cxnSp>
        <p:pic>
          <p:nvPicPr>
            <p:cNvPr id="1355" name="" descr=""/>
            <p:cNvPicPr/>
            <p:nvPr/>
          </p:nvPicPr>
          <p:blipFill>
            <a:blip r:embed="rId2"/>
            <a:stretch/>
          </p:blipFill>
          <p:spPr>
            <a:xfrm>
              <a:off x="6577200" y="3432240"/>
              <a:ext cx="41400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6" name=""/>
          <p:cNvGrpSpPr/>
          <p:nvPr/>
        </p:nvGrpSpPr>
        <p:grpSpPr>
          <a:xfrm>
            <a:off x="6630840" y="3156120"/>
            <a:ext cx="2544120" cy="1643040"/>
            <a:chOff x="6630840" y="3156120"/>
            <a:chExt cx="2544120" cy="1643040"/>
          </a:xfrm>
        </p:grpSpPr>
        <p:grpSp>
          <p:nvGrpSpPr>
            <p:cNvPr id="1357" name=""/>
            <p:cNvGrpSpPr/>
            <p:nvPr/>
          </p:nvGrpSpPr>
          <p:grpSpPr>
            <a:xfrm>
              <a:off x="7697160" y="3156120"/>
              <a:ext cx="1477800" cy="1643040"/>
              <a:chOff x="7697160" y="3156120"/>
              <a:chExt cx="1477800" cy="1643040"/>
            </a:xfrm>
          </p:grpSpPr>
          <p:sp>
            <p:nvSpPr>
              <p:cNvPr id="1358" name=""/>
              <p:cNvSpPr/>
              <p:nvPr/>
            </p:nvSpPr>
            <p:spPr>
              <a:xfrm>
                <a:off x="7923240" y="3584880"/>
                <a:ext cx="915840" cy="1214280"/>
              </a:xfrm>
              <a:prstGeom prst="can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3255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800" spc="-1" strike="noStrike">
                  <a:solidFill>
                    <a:srgbClr val="325592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697160" y="3156120"/>
                <a:ext cx="1477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600" spc="-1" strike="noStrike">
                    <a:solidFill>
                      <a:srgbClr val="ffff00"/>
                    </a:solidFill>
                    <a:latin typeface="Arial"/>
                  </a:rPr>
                  <a:t>Whois Server</a:t>
                </a:r>
                <a:endParaRPr b="0" lang="en-US" sz="16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  <p:cxnSp>
          <p:nvCxnSpPr>
            <p:cNvPr id="1360" name=""/>
            <p:cNvCxnSpPr>
              <a:stCxn id="1353" idx="3"/>
              <a:endCxn id="1358" idx="2"/>
            </p:cNvCxnSpPr>
            <p:nvPr/>
          </p:nvCxnSpPr>
          <p:spPr>
            <a:xfrm>
              <a:off x="6630840" y="4192560"/>
              <a:ext cx="1293120" cy="1080"/>
            </a:xfrm>
            <a:prstGeom prst="straightConnector1">
              <a:avLst/>
            </a:prstGeom>
            <a:ln w="57240">
              <a:solidFill>
                <a:srgbClr val="f9f5e1"/>
              </a:solidFill>
              <a:miter/>
              <a:tailEnd len="med" type="triangle" w="med"/>
            </a:ln>
          </p:spPr>
        </p:cxnSp>
      </p:grpSp>
      <p:sp>
        <p:nvSpPr>
          <p:cNvPr id="1361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pic>
        <p:nvPicPr>
          <p:cNvPr id="1362" name="" descr=""/>
          <p:cNvPicPr/>
          <p:nvPr/>
        </p:nvPicPr>
        <p:blipFill>
          <a:blip r:embed="rId3"/>
          <a:stretch/>
        </p:blipFill>
        <p:spPr>
          <a:xfrm>
            <a:off x="6419880" y="4508640"/>
            <a:ext cx="622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0" dur="indefinite" restart="never" nodeType="tmRoot">
          <p:childTnLst>
            <p:seq>
              <p:cTn id="1781" dur="indefinite" nodeType="mainSeq">
                <p:childTnLst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tabase update proc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Update transaction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Create a new object  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Change an objec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Delete</a:t>
            </a: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an objec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Updates are submitted by emai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E-mail to: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Email message contains template representing new or updated objec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467480" y="1496880"/>
            <a:ext cx="939960" cy="914400"/>
          </a:xfrm>
          <a:prstGeom prst="flowChartDocument">
            <a:avLst/>
          </a:prstGeom>
          <a:solidFill>
            <a:srgbClr val="ffffcc"/>
          </a:solidFill>
          <a:ln w="936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5592"/>
                </a:solidFill>
                <a:latin typeface="Arial"/>
              </a:rPr>
              <a:t>Template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565440" y="4759200"/>
            <a:ext cx="3454560" cy="5511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&lt;auto-dbm@apnic.net&gt;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684360" y="1662120"/>
            <a:ext cx="792468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8158320" y="1522440"/>
            <a:ext cx="817560" cy="754200"/>
          </a:xfrm>
          <a:prstGeom prst="flowChartDocument">
            <a:avLst/>
          </a:prstGeom>
          <a:solidFill>
            <a:srgbClr val="ffffcc"/>
          </a:solidFill>
          <a:ln w="936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emplate</a:t>
            </a:r>
            <a:endParaRPr b="0" lang="en-US" sz="1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tabase update - web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reates a template through the web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orm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emplate will be sent to you by emai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his should be forwarded to:</a:t>
            </a:r>
            <a:br>
              <a:rPr sz="2400"/>
            </a:b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Common error            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o reply to the email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(Adds extra character in front of each line)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9f5e1"/>
                </a:solidFill>
                <a:uFillTx/>
                <a:latin typeface="Arial"/>
              </a:rPr>
              <a:t>http://www.apnic.net/services/whois_guide.htm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rot="5400000">
            <a:off x="5231520" y="4526640"/>
            <a:ext cx="409680" cy="433440"/>
          </a:xfrm>
          <a:prstGeom prst="noSmoking">
            <a:avLst>
              <a:gd name="adj" fmla="val 22037"/>
            </a:avLst>
          </a:prstGeom>
          <a:solidFill>
            <a:srgbClr val="ff0000"/>
          </a:solidFill>
          <a:ln w="936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203640" y="3529080"/>
            <a:ext cx="3454200" cy="550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&lt;auto-dbm@apnic.net&gt;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pdating an existing obje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Change relevant fields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Add your maintainer password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Update the changed attribut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Email updated object to: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9f5e1"/>
                </a:solidFill>
                <a:latin typeface="Arial"/>
              </a:rPr>
              <a:t>Not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Primary keys cannot be modified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868480" y="4178160"/>
            <a:ext cx="3454560" cy="5511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&lt;auto-dbm@apnic.net&gt;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leting an obje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Copy object as-is in database into email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Add your maintainer password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Leave the changed attribute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116000" y="3213000"/>
            <a:ext cx="749304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etnum:     202.182.224.0 - 202.182.225.255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name:     SONY-HK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nt-by:      MAINT-CNS-AP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nged:     ph@macroview.com 19990617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word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34zky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:      no longer required me@company.com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332000" y="623736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Note: Referenced objects cannot be deleted (02/99)</a:t>
            </a:r>
            <a:endParaRPr b="0" lang="en-US" sz="20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gotten the passwor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f you are an APNIC member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Are you an APNIC’s authorised contact?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If yes,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send a request for password reset to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elpdesk@apnic.net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If no,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become an authorised contact first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apnic.net/info/faq/isp-request-tips.html#2</a:t>
            </a: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9f5e1"/>
                </a:solidFill>
                <a:latin typeface="Arial"/>
              </a:rPr>
              <a:t>If you are not an APNIC member and holding legacy spac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Send your request for password reset t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elpdesk@apnic.net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9f5e1"/>
                </a:solidFill>
                <a:latin typeface="Arial"/>
              </a:rPr>
              <a:t>Go through necessary procedures to confirm your custodianship before resetting password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8607600" y="0"/>
            <a:ext cx="5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295280" y="228600"/>
            <a:ext cx="76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276200" y="252360"/>
            <a:ext cx="76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Questions ?</a:t>
            </a:r>
            <a:endParaRPr b="0" lang="en-US" sz="36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619280" y="6572160"/>
            <a:ext cx="57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erial available at: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</a:rPr>
              <a:t>www.apnic.net/training/recent/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to make your voice hea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ontribute on the public mailing list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9f5e1"/>
                </a:solidFill>
                <a:uFillTx/>
                <a:latin typeface="Arial"/>
              </a:rPr>
              <a:t>http://www.apnic.net/community/lists/index.html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ttend meeting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Or send a representativ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Gather input at forum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Give feedback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Training or seminar events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461440" y="44280"/>
            <a:ext cx="68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dev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587520" y="246024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Reverse DNS Deleg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subTitle"/>
          </p:nvPr>
        </p:nvSpPr>
        <p:spPr>
          <a:xfrm>
            <a:off x="1673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Technical overview and registry Procedures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Principles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reating reverse zon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tting up nameserver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verse delegation procedur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urrent statu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‘Reverse DNS’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Forward DNS’ maps names to number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vc00.apnic.net -&gt; 202.12.28.131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verse DNS’ maps numbers to nam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202.12.28.131 -&gt; svc00.apnic.ne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8604360" y="0"/>
            <a:ext cx="5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v. DNS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erse DNS - why bother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ervice denia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That only allow access when fully reverse delegated eg. anonymous ftp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iagnostic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Assisting in trace routes etc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Registrati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esponsibility as a member and Local IR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8604360" y="0"/>
            <a:ext cx="5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v. DNS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-addr.arp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Hierarchy of IP addresse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Uses ‘in-addr.arpa’ domain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INverse ADDRess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IP addresses:</a:t>
            </a: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Less specific to More specific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210.56.14.1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omain names: 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More specific to Less specific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delhi.vsnl.net.in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Reversed in in-addr.arpa hierarchy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5e1"/>
                </a:solidFill>
                <a:latin typeface="Arial"/>
              </a:rPr>
              <a:t>14.56.210.in-addr.arpa</a:t>
            </a:r>
            <a:endParaRPr b="0" lang="en-US" sz="20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8604360" y="0"/>
            <a:ext cx="5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v. DNS</a:t>
            </a:r>
            <a:endParaRPr b="0" lang="en-US" sz="12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64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Mapping from names to addresses is common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Forward DN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ometimes its necessary to know which name comes with a given addres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ecurity, Spam detection, Diagnostics etc.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Reverse DN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184400" y="3295800"/>
            <a:ext cx="7705440" cy="57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.example.com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93.0.0.4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Delegate maintenance of the reverse DNS to the custodian of the address block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Address allocation is hierarchical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LIRs/ISPs -&gt; Customers -&gt; End users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/>
          <p:nvPr/>
        </p:nvSpPr>
        <p:spPr>
          <a:xfrm>
            <a:off x="1170000" y="3270240"/>
            <a:ext cx="0" cy="44784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170000" y="4086360"/>
            <a:ext cx="0" cy="44748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50080" y="43736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9f5e1"/>
                </a:solidFill>
                <a:latin typeface="Arial"/>
              </a:rPr>
              <a:t>whois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808520" y="5846760"/>
            <a:ext cx="590400" cy="181080"/>
          </a:xfrm>
          <a:prstGeom prst="rightArrow">
            <a:avLst>
              <a:gd name="adj1" fmla="val 50000"/>
              <a:gd name="adj2" fmla="val 81511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sp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117960" y="2000160"/>
            <a:ext cx="20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Root DNS</a:t>
            </a:r>
            <a:endParaRPr b="0" lang="en-US" sz="32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H="1">
            <a:off x="2701440" y="2540160"/>
            <a:ext cx="1235160" cy="43632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960720" y="2552760"/>
            <a:ext cx="0" cy="39996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971880" y="2565360"/>
            <a:ext cx="1355760" cy="39852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84480" y="2552760"/>
            <a:ext cx="2503800" cy="43488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1127160" y="2544840"/>
            <a:ext cx="2828880" cy="372960"/>
          </a:xfrm>
          <a:prstGeom prst="line">
            <a:avLst/>
          </a:prstGeom>
          <a:ln w="38160">
            <a:solidFill>
              <a:srgbClr val="b98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les – DNS tre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098960" y="2357280"/>
            <a:ext cx="0" cy="0"/>
          </a:xfrm>
          <a:prstGeom prst="line">
            <a:avLst/>
          </a:prstGeom>
          <a:ln w="936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22440" y="2844720"/>
            <a:ext cx="1233360" cy="536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280200" y="2928960"/>
            <a:ext cx="1233360" cy="536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444840" y="2913120"/>
            <a:ext cx="1233360" cy="536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022480" y="2865600"/>
            <a:ext cx="1233360" cy="536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924120" y="2873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267280" y="288756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du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610440" y="29145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562800" y="2944800"/>
            <a:ext cx="8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31800" y="4408560"/>
            <a:ext cx="1233360" cy="536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92720" y="4438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hois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31800" y="3624120"/>
            <a:ext cx="1233360" cy="536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831600" y="36529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pnic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grpSp>
        <p:nvGrpSpPr>
          <p:cNvPr id="1434" name=""/>
          <p:cNvGrpSpPr/>
          <p:nvPr/>
        </p:nvGrpSpPr>
        <p:grpSpPr>
          <a:xfrm>
            <a:off x="3772080" y="3949560"/>
            <a:ext cx="3827880" cy="1158840"/>
            <a:chOff x="3772080" y="3949560"/>
            <a:chExt cx="3827880" cy="1158840"/>
          </a:xfrm>
        </p:grpSpPr>
        <p:sp>
          <p:nvSpPr>
            <p:cNvPr id="1435" name=""/>
            <p:cNvSpPr/>
            <p:nvPr/>
          </p:nvSpPr>
          <p:spPr>
            <a:xfrm flipV="1">
              <a:off x="4346640" y="4022280"/>
              <a:ext cx="1022400" cy="406440"/>
            </a:xfrm>
            <a:prstGeom prst="line">
              <a:avLst/>
            </a:prstGeom>
            <a:ln w="38160">
              <a:solidFill>
                <a:srgbClr val="b98d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 flipV="1">
              <a:off x="5538600" y="3994200"/>
              <a:ext cx="1641240" cy="458640"/>
            </a:xfrm>
            <a:prstGeom prst="line">
              <a:avLst/>
            </a:prstGeom>
            <a:ln w="38160">
              <a:solidFill>
                <a:srgbClr val="b98d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 flipV="1">
              <a:off x="5474880" y="3949560"/>
              <a:ext cx="771480" cy="525600"/>
            </a:xfrm>
            <a:prstGeom prst="line">
              <a:avLst/>
            </a:prstGeom>
            <a:ln w="38160">
              <a:solidFill>
                <a:srgbClr val="b98d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grpSp>
          <p:nvGrpSpPr>
            <p:cNvPr id="1438" name=""/>
            <p:cNvGrpSpPr/>
            <p:nvPr/>
          </p:nvGrpSpPr>
          <p:grpSpPr>
            <a:xfrm>
              <a:off x="3772080" y="4083120"/>
              <a:ext cx="3827880" cy="1025280"/>
              <a:chOff x="3772080" y="4083120"/>
              <a:chExt cx="3827880" cy="1025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5440320" y="4083120"/>
                <a:ext cx="0" cy="374760"/>
              </a:xfrm>
              <a:prstGeom prst="line">
                <a:avLst/>
              </a:prstGeom>
              <a:ln w="38160">
                <a:solidFill>
                  <a:srgbClr val="b98d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023720" y="4433760"/>
                <a:ext cx="357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9f5e1"/>
                    </a:solidFill>
                    <a:latin typeface="Arial"/>
                  </a:rPr>
                  <a:t>202     203    210     211..</a:t>
                </a:r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346640" y="4867200"/>
                <a:ext cx="0" cy="241200"/>
              </a:xfrm>
              <a:prstGeom prst="line">
                <a:avLst/>
              </a:prstGeom>
              <a:ln w="38160">
                <a:solidFill>
                  <a:srgbClr val="b98d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056120" y="4483080"/>
                <a:ext cx="608040" cy="378000"/>
              </a:xfrm>
              <a:prstGeom prst="rect">
                <a:avLst/>
              </a:prstGeom>
              <a:noFill/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772080" y="4411800"/>
                <a:ext cx="1233360" cy="5364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325592"/>
                </a:solidFill>
                <a:miter/>
              </a:ln>
              <a:effectLst>
                <a:outerShdw dist="107932" dir="8100000" blurRad="0" rotWithShape="0">
                  <a:srgbClr val="f9f5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074480" y="44402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202</a:t>
                </a:r>
                <a:endParaRPr b="0" lang="en-US" sz="2400" spc="-1" strike="noStrike">
                  <a:solidFill>
                    <a:srgbClr val="32559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5" name=""/>
          <p:cNvGrpSpPr/>
          <p:nvPr/>
        </p:nvGrpSpPr>
        <p:grpSpPr>
          <a:xfrm>
            <a:off x="3816360" y="5567400"/>
            <a:ext cx="1233360" cy="745560"/>
            <a:chOff x="3816360" y="5567400"/>
            <a:chExt cx="1233360" cy="745560"/>
          </a:xfrm>
        </p:grpSpPr>
        <p:sp>
          <p:nvSpPr>
            <p:cNvPr id="1446" name=""/>
            <p:cNvSpPr/>
            <p:nvPr/>
          </p:nvSpPr>
          <p:spPr>
            <a:xfrm>
              <a:off x="4084560" y="5846400"/>
              <a:ext cx="592200" cy="36000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384800" y="5567400"/>
              <a:ext cx="0" cy="241200"/>
            </a:xfrm>
            <a:prstGeom prst="line">
              <a:avLst/>
            </a:prstGeom>
            <a:ln w="38160">
              <a:solidFill>
                <a:srgbClr val="b98d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190040" y="58165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9f5e1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816360" y="5776560"/>
              <a:ext cx="1233360" cy="536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325592"/>
              </a:solidFill>
              <a:miter/>
            </a:ln>
            <a:effectLst>
              <a:outerShdw dist="107932" dir="8100000" blurRad="0" rotWithShape="0">
                <a:srgbClr val="f9f5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118760" y="5805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4892760" y="3335400"/>
            <a:ext cx="1240200" cy="787320"/>
            <a:chOff x="4892760" y="3335400"/>
            <a:chExt cx="1240200" cy="787320"/>
          </a:xfrm>
        </p:grpSpPr>
        <p:sp>
          <p:nvSpPr>
            <p:cNvPr id="1452" name=""/>
            <p:cNvSpPr/>
            <p:nvPr/>
          </p:nvSpPr>
          <p:spPr>
            <a:xfrm>
              <a:off x="5462640" y="3335400"/>
              <a:ext cx="0" cy="338040"/>
            </a:xfrm>
            <a:prstGeom prst="line">
              <a:avLst/>
            </a:prstGeom>
            <a:ln w="38160">
              <a:solidFill>
                <a:srgbClr val="b98d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892760" y="3586320"/>
              <a:ext cx="1233360" cy="536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325592"/>
              </a:solidFill>
              <a:miter/>
            </a:ln>
            <a:effectLst>
              <a:outerShdw dist="107932" dir="8100000" blurRad="0" rotWithShape="0">
                <a:srgbClr val="f9f5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919040" y="362916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in-addr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455" name=""/>
          <p:cNvGrpSpPr/>
          <p:nvPr/>
        </p:nvGrpSpPr>
        <p:grpSpPr>
          <a:xfrm>
            <a:off x="4857840" y="2928960"/>
            <a:ext cx="1233360" cy="536400"/>
            <a:chOff x="4857840" y="2928960"/>
            <a:chExt cx="1233360" cy="536400"/>
          </a:xfrm>
        </p:grpSpPr>
        <p:sp>
          <p:nvSpPr>
            <p:cNvPr id="1456" name=""/>
            <p:cNvSpPr/>
            <p:nvPr/>
          </p:nvSpPr>
          <p:spPr>
            <a:xfrm>
              <a:off x="4857840" y="2928960"/>
              <a:ext cx="1233360" cy="536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325592"/>
              </a:solidFill>
              <a:miter/>
            </a:ln>
            <a:effectLst>
              <a:outerShdw dist="107932" dir="8100000" blurRad="0" rotWithShape="0">
                <a:srgbClr val="f9f5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45040" y="2932200"/>
              <a:ext cx="9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arpa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3801960" y="5065560"/>
            <a:ext cx="1233720" cy="536400"/>
            <a:chOff x="3801960" y="5065560"/>
            <a:chExt cx="1233720" cy="536400"/>
          </a:xfrm>
        </p:grpSpPr>
        <p:sp>
          <p:nvSpPr>
            <p:cNvPr id="1459" name=""/>
            <p:cNvSpPr/>
            <p:nvPr/>
          </p:nvSpPr>
          <p:spPr>
            <a:xfrm>
              <a:off x="4084560" y="5157720"/>
              <a:ext cx="592200" cy="3603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190040" y="5114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9f5e1"/>
                  </a:solidFill>
                  <a:latin typeface="Arial"/>
                </a:rPr>
                <a:t>64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801960" y="5065560"/>
              <a:ext cx="1233720" cy="536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325592"/>
              </a:solidFill>
              <a:miter/>
            </a:ln>
            <a:effectLst>
              <a:outerShdw dist="107932" dir="8100000" blurRad="0" rotWithShape="0">
                <a:srgbClr val="f9f5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104360" y="5094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2400" spc="-1" strike="noStrike">
                <a:solidFill>
                  <a:srgbClr val="325592"/>
                </a:solidFill>
                <a:latin typeface="Times New Roman"/>
              </a:endParaRPr>
            </a:p>
          </p:txBody>
        </p:sp>
      </p:grpSp>
      <p:sp>
        <p:nvSpPr>
          <p:cNvPr id="1463" name=""/>
          <p:cNvSpPr/>
          <p:nvPr/>
        </p:nvSpPr>
        <p:spPr>
          <a:xfrm>
            <a:off x="5526720" y="5667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22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902560" y="56656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.64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86880" y="566244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.in-addr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333120" y="5664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.202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8120160" y="565776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.arpa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001880" y="1090440"/>
            <a:ext cx="74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9f5e1"/>
                </a:solidFill>
                <a:latin typeface="Arial"/>
              </a:rPr>
              <a:t>- Mapping numbers to names - ‘reverse DNS’</a:t>
            </a:r>
            <a:endParaRPr b="0" lang="en-US" sz="28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854800" y="44323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RIR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882880" y="51055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ISP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090160" y="585792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Customer</a:t>
            </a:r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p:timing>
    <p:tnLst>
      <p:par>
        <p:cTn id="1821" dur="indefinite" restart="never" nodeType="tmRoot">
          <p:childTnLst>
            <p:seq>
              <p:cTn id="1822" dur="indefinite" nodeType="mainSeq">
                <p:childTnLst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1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eating reverse zon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Same as creating a forward zone file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SOA and initial NS records are the same as normal zon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Main difference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f5e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f5e1"/>
                </a:solidFill>
                <a:latin typeface="Arial"/>
              </a:rPr>
              <a:t>need to create additional PTR records </a:t>
            </a:r>
            <a:endParaRPr b="0" lang="en-US" sz="2400" spc="-1" strike="noStrike">
              <a:solidFill>
                <a:srgbClr val="f9f5e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f5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Can use BIND or other DNS software to create reverse zones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9f5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5e1"/>
                </a:solidFill>
                <a:latin typeface="Arial"/>
              </a:rPr>
              <a:t>Details can be different</a:t>
            </a:r>
            <a:endParaRPr b="0" lang="en-US" sz="2800" spc="-1" strike="noStrike">
              <a:solidFill>
                <a:srgbClr val="f9f5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rt of Authority (SOA) reco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52400" y="2124000"/>
            <a:ext cx="8217000" cy="216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325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592"/>
              </a:solidFill>
              <a:latin typeface="Times New Roman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5e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9f5e1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870120" y="2222640"/>
            <a:ext cx="827388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omain.name.&gt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ostname.domain.name.&gt; &lt;mailbox.domain.name&gt; (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erial-number&gt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fresh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try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xpire&gt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egative-caching&gt; )</a:t>
            </a:r>
            <a:endParaRPr b="0" lang="en-US" sz="1600" spc="-1" strike="noStrike">
              <a:solidFill>
                <a:srgbClr val="32559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07:55:26Z</dcterms:created>
  <dc:creator>APNIC Training</dc:creator>
  <dc:description/>
  <dc:language>en-US</dc:language>
  <cp:lastModifiedBy>APNIC Pty Ltd</cp:lastModifiedBy>
  <cp:lastPrinted>2000-10-26T12:33:24Z</cp:lastPrinted>
  <dcterms:modified xsi:type="dcterms:W3CDTF">2004-09-09T00:33:44Z</dcterms:modified>
  <cp:revision>474</cp:revision>
  <dc:subject/>
  <dc:title>Welcome! APNIC Members Training Course </dc:title>
</cp:coreProperties>
</file>