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446838" cy="9828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447600" cy="98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793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652560" y="-360"/>
            <a:ext cx="2793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766800" y="7362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58960" y="4667040"/>
            <a:ext cx="47289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9336240"/>
            <a:ext cx="27939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652560" y="9336240"/>
            <a:ext cx="27939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4959-C5EC-4A44-9D2B-B80D58C42A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76824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58960" y="4667040"/>
            <a:ext cx="47289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formation about APNIC Training courses can be found a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ttp://www.apnic.net/train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76680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58960" y="4667040"/>
            <a:ext cx="47289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icy docu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apnic.net/docs/policy/add-manage-policy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NIC guidelines for IPv4 allocation and assignment reques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ftp.apnic.net/apnic/drafts/apnic-draft-v4-guide.t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NIC Second Opinion request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ftp.apnic.net/apnic/docs/second-opinion-request.t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ignment window FA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apnic.net/info/faq/awfaq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9f5e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9f5e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5e1"/>
                </a:solidFill>
                <a:latin typeface="Arial"/>
              </a:rPr>
              <a:t>Welcome!</a:t>
            </a:r>
            <a:br>
              <a:rPr sz="36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PNIC Members Training Cour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57120" y="3638160"/>
            <a:ext cx="683892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Internet Resource Management Essentials</a:t>
            </a:r>
            <a:endParaRPr b="0" lang="en-US" sz="2600" spc="-1" strike="noStrike">
              <a:solidFill>
                <a:srgbClr val="f9f5e1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 conjunction with VNNIC 1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OP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0 September 2004, Hanoi, Vietnam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89" name="" descr="www.vnnic.net.vn"/>
          <p:cNvPicPr/>
          <p:nvPr/>
        </p:nvPicPr>
        <p:blipFill>
          <a:blip r:embed="rId2"/>
          <a:stretch/>
        </p:blipFill>
        <p:spPr>
          <a:xfrm>
            <a:off x="1544760" y="506520"/>
            <a:ext cx="112392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AU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opinion evaluation (policy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ore than 50% used in any one subnet?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an different subnet sizes be used?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ore than 80% used for previous assignment?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tockpilin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s all address space held declared on form?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Has organisation obtained address space from more than one member/ISP?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s previous assignment in APNIC database and are they correct and up to date?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17080" y="0"/>
            <a:ext cx="8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pinio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AU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opinion evalu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APNIC &amp; Member evaluation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Should be the sam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If NO, APNIC will ask member to obtain more inform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iterative proces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If YES, APNIC approves 2nd opinion reques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0"/>
            <a:ext cx="8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pinio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2nd opinion request approv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3640" y="2781360"/>
            <a:ext cx="7111800" cy="74916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373040"/>
            <a:ext cx="8234280" cy="5019840"/>
          </a:xfrm>
          <a:prstGeom prst="rect">
            <a:avLst/>
          </a:prstGeom>
          <a:solidFill>
            <a:srgbClr val="f9f5e1"/>
          </a:solidFill>
          <a:ln w="2844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514160"/>
            <a:ext cx="808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ar XXXXXXX,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PNIC has approved your "second opinion" request to make the following assignment: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netname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address/prefix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 Please ensure that you update the APNIC whois database to register this assignment before informing your customer or requesting reverse DNS delegation. Do this using the form at: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www.apnic.net/apnic-bin/inetnum.p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portant: 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registered assignments are considered as "unused"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7360" y="3086280"/>
            <a:ext cx="8486640" cy="2468520"/>
          </a:xfrm>
          <a:prstGeom prst="ellipse">
            <a:avLst/>
          </a:prstGeom>
          <a:noFill/>
          <a:ln w="442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17080" y="0"/>
            <a:ext cx="8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pinio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ustomer assign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ember updates internal record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elect address range to be assign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rchive original documents sent to APNIC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Update APNIC databas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larify status of address space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PNIC requirement is ‘Non portable’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ortable’ assignments are made by APNIC only with the end-user request form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Organisation must have technical requiremen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17080" y="0"/>
            <a:ext cx="8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pinio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22860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76200" y="25236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Questions ?</a:t>
            </a:r>
            <a:endParaRPr b="0" lang="en-US" sz="3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6572160"/>
            <a:ext cx="57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erial available at: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</a:rPr>
              <a:t>www.apnic.net/training/recent/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ignment and sub-allocation proced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ssignment Window &amp;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9f5e1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Opinion proces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pinion reque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ssignment Window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cond Opinion Request Form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n Assignment Window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9f5e1"/>
                </a:solidFill>
                <a:latin typeface="Arial"/>
              </a:rPr>
              <a:t>The amount of address space a member may assign without a ‘second opinion’”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ll members have an AW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tarts at zero, increases as member gains experience in address managemen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econd opinion proces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Customer assignments require a ‘second-opinion’ when proposed assignment size is larger than members AW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17080" y="0"/>
            <a:ext cx="8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pinio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signment Windo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ize of assignment window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Evaluated after about 5 2nd-opinion reques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ncreased as member gains experience and demonstrates understanding of polici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Prefix length normally reduced by 1 bit at a tim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ssignment window may be reduced, in rare case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hy an assignment window?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onitoring ongoing progress and adherence to polici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echanism for member educ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17080" y="0"/>
            <a:ext cx="8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pinio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Assignment Window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77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upport the LIR during start up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tandardise criteria for request evalu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Familiarise the LIR with APNIC polici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nsure accurate data is being kep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reat everyone fairly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FAQ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f5e1"/>
                </a:solidFill>
                <a:uFillTx/>
                <a:latin typeface="Arial"/>
              </a:rPr>
              <a:t>http://www.apnic.net/faq/awfaq.htm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7080" y="0"/>
            <a:ext cx="8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pinio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475000" y="2371680"/>
            <a:ext cx="2238120" cy="1027080"/>
            <a:chOff x="2475000" y="2371680"/>
            <a:chExt cx="2238120" cy="1027080"/>
          </a:xfrm>
        </p:grpSpPr>
        <p:sp>
          <p:nvSpPr>
            <p:cNvPr id="104" name=""/>
            <p:cNvSpPr/>
            <p:nvPr/>
          </p:nvSpPr>
          <p:spPr>
            <a:xfrm>
              <a:off x="2475000" y="2371680"/>
              <a:ext cx="2238120" cy="1027080"/>
            </a:xfrm>
            <a:prstGeom prst="flowChartDecision">
              <a:avLst/>
            </a:prstGeom>
            <a:noFill/>
            <a:ln w="2844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84600" y="271116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9f5e1"/>
                  </a:solidFill>
                  <a:latin typeface="Arial"/>
                </a:rPr>
                <a:t>Request &lt; AW?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476440" y="4714920"/>
            <a:ext cx="2238480" cy="1679400"/>
            <a:chOff x="2476440" y="4714920"/>
            <a:chExt cx="2238480" cy="1679400"/>
          </a:xfrm>
        </p:grpSpPr>
        <p:grpSp>
          <p:nvGrpSpPr>
            <p:cNvPr id="107" name=""/>
            <p:cNvGrpSpPr/>
            <p:nvPr/>
          </p:nvGrpSpPr>
          <p:grpSpPr>
            <a:xfrm>
              <a:off x="2476440" y="5181480"/>
              <a:ext cx="2238480" cy="1212840"/>
              <a:chOff x="2476440" y="5181480"/>
              <a:chExt cx="2238480" cy="1212840"/>
            </a:xfrm>
          </p:grpSpPr>
          <p:sp>
            <p:nvSpPr>
              <p:cNvPr id="108" name=""/>
              <p:cNvSpPr/>
              <p:nvPr/>
            </p:nvSpPr>
            <p:spPr>
              <a:xfrm>
                <a:off x="2476440" y="5181480"/>
                <a:ext cx="2238480" cy="1212840"/>
              </a:xfrm>
              <a:prstGeom prst="flowChartDecision">
                <a:avLst/>
              </a:prstGeom>
              <a:noFill/>
              <a:ln w="28440">
                <a:solidFill>
                  <a:srgbClr val="f9f5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83680" y="5361120"/>
                <a:ext cx="1252080" cy="85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600" spc="-1" strike="noStrike">
                    <a:solidFill>
                      <a:srgbClr val="f9f5e1"/>
                    </a:solidFill>
                    <a:latin typeface="Arial"/>
                  </a:rPr>
                  <a:t>APNIC </a:t>
                </a:r>
                <a:endParaRPr b="0" lang="en-US" sz="1600" spc="-1" strike="noStrike">
                  <a:solidFill>
                    <a:srgbClr val="325592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f9f5e1"/>
                    </a:solidFill>
                    <a:latin typeface="Arial"/>
                  </a:rPr>
                  <a:t>approves</a:t>
                </a:r>
                <a:r>
                  <a:rPr b="1" lang="en-AU" sz="1600" spc="-1" strike="noStrike">
                    <a:solidFill>
                      <a:srgbClr val="f9f5e1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325592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600" spc="-1" strike="noStrike">
                    <a:solidFill>
                      <a:srgbClr val="f9f5e1"/>
                    </a:solidFill>
                    <a:latin typeface="Arial"/>
                  </a:rPr>
                  <a:t>request?</a:t>
                </a:r>
                <a:endParaRPr b="0" lang="en-US" sz="16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3603600" y="4714920"/>
              <a:ext cx="1440" cy="482400"/>
            </a:xfrm>
            <a:prstGeom prst="line">
              <a:avLst/>
            </a:prstGeom>
            <a:ln w="28440">
              <a:solidFill>
                <a:srgbClr val="f9f5e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449440" y="5799240"/>
            <a:ext cx="1800" cy="1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643640" y="2523240"/>
            <a:ext cx="3418560" cy="986040"/>
            <a:chOff x="4643640" y="2523240"/>
            <a:chExt cx="3418560" cy="986040"/>
          </a:xfrm>
        </p:grpSpPr>
        <p:sp>
          <p:nvSpPr>
            <p:cNvPr id="113" name=""/>
            <p:cNvSpPr/>
            <p:nvPr/>
          </p:nvSpPr>
          <p:spPr>
            <a:xfrm>
              <a:off x="5574240" y="2592360"/>
              <a:ext cx="2487960" cy="916920"/>
            </a:xfrm>
            <a:prstGeom prst="rect">
              <a:avLst/>
            </a:prstGeom>
            <a:noFill/>
            <a:ln w="1908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9f5e1"/>
                  </a:solidFill>
                  <a:latin typeface="Arial"/>
                </a:rPr>
                <a:t>Member updates local 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9f5e1"/>
                  </a:solidFill>
                  <a:latin typeface="Arial"/>
                </a:rPr>
                <a:t>records &amp;  DB &amp; </a:t>
              </a:r>
              <a:br>
                <a:rPr sz="1800"/>
              </a:br>
              <a:r>
                <a:rPr b="0" lang="en-US" sz="1800" spc="-1" strike="noStrike">
                  <a:solidFill>
                    <a:srgbClr val="f9f5e1"/>
                  </a:solidFill>
                  <a:latin typeface="Arial"/>
                </a:rPr>
                <a:t>makes assignment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4643640" y="2523240"/>
              <a:ext cx="688680" cy="368280"/>
              <a:chOff x="4643640" y="2523240"/>
              <a:chExt cx="688680" cy="368280"/>
            </a:xfrm>
          </p:grpSpPr>
          <p:sp>
            <p:nvSpPr>
              <p:cNvPr id="115" name=""/>
              <p:cNvSpPr/>
              <p:nvPr/>
            </p:nvSpPr>
            <p:spPr>
              <a:xfrm>
                <a:off x="4764240" y="2879640"/>
                <a:ext cx="568080" cy="1800"/>
              </a:xfrm>
              <a:prstGeom prst="line">
                <a:avLst/>
              </a:prstGeom>
              <a:ln w="28440">
                <a:solidFill>
                  <a:srgbClr val="f9f5e1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43640" y="2523240"/>
                <a:ext cx="5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9f5e1"/>
                    </a:solidFill>
                    <a:latin typeface="Arial"/>
                  </a:rPr>
                  <a:t>Yes</a:t>
                </a:r>
                <a:endParaRPr b="0" lang="en-US" sz="18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086560" y="3387600"/>
            <a:ext cx="3218040" cy="1293120"/>
            <a:chOff x="2086560" y="3387600"/>
            <a:chExt cx="3218040" cy="1293120"/>
          </a:xfrm>
        </p:grpSpPr>
        <p:sp>
          <p:nvSpPr>
            <p:cNvPr id="118" name=""/>
            <p:cNvSpPr/>
            <p:nvPr/>
          </p:nvSpPr>
          <p:spPr>
            <a:xfrm>
              <a:off x="2086560" y="3825720"/>
              <a:ext cx="3218040" cy="855000"/>
            </a:xfrm>
            <a:prstGeom prst="rect">
              <a:avLst/>
            </a:prstGeom>
            <a:noFill/>
            <a:ln w="1908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9f5e1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9f5e1"/>
                  </a:solidFill>
                  <a:latin typeface="Arial"/>
                </a:rPr>
                <a:t>Member adds comments 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9f5e1"/>
                  </a:solidFill>
                  <a:latin typeface="Arial"/>
                </a:rPr>
                <a:t>&amp; recommendations &amp; sends to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9f5e1"/>
                  </a:solidFill>
                  <a:latin typeface="Arial"/>
                </a:rPr>
                <a:t>hostmaster@apnic.net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3613320" y="3387600"/>
              <a:ext cx="613800" cy="457200"/>
              <a:chOff x="3613320" y="3387600"/>
              <a:chExt cx="613800" cy="457200"/>
            </a:xfrm>
          </p:grpSpPr>
          <p:sp>
            <p:nvSpPr>
              <p:cNvPr id="120" name=""/>
              <p:cNvSpPr/>
              <p:nvPr/>
            </p:nvSpPr>
            <p:spPr>
              <a:xfrm>
                <a:off x="3613320" y="3387600"/>
                <a:ext cx="1440" cy="457200"/>
              </a:xfrm>
              <a:prstGeom prst="line">
                <a:avLst/>
              </a:prstGeom>
              <a:ln w="28440">
                <a:solidFill>
                  <a:srgbClr val="f9f5e1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55160" y="347580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9f5e1"/>
                    </a:solidFill>
                    <a:latin typeface="Arial"/>
                  </a:rPr>
                  <a:t>No</a:t>
                </a:r>
                <a:endParaRPr b="0" lang="en-US" sz="18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1036800" y="1360440"/>
            <a:ext cx="744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Step 1 - Member and customer complete 2nd Opinion Request form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19160" y="1974960"/>
            <a:ext cx="6192720" cy="346680"/>
            <a:chOff x="1019160" y="1974960"/>
            <a:chExt cx="6192720" cy="346680"/>
          </a:xfrm>
        </p:grpSpPr>
        <p:sp>
          <p:nvSpPr>
            <p:cNvPr id="124" name=""/>
            <p:cNvSpPr/>
            <p:nvPr/>
          </p:nvSpPr>
          <p:spPr>
            <a:xfrm>
              <a:off x="1130400" y="1974960"/>
              <a:ext cx="6081480" cy="0"/>
            </a:xfrm>
            <a:prstGeom prst="line">
              <a:avLst/>
            </a:prstGeom>
            <a:ln w="936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19160" y="2014560"/>
              <a:ext cx="616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9f5e1"/>
                  </a:solidFill>
                  <a:latin typeface="Arial"/>
                </a:rPr>
                <a:t>Step 3 - Assignment Window procedure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18080" y="1674720"/>
            <a:ext cx="43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9f5e1"/>
                </a:solidFill>
                <a:latin typeface="Arial"/>
              </a:rPr>
              <a:t>Step 2 - Member evaluates customers requirements 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148520" y="1459080"/>
            <a:ext cx="1049400" cy="482400"/>
            <a:chOff x="7148520" y="1459080"/>
            <a:chExt cx="1049400" cy="482400"/>
          </a:xfrm>
        </p:grpSpPr>
        <p:sp>
          <p:nvSpPr>
            <p:cNvPr id="128" name=""/>
            <p:cNvSpPr/>
            <p:nvPr/>
          </p:nvSpPr>
          <p:spPr>
            <a:xfrm>
              <a:off x="7148520" y="1459080"/>
              <a:ext cx="0" cy="482400"/>
            </a:xfrm>
            <a:prstGeom prst="line">
              <a:avLst/>
            </a:prstGeom>
            <a:ln w="38160">
              <a:solidFill>
                <a:srgbClr val="f9f5e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06480" y="155412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9f5e1"/>
                  </a:solidFill>
                  <a:latin typeface="Arial"/>
                </a:rPr>
                <a:t>iteration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82760" y="433440"/>
            <a:ext cx="73152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251000" y="4240080"/>
            <a:ext cx="1212840" cy="1558800"/>
            <a:chOff x="1251000" y="4240080"/>
            <a:chExt cx="1212840" cy="1558800"/>
          </a:xfrm>
        </p:grpSpPr>
        <p:sp>
          <p:nvSpPr>
            <p:cNvPr id="132" name=""/>
            <p:cNvSpPr/>
            <p:nvPr/>
          </p:nvSpPr>
          <p:spPr>
            <a:xfrm flipH="1" flipV="1">
              <a:off x="1263600" y="5787720"/>
              <a:ext cx="1200240" cy="11160"/>
            </a:xfrm>
            <a:prstGeom prst="line">
              <a:avLst/>
            </a:prstGeom>
            <a:ln w="2844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251000" y="4241520"/>
              <a:ext cx="1440" cy="1555560"/>
            </a:xfrm>
            <a:prstGeom prst="line">
              <a:avLst/>
            </a:prstGeom>
            <a:ln w="2844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12880" y="534132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9f5e1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54240" y="4240080"/>
              <a:ext cx="822240" cy="1800"/>
            </a:xfrm>
            <a:prstGeom prst="line">
              <a:avLst/>
            </a:prstGeom>
            <a:ln w="28440">
              <a:solidFill>
                <a:srgbClr val="f9f5e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724280" y="3549240"/>
            <a:ext cx="1873080" cy="2242080"/>
            <a:chOff x="4724280" y="3549240"/>
            <a:chExt cx="1873080" cy="2242080"/>
          </a:xfrm>
        </p:grpSpPr>
        <p:sp>
          <p:nvSpPr>
            <p:cNvPr id="137" name=""/>
            <p:cNvSpPr/>
            <p:nvPr/>
          </p:nvSpPr>
          <p:spPr>
            <a:xfrm>
              <a:off x="4965480" y="53474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9f5e1"/>
                  </a:solidFill>
                  <a:latin typeface="Arial"/>
                </a:rPr>
                <a:t>Yes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24280" y="5791320"/>
              <a:ext cx="1873080" cy="0"/>
            </a:xfrm>
            <a:prstGeom prst="line">
              <a:avLst/>
            </a:prstGeom>
            <a:ln w="2844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597360" y="3549240"/>
              <a:ext cx="0" cy="2241720"/>
            </a:xfrm>
            <a:prstGeom prst="line">
              <a:avLst/>
            </a:prstGeom>
            <a:ln w="28440">
              <a:solidFill>
                <a:srgbClr val="f9f5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signment window proc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17080" y="0"/>
            <a:ext cx="8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pinio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pinion request for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16120" y="1538280"/>
            <a:ext cx="800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Used to seek approval for: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Pv4 assignments &amp; sub-allocatio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ultiple/additional IPv6 /48s to a single custome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Before you start: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parate form for each reques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elp buttons availabl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Form can be saved by use of passwor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17080" y="0"/>
            <a:ext cx="8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pinio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 of 2nd opinion for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3139920" y="1233360"/>
            <a:ext cx="2857680" cy="31932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licant information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3141720" y="1746360"/>
            <a:ext cx="2857320" cy="3204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ype of request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43160" y="2287440"/>
            <a:ext cx="2857680" cy="32076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twork name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44960" y="2809800"/>
            <a:ext cx="2857320" cy="32076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uture network plan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6400" y="4589640"/>
            <a:ext cx="3206880" cy="3204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ustomer’s existing network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55800" y="4576680"/>
            <a:ext cx="4017960" cy="32076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ustomer assignments to end-sites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57200" y="5073480"/>
            <a:ext cx="3206880" cy="32076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b-allocation infrastructure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41720" y="5767560"/>
            <a:ext cx="2857320" cy="3204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dditional information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39920" y="6313320"/>
            <a:ext cx="2857680" cy="32076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firm details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6" idx="2"/>
            <a:endCxn id="147" idx="0"/>
          </p:cNvCxnSpPr>
          <p:nvPr/>
        </p:nvCxnSpPr>
        <p:spPr>
          <a:xfrm>
            <a:off x="4568400" y="1552680"/>
            <a:ext cx="2520" cy="194400"/>
          </a:xfrm>
          <a:prstGeom prst="straightConnector1">
            <a:avLst/>
          </a:prstGeom>
          <a:ln w="28440">
            <a:solidFill>
              <a:srgbClr val="ffcc00"/>
            </a:solidFill>
            <a:miter/>
            <a:tailEnd len="med" type="triangle" w="lg"/>
          </a:ln>
        </p:spPr>
      </p:cxnSp>
      <p:cxnSp>
        <p:nvCxnSpPr>
          <p:cNvPr id="156" name=""/>
          <p:cNvCxnSpPr>
            <a:stCxn id="147" idx="2"/>
            <a:endCxn id="148" idx="0"/>
          </p:cNvCxnSpPr>
          <p:nvPr/>
        </p:nvCxnSpPr>
        <p:spPr>
          <a:xfrm>
            <a:off x="4570560" y="2066400"/>
            <a:ext cx="2160" cy="221400"/>
          </a:xfrm>
          <a:prstGeom prst="straightConnector1">
            <a:avLst/>
          </a:prstGeom>
          <a:ln w="28440">
            <a:solidFill>
              <a:srgbClr val="ffcc00"/>
            </a:solidFill>
            <a:miter/>
            <a:tailEnd len="med" type="triangle" w="lg"/>
          </a:ln>
        </p:spPr>
      </p:cxnSp>
      <p:cxnSp>
        <p:nvCxnSpPr>
          <p:cNvPr id="157" name=""/>
          <p:cNvCxnSpPr>
            <a:stCxn id="148" idx="2"/>
            <a:endCxn id="149" idx="0"/>
          </p:cNvCxnSpPr>
          <p:nvPr/>
        </p:nvCxnSpPr>
        <p:spPr>
          <a:xfrm>
            <a:off x="4572000" y="2608200"/>
            <a:ext cx="2160" cy="202320"/>
          </a:xfrm>
          <a:prstGeom prst="straightConnector1">
            <a:avLst/>
          </a:prstGeom>
          <a:ln w="28440">
            <a:solidFill>
              <a:srgbClr val="ffcc00"/>
            </a:solidFill>
            <a:miter/>
            <a:tailEnd len="med" type="triangle" w="lg"/>
          </a:ln>
        </p:spPr>
      </p:cxnSp>
      <p:cxnSp>
        <p:nvCxnSpPr>
          <p:cNvPr id="158" name=""/>
          <p:cNvCxnSpPr>
            <a:stCxn id="153" idx="2"/>
            <a:endCxn id="154" idx="0"/>
          </p:cNvCxnSpPr>
          <p:nvPr/>
        </p:nvCxnSpPr>
        <p:spPr>
          <a:xfrm flipH="1">
            <a:off x="4568040" y="6087960"/>
            <a:ext cx="2520" cy="226080"/>
          </a:xfrm>
          <a:prstGeom prst="straightConnector1">
            <a:avLst/>
          </a:prstGeom>
          <a:ln w="28440">
            <a:solidFill>
              <a:srgbClr val="ffcc00"/>
            </a:solidFill>
            <a:miter/>
            <a:tailEnd len="med" type="triangle" w="lg"/>
          </a:ln>
        </p:spPr>
      </p:cxnSp>
      <p:cxnSp>
        <p:nvCxnSpPr>
          <p:cNvPr id="159" name=""/>
          <p:cNvCxnSpPr>
            <a:stCxn id="149" idx="2"/>
            <a:endCxn id="151" idx="0"/>
          </p:cNvCxnSpPr>
          <p:nvPr/>
        </p:nvCxnSpPr>
        <p:spPr>
          <a:xfrm rot="5400000">
            <a:off x="3045600" y="3049200"/>
            <a:ext cx="1446840" cy="1608840"/>
          </a:xfrm>
          <a:prstGeom prst="bentConnector3">
            <a:avLst>
              <a:gd name="adj1" fmla="val 88128"/>
            </a:avLst>
          </a:prstGeom>
          <a:ln w="28440">
            <a:solidFill>
              <a:srgbClr val="ffcc00"/>
            </a:solidFill>
            <a:miter/>
            <a:tailEnd len="med" type="triangle" w="lg"/>
          </a:ln>
        </p:spPr>
      </p:cxnSp>
      <p:cxnSp>
        <p:nvCxnSpPr>
          <p:cNvPr id="160" name=""/>
          <p:cNvCxnSpPr>
            <a:stCxn id="149" idx="2"/>
            <a:endCxn id="150" idx="0"/>
          </p:cNvCxnSpPr>
          <p:nvPr/>
        </p:nvCxnSpPr>
        <p:spPr>
          <a:xfrm flipH="1" rot="16200000">
            <a:off x="4966920" y="2736360"/>
            <a:ext cx="1459800" cy="2247120"/>
          </a:xfrm>
          <a:prstGeom prst="bentConnector3">
            <a:avLst>
              <a:gd name="adj1" fmla="val 87691"/>
            </a:avLst>
          </a:prstGeom>
          <a:ln w="28440">
            <a:solidFill>
              <a:srgbClr val="ffcc00"/>
            </a:solidFill>
            <a:miter/>
            <a:tailEnd len="med" type="triangle" w="lg"/>
          </a:ln>
        </p:spPr>
      </p:cxnSp>
      <p:cxnSp>
        <p:nvCxnSpPr>
          <p:cNvPr id="161" name=""/>
          <p:cNvCxnSpPr>
            <a:stCxn id="151" idx="2"/>
            <a:endCxn id="152" idx="0"/>
          </p:cNvCxnSpPr>
          <p:nvPr/>
        </p:nvCxnSpPr>
        <p:spPr>
          <a:xfrm flipH="1">
            <a:off x="2959920" y="4897080"/>
            <a:ext cx="5400" cy="176760"/>
          </a:xfrm>
          <a:prstGeom prst="straightConnector1">
            <a:avLst/>
          </a:prstGeom>
          <a:ln w="28440">
            <a:solidFill>
              <a:srgbClr val="ffcc00"/>
            </a:solidFill>
            <a:miter/>
            <a:tailEnd len="med" type="triangle" w="lg"/>
          </a:ln>
        </p:spPr>
      </p:cxnSp>
      <p:cxnSp>
        <p:nvCxnSpPr>
          <p:cNvPr id="162" name=""/>
          <p:cNvCxnSpPr>
            <a:stCxn id="152" idx="2"/>
            <a:endCxn id="153" idx="0"/>
          </p:cNvCxnSpPr>
          <p:nvPr/>
        </p:nvCxnSpPr>
        <p:spPr>
          <a:xfrm flipH="1" rot="16200000">
            <a:off x="3578760" y="4775400"/>
            <a:ext cx="374040" cy="1610640"/>
          </a:xfrm>
          <a:prstGeom prst="bentConnector3">
            <a:avLst>
              <a:gd name="adj1" fmla="val 49710"/>
            </a:avLst>
          </a:prstGeom>
          <a:ln w="28440">
            <a:solidFill>
              <a:srgbClr val="ffcc00"/>
            </a:solidFill>
            <a:miter/>
            <a:tailEnd len="med" type="triangle" w="lg"/>
          </a:ln>
        </p:spPr>
      </p:cxnSp>
      <p:cxnSp>
        <p:nvCxnSpPr>
          <p:cNvPr id="163" name=""/>
          <p:cNvCxnSpPr>
            <a:stCxn id="150" idx="2"/>
            <a:endCxn id="153" idx="0"/>
          </p:cNvCxnSpPr>
          <p:nvPr/>
        </p:nvCxnSpPr>
        <p:spPr>
          <a:xfrm rot="5400000">
            <a:off x="5265720" y="4214160"/>
            <a:ext cx="858240" cy="2250000"/>
          </a:xfrm>
          <a:prstGeom prst="bentConnector3">
            <a:avLst>
              <a:gd name="adj1" fmla="val 78682"/>
            </a:avLst>
          </a:prstGeom>
          <a:ln w="28440">
            <a:solidFill>
              <a:srgbClr val="ffcc00"/>
            </a:solidFill>
            <a:miter/>
            <a:tailEnd len="med" type="triangle" w="lg"/>
          </a:ln>
        </p:spPr>
      </p:cxnSp>
      <p:sp>
        <p:nvSpPr>
          <p:cNvPr id="164" name=""/>
          <p:cNvSpPr/>
          <p:nvPr/>
        </p:nvSpPr>
        <p:spPr>
          <a:xfrm>
            <a:off x="6286680" y="1131840"/>
            <a:ext cx="27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49880" y="120168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ct details, password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7800" y="1623960"/>
            <a:ext cx="31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v6 / IPv4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ment / Sub-allocation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51680" y="2217600"/>
            <a:ext cx="31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name, description, country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45200" y="2782800"/>
            <a:ext cx="31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ned IP usage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35560" y="393228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s held by customer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73000" y="37846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s held by custom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 customer’s customer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27240" y="3351240"/>
            <a:ext cx="30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IPv4 Sub-allocations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84640" y="3354480"/>
            <a:ext cx="31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IPv4/IPv6 Assignments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57800" y="5614920"/>
            <a:ext cx="25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additional info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aid the evaluation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51680" y="63118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 your detail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17080" y="0"/>
            <a:ext cx="8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pinio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07:55:26Z</dcterms:created>
  <dc:creator>APNIC Training</dc:creator>
  <dc:description/>
  <dc:language>en-US</dc:language>
  <cp:lastModifiedBy>APNIC Pty Ltd</cp:lastModifiedBy>
  <cp:lastPrinted>2000-10-26T12:33:24Z</cp:lastPrinted>
  <dcterms:modified xsi:type="dcterms:W3CDTF">2004-09-07T01:19:43Z</dcterms:modified>
  <cp:revision>277</cp:revision>
  <dc:subject/>
  <dc:title>Welcome! APNIC Members Training Course </dc:title>
</cp:coreProperties>
</file>